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9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7DCC-C74E-443B-8856-FE066B3A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ABCE-689F-4FCD-B3B4-4FBE1F73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C96E-9E73-4DA6-8956-CEEA217F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8907-B8F0-4893-A31F-D97608D1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5F1C-1749-4159-90A4-9FE37D8E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D022-FDA8-4E28-9FD1-391A37DD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CA58-142B-47BC-BBC0-611EC994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F59B-11B2-4801-A3CB-08E6109D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B775-84AC-4586-B63D-F02D6B7E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533160" y="108000"/>
            <a:ext cx="83818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E4AA-D8AE-4BAB-A3DA-C43D66F0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ADDA-3A39-4DA2-8D5E-61C8CC37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7F52-ED4F-4F78-9852-E792FBDC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592C-1D3E-4849-9387-E97C0878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2888-E98F-43EC-990F-E9F38484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2C34-2A69-4245-91DE-2FC043E7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6AD2-87A4-4E1B-9E73-7D7FD571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F6FC-B5AB-4D4F-AF9E-EC6CAEC8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75EB-64DB-4D97-AE36-0CC712FD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705D-7F1B-45DA-96FF-96466C1A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8EBD-924A-43C1-9C53-19151BB9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533160" y="108000"/>
            <a:ext cx="83818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BCCA-2C84-4A3F-9BF3-647686B0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8DD3-D535-4A91-828B-1B80A86F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013C-AD8E-4E4A-BC1E-793F83A6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5DC6-5436-4324-A03C-C80C2FE9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680" y="1052640"/>
            <a:ext cx="250920" cy="5805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893080" y="1052640"/>
            <a:ext cx="250920" cy="5805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000" y="42840"/>
            <a:ext cx="9026640" cy="1033560"/>
          </a:xfrm>
          <a:prstGeom prst="rect">
            <a:avLst/>
          </a:prstGeom>
          <a:solidFill>
            <a:srgbClr val="87b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53360"/>
            <a:ext cx="9109080" cy="4046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380520" y="6477120"/>
            <a:ext cx="8384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5B73-A557-4478-9486-CFFFF7A802D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6" name="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92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74872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7662960" y="149400"/>
            <a:ext cx="865080" cy="8650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727680" y="149400"/>
            <a:ext cx="865440" cy="8650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791320" y="149400"/>
            <a:ext cx="865080" cy="8650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ftr" idx="2"/>
          </p:nvPr>
        </p:nvSpPr>
        <p:spPr>
          <a:xfrm>
            <a:off x="5866920" y="6477120"/>
            <a:ext cx="2971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b56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7b56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b56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b56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b56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b56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b56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b56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7719840" y="174600"/>
            <a:ext cx="914400" cy="900000"/>
          </a:xfrm>
          <a:prstGeom prst="rect">
            <a:avLst/>
          </a:prstGeom>
          <a:ln w="0">
            <a:noFill/>
          </a:ln>
        </p:spPr>
      </p:pic>
      <p:sp>
        <p:nvSpPr>
          <p:cNvPr id="18" name="PlaceHolder 5"/>
          <p:cNvSpPr>
            <a:spLocks noGrp="1"/>
          </p:cNvSpPr>
          <p:nvPr>
            <p:ph type="dt" idx="3"/>
          </p:nvPr>
        </p:nvSpPr>
        <p:spPr>
          <a:xfrm>
            <a:off x="3123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4240" y="4581360"/>
            <a:ext cx="8994600" cy="22766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87b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3A0B-0450-46DE-88B6-1A20C4CCC9C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61" name="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2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4872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795672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1708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67744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5160" y="2238480"/>
          <a:ext cx="9013680" cy="23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0" y="2238480"/>
                    <a:ext cx="9013680" cy="23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610320" y="2219400"/>
            <a:ext cx="2362320" cy="2324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456840" y="837720"/>
            <a:ext cx="5791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Unicode MS"/>
              </a:rPr>
              <a:t>TIỂU LUẬN TỐT NGHIỆ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72105"/>
                </a:solidFill>
                <a:latin typeface="Arial"/>
              </a:rPr>
              <a:t>CHĂM SÓC BỆNH NHÂN SAU MỔ </a:t>
            </a:r>
            <a:endParaRPr b="1" lang="en-US" sz="36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72105"/>
                </a:solidFill>
                <a:latin typeface="Arial"/>
              </a:rPr>
              <a:t>THOÁT VỊ ĐĨA ĐỆM CỘT SỐNG CỔ</a:t>
            </a:r>
            <a:endParaRPr b="1" lang="en-US" sz="36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2aa2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692aa2"/>
                </a:solidFill>
                <a:latin typeface="Arial"/>
              </a:rPr>
              <a:t>Học viên: Nguyễn Thị Nguyên</a:t>
            </a:r>
            <a:endParaRPr b="1" lang="en-US" sz="20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Ơ LƯỢC GIẢI  PHẪU, SINH LÝ ĐĨA ĐỆ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Đĩa đệm</a:t>
            </a: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: Hình thấu kính 2 mặt lồi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Tác dụng: liên kết các đốt sống, chống đỡ trọng lượng cơ thể, giảm xóc chấn động. 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Cấu trúc: nhân nhầy, bao xơ và mâm sụn.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7055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CSC</a:t>
            </a: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: 5 đĩa đệm.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59280" y="1676520"/>
            <a:ext cx="3614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Ơ LƯỢC GIẢI  PHẪU, SINH LÝ ĐĨA ĐỆ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Thần kinh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92aa2"/>
                </a:solidFill>
                <a:latin typeface="Arial"/>
              </a:rPr>
              <a:t>Nhánh giao cảm cổ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92aa2"/>
                </a:solidFill>
                <a:latin typeface="Arial"/>
              </a:rPr>
              <a:t>Hạch giao cảm cổ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Mạch máu: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Nuôi dưỡng chủ yếu bằng cơ chế khuyếch tán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Cấu trúc sinh hóa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92aa2"/>
                </a:solidFill>
                <a:latin typeface="Arial"/>
              </a:rPr>
              <a:t>Nước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92aa2"/>
                </a:solidFill>
                <a:latin typeface="Arial"/>
              </a:rPr>
              <a:t>Các hợp chất hữu cơ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92aa2"/>
                </a:solidFill>
                <a:latin typeface="Arial"/>
              </a:rPr>
              <a:t>Nguyên tố vi lượng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86800" y="4419720"/>
            <a:ext cx="763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ỆNH LÝ THOÁT VỊ ĐĨA ĐỆ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Khái niệm:</a:t>
            </a:r>
            <a:r>
              <a:rPr b="1" lang="en-US" sz="2000" spc="-1" strike="noStrike">
                <a:solidFill>
                  <a:srgbClr val="692aa2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TVĐĐ là sự dịch chuyển của đĩa đệm ra khỏi vị trí bình thường gây chèn ép vào các tổ chức lân cận: tủy sống, rễ TK, mạch máu…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Nguyên nhân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Do thoái hóa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Do chấn thương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447012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ỆNH LÝ THOÁT VỊ ĐĨA ĐỆ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3657600"/>
            <a:ext cx="6858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438280" y="2362320"/>
            <a:ext cx="990720" cy="380880"/>
            <a:chOff x="2438280" y="2362320"/>
            <a:chExt cx="990720" cy="380880"/>
          </a:xfrm>
        </p:grpSpPr>
        <p:sp>
          <p:nvSpPr>
            <p:cNvPr id="175" name=""/>
            <p:cNvSpPr/>
            <p:nvPr/>
          </p:nvSpPr>
          <p:spPr>
            <a:xfrm>
              <a:off x="2819520" y="23623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438280" y="2362320"/>
              <a:ext cx="38124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292480" y="4724280"/>
            <a:ext cx="1066680" cy="304920"/>
            <a:chOff x="2292480" y="4724280"/>
            <a:chExt cx="1066680" cy="304920"/>
          </a:xfrm>
        </p:grpSpPr>
        <p:sp>
          <p:nvSpPr>
            <p:cNvPr id="178" name=""/>
            <p:cNvSpPr/>
            <p:nvPr/>
          </p:nvSpPr>
          <p:spPr>
            <a:xfrm>
              <a:off x="2749680" y="502920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92480" y="4724280"/>
              <a:ext cx="45720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505320" y="2133720"/>
            <a:ext cx="53337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2096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ậu quả của quá trình thoái hó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3352680"/>
            <a:ext cx="541008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3429000"/>
            <a:ext cx="55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hởi phát đột ngột sau CT nhẹ trên nền THCS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3505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2922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4800600"/>
            <a:ext cx="5410080" cy="412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55080" y="480060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u CT mạnh trên đĩa đệm CSC bình thườ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876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4920" y="2209680"/>
            <a:ext cx="2673360" cy="2671920"/>
            <a:chOff x="304920" y="2209680"/>
            <a:chExt cx="2673360" cy="2671920"/>
          </a:xfrm>
        </p:grpSpPr>
        <p:sp>
          <p:nvSpPr>
            <p:cNvPr id="190" name=""/>
            <p:cNvSpPr/>
            <p:nvPr/>
          </p:nvSpPr>
          <p:spPr>
            <a:xfrm>
              <a:off x="304920" y="2209680"/>
              <a:ext cx="2673360" cy="2671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055a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0960" y="2382840"/>
              <a:ext cx="2319480" cy="2322360"/>
            </a:xfrm>
            <a:prstGeom prst="ellipse">
              <a:avLst/>
            </a:prstGeom>
            <a:gradFill rotWithShape="0">
              <a:gsLst>
                <a:gs pos="0">
                  <a:srgbClr val="3c2d5d"/>
                </a:gs>
                <a:gs pos="50000">
                  <a:srgbClr val="7055ad"/>
                </a:gs>
                <a:gs pos="100000">
                  <a:srgbClr val="3c2d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2405160"/>
              <a:ext cx="2319480" cy="2320920"/>
            </a:xfrm>
            <a:prstGeom prst="ellipse">
              <a:avLst/>
            </a:prstGeom>
            <a:gradFill rotWithShape="0">
              <a:gsLst>
                <a:gs pos="0">
                  <a:srgbClr val="7055ad">
                    <a:alpha val="0"/>
                  </a:srgbClr>
                </a:gs>
                <a:gs pos="100000">
                  <a:srgbClr val="46356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5440" y="2500200"/>
              <a:ext cx="2090520" cy="208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8560" y="2533680"/>
              <a:ext cx="2025720" cy="20271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4120" y="2544840"/>
              <a:ext cx="1977840" cy="1977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6440" y="2563920"/>
              <a:ext cx="1879560" cy="18478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120" y="2592360"/>
              <a:ext cx="1671480" cy="1500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9480" y="3049560"/>
              <a:ext cx="2057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Cơ chế TVĐĐ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HOÁT VỊ ĐĨA ĐỆM CỘT SỐNG C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Triệu chứng lâm sàng:</a:t>
            </a:r>
            <a:r>
              <a:rPr b="1" lang="en-US" sz="3600" spc="-1" strike="noStrike">
                <a:solidFill>
                  <a:srgbClr val="692aa2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ội chứng cột sống cổ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ội chứng rễ (thần kinh) cổ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ội chứng tủy cổ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ội chứng rễ tủy phối hợp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ội chứng rối loạn thần kinh thực vật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HOÁT VỊ ĐĨA ĐỆM CỘT SỐNG C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Cận lâm sàng: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-quang cột sống cổ thường quy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ụp CT-scanner cột sống cổ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Chụp cộng hưởng từ cột sống cổ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047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ĐIỀU TRỊ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OÁT VỊ ĐĨA ĐỆM CỘT SỐNG CỔ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24840" y="294624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3886200"/>
            <a:ext cx="210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ý liệu, PHC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Đông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ốc giảm đau chống viê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ất động nẹp cổ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320200" y="293040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393552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óa tiêu nhâ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ảm áp bằng las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ảm áp bằng sóng cao tầ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4682520" y="293040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16520" y="3935520"/>
            <a:ext cx="195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ấy đĩa đệm kết hợp hàn xương hoặc thay đĩa đệm 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ối trướ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ối sa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02440" y="201924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477800" y="201924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886200" y="1981080"/>
            <a:ext cx="1192320" cy="1192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676520" y="2286000"/>
            <a:ext cx="912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ội kho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86680" y="2298600"/>
            <a:ext cx="9144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ẫu thuật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213372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ệp tối thiể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216320" y="340668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847880" y="340668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6564240" y="3406680"/>
            <a:ext cx="41292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822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HƯƠNG PHÁP PHẪU THUẬT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ĐIỀU TRỊ TVĐĐCS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66680" y="2666880"/>
            <a:ext cx="2295360" cy="1365480"/>
            <a:chOff x="1066680" y="2666880"/>
            <a:chExt cx="2295360" cy="1365480"/>
          </a:xfrm>
        </p:grpSpPr>
        <p:sp>
          <p:nvSpPr>
            <p:cNvPr id="223" name=""/>
            <p:cNvSpPr/>
            <p:nvPr/>
          </p:nvSpPr>
          <p:spPr>
            <a:xfrm>
              <a:off x="1066680" y="370152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70640" y="2666880"/>
              <a:ext cx="229140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46"/>
                </a:gs>
                <a:gs pos="50000">
                  <a:srgbClr val="00cc99">
                    <a:alpha val="50196"/>
                  </a:srgbClr>
                </a:gs>
                <a:gs pos="100000">
                  <a:srgbClr val="00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990720" y="1219320"/>
            <a:ext cx="2295000" cy="1365120"/>
            <a:chOff x="990720" y="1219320"/>
            <a:chExt cx="2295000" cy="1365120"/>
          </a:xfrm>
        </p:grpSpPr>
        <p:sp>
          <p:nvSpPr>
            <p:cNvPr id="226" name=""/>
            <p:cNvSpPr/>
            <p:nvPr/>
          </p:nvSpPr>
          <p:spPr>
            <a:xfrm>
              <a:off x="990720" y="225360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94680" y="121932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>
                    <a:alpha val="50196"/>
                  </a:srgbClr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352680" y="1447920"/>
            <a:ext cx="472284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75248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ối trướ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1523880"/>
            <a:ext cx="4905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ấy đĩa đệm, ghép xương nẹp ví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ấy đĩa đệm, thay đĩa đệm nhân tạ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312408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ối sa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9480" y="528804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2819520"/>
            <a:ext cx="4649760" cy="12128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86200" y="2666880"/>
            <a:ext cx="48974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ở cửa sổ cung sau, lấy đĩa đệ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ắt cung sau, lấy đĩa đệm, ghép xương nẹp vít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ạo hình cung sau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175248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20040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515628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276720" cy="2238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346716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HƯƠNG PHÁP PHẪU THUẬT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ĐIỀU TRỊ TVĐĐCS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Tai biến, biến chứng sau phẫu thuật</a:t>
            </a:r>
            <a:r>
              <a:rPr b="1" i="1" lang="en-US" sz="2400" spc="-1" strike="noStrike">
                <a:solidFill>
                  <a:srgbClr val="692aa2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o gây mê: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y hô hấp: do tụt lưỡi, nôn trào ngược, tăng tiết đờm rãi…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ụy tim mạch: do mất máu, mất dịch, do suy hô hấp,…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o phẫu thuật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72105"/>
                </a:solidFill>
                <a:latin typeface="Arial"/>
              </a:rPr>
              <a:t>Tai biến, biến chứng sớm: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ối trước: tổn thương động, tĩnh mạch cảnh, khí quản, thực quản, tổn thương tủy, trật mảnh ghép, nẹp vít,…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ối sau: Tổn thương ĐM đốt sống, tủy rễ TK, tuột nẹp vít …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72105"/>
                </a:solidFill>
                <a:latin typeface="Arial"/>
              </a:rPr>
              <a:t>Biến chứng muộn: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hiễm trùng ổ mổ: sốt, chảy dịch, mủ VM, sưng tấy VM,…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ò DNT: chảy dịch trong tại VM, dẫn lưu VM, đau đầu,…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oét điểm tỳ, Nhiễm trùng TN, VP…</a:t>
            </a:r>
            <a:endParaRPr b="1" lang="en-US" sz="22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72105"/>
                </a:solidFill>
                <a:latin typeface="Arial"/>
              </a:rPr>
              <a:t>CHĂM SÓC BỆNH NHÂN SAU MỔ</a:t>
            </a: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3276720"/>
            <a:ext cx="6858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4191120"/>
            <a:ext cx="6858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438280" y="2362320"/>
            <a:ext cx="990720" cy="380880"/>
            <a:chOff x="2438280" y="2362320"/>
            <a:chExt cx="990720" cy="380880"/>
          </a:xfrm>
        </p:grpSpPr>
        <p:sp>
          <p:nvSpPr>
            <p:cNvPr id="115" name=""/>
            <p:cNvSpPr/>
            <p:nvPr/>
          </p:nvSpPr>
          <p:spPr>
            <a:xfrm>
              <a:off x="2819520" y="236232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438280" y="2362320"/>
              <a:ext cx="38124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292480" y="4724280"/>
            <a:ext cx="1066680" cy="304920"/>
            <a:chOff x="2292480" y="4724280"/>
            <a:chExt cx="1066680" cy="304920"/>
          </a:xfrm>
        </p:grpSpPr>
        <p:sp>
          <p:nvSpPr>
            <p:cNvPr id="118" name=""/>
            <p:cNvSpPr/>
            <p:nvPr/>
          </p:nvSpPr>
          <p:spPr>
            <a:xfrm>
              <a:off x="2749680" y="5029200"/>
              <a:ext cx="609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92480" y="4724280"/>
              <a:ext cx="45720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505320" y="213372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2209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Đặt vấn đề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304812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124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hái quát các vấn đề liên qu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388620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38894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ăm sóc BN sau mổ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2922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658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4724280"/>
            <a:ext cx="502920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4800600"/>
            <a:ext cx="25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ết luậ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4876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04920" y="2209680"/>
            <a:ext cx="2673360" cy="2671920"/>
            <a:chOff x="304920" y="2209680"/>
            <a:chExt cx="2673360" cy="2671920"/>
          </a:xfrm>
        </p:grpSpPr>
        <p:sp>
          <p:nvSpPr>
            <p:cNvPr id="133" name=""/>
            <p:cNvSpPr/>
            <p:nvPr/>
          </p:nvSpPr>
          <p:spPr>
            <a:xfrm>
              <a:off x="304920" y="2209680"/>
              <a:ext cx="2673360" cy="2671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055a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0960" y="2382840"/>
              <a:ext cx="2319480" cy="2322360"/>
            </a:xfrm>
            <a:prstGeom prst="ellipse">
              <a:avLst/>
            </a:prstGeom>
            <a:gradFill rotWithShape="0">
              <a:gsLst>
                <a:gs pos="0">
                  <a:srgbClr val="3c2d5d"/>
                </a:gs>
                <a:gs pos="50000">
                  <a:srgbClr val="7055ad"/>
                </a:gs>
                <a:gs pos="100000">
                  <a:srgbClr val="3c2d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2405160"/>
              <a:ext cx="2319480" cy="2320920"/>
            </a:xfrm>
            <a:prstGeom prst="ellipse">
              <a:avLst/>
            </a:prstGeom>
            <a:gradFill rotWithShape="0">
              <a:gsLst>
                <a:gs pos="0">
                  <a:srgbClr val="7055ad">
                    <a:alpha val="0"/>
                  </a:srgbClr>
                </a:gs>
                <a:gs pos="100000">
                  <a:srgbClr val="46356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5440" y="2500200"/>
              <a:ext cx="2090520" cy="208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8560" y="2533680"/>
              <a:ext cx="2025720" cy="20271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4120" y="2544840"/>
              <a:ext cx="1977840" cy="1977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6440" y="2563920"/>
              <a:ext cx="1879560" cy="18478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2592360"/>
              <a:ext cx="1671480" cy="1500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480" y="304956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ội dung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AI TRÒ CỦA ĐIỀU DƯỠ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ơ khai: không có sự phân biệt giữa chăm sóc người bệnh (nursing) và y học (medicin)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hành công của y học trong điều trị BN đi liền với vai trò của người ĐDV.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hăm sóc BN nói chung, sau mổ TVĐĐ CSC nói riêng: </a:t>
            </a:r>
            <a:r>
              <a:rPr b="1" lang="en-US" sz="3000" spc="-1" strike="noStrike">
                <a:solidFill>
                  <a:srgbClr val="c72105"/>
                </a:solidFill>
                <a:latin typeface="Arial"/>
              </a:rPr>
              <a:t>kiến thức bệnh, tai biến biến chứng sau mổ, …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 =&gt; thành công của cuộc phẫu thuật.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UẨN BỊ BỆNH NHÂN TRƯỚC M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Chuẩn bị tâm lý.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Chuẩn bị thể chất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Hồ sơ bệnh án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Chuẩn bị các xét nghiệm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Khám chuyên khoa liên quan khi có chỉ định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248" name="il_fi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3343320" cy="2228760"/>
          </a:xfrm>
          <a:prstGeom prst="rect">
            <a:avLst/>
          </a:prstGeom>
          <a:ln w="0">
            <a:noFill/>
          </a:ln>
        </p:spPr>
      </p:pic>
      <p:pic>
        <p:nvPicPr>
          <p:cNvPr id="249" name="il_fi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39625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UẨN BỊ BỆNH NHÂN TRƯỚC M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Ngày trước mổ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Kiểm tra M, T, HA, ghi hồ sơ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Ăn uống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Vệ sinh cá nhân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ư trang cá nhân, chú ý răng giả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ông tóc móng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hụt tháo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âm lý trước mổ: ngủ sớm, thuốc an thần nếu có chỉ định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252" name="il_fi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UẨN BỊ BỆNH NHÂN TRƯỚC M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Sáng ngày mổ: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hịn ăn, uống 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Lấy máu chéo 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Vệ sinh cá nhân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Vệ sinh vùng mổ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, T, HA, nhịp thở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Đeo biển tên cho BN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Chuyển BN lên phòng mổ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ĂM SÓC BN SAU M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2aa2"/>
                </a:solidFill>
                <a:latin typeface="Arial"/>
              </a:rPr>
              <a:t>PP vô cảm: gây mê 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2aa2"/>
                </a:solidFill>
                <a:latin typeface="Arial"/>
              </a:rPr>
              <a:t>Sau mổ: cố định CSC bằng nẹp ngoài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24 giờ đầu sau mổ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Ý thức: tỉnh hay không? 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ô hấp: tần sồ thở, kiểu thở…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uần hoàn: mạch, huyết áp…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ận động: </a:t>
            </a:r>
            <a:r>
              <a:rPr b="1" lang="en-US" sz="2400" spc="-1" strike="noStrike">
                <a:solidFill>
                  <a:srgbClr val="c72105"/>
                </a:solidFill>
                <a:latin typeface="Arial"/>
              </a:rPr>
              <a:t>bất động CSC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hiệt độ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iêu hóa: nôn? Tình trạng bụng? 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iết niệu: sonde tiểu? Số lượng, tính chất nước tiểu?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657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ĂM SÓC BN SAU M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2105"/>
                </a:solidFill>
                <a:latin typeface="Arial"/>
              </a:rPr>
              <a:t>24 giờ đầu sau mổ: (tiếp)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 thiệp y lệnh của BS: thuốc, xét nghiệm…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ảm đau sau mổ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ăm sóc vết mổ: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7055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heo dõi dấu hiệu chảy máu vết mổ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7055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hay băng đánh giá vết mổ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ăm sóc cơ bản: vệ sinh cá nhân, dinh dưỡng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áo dục sức khỏe: BN và gia đình BN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181480" y="3962520"/>
            <a:ext cx="3353040" cy="2530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ĂM SÓC BN SAU M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Sau 24h: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o dõi: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Ý thức, hô hấp, tim mạch, nhiệt độ, nước vào ra…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72105"/>
                </a:solidFill>
                <a:latin typeface="Arial"/>
              </a:rPr>
              <a:t>Các dấu hiệu tổn thương thần kinh: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 nuốt khó, nói khàn, mất tiếng, vận động, cảm giác…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ình trạng vết mổ, dẫn lưu ổ mổ (nếu có).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Dấu hiệu nhiễm khuẩn bội nhiễm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ĂM SÓC BN SAU M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Sau 24h: (tiếp)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ăm sóc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Hô hấp: tư thế, hút đờm rãi, vỗ rung,…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72105"/>
                </a:solidFill>
                <a:latin typeface="Arial"/>
              </a:rPr>
              <a:t>Vận động: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92aa2"/>
                </a:solidFill>
                <a:latin typeface="Arial"/>
              </a:rPr>
              <a:t>nẹp cổ cố định,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tập vận động tay chân, tập ngồi dậy, đi lại sau 24 – 72 giờ (tránh hạ HA tư thế)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Tiêu hóa: sonde dạ dày, cho ăn…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266" name="il_fi" descr=""/>
          <p:cNvPicPr/>
          <p:nvPr/>
        </p:nvPicPr>
        <p:blipFill>
          <a:blip r:embed="rId1"/>
          <a:stretch/>
        </p:blipFill>
        <p:spPr>
          <a:xfrm>
            <a:off x="5867280" y="1579680"/>
            <a:ext cx="2362320" cy="2293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5815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ĂM SÓC BN SAU M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72105"/>
                </a:solidFill>
                <a:latin typeface="Arial"/>
              </a:rPr>
              <a:t>Sau 24h: (tiếp)</a:t>
            </a:r>
            <a:endParaRPr b="1" lang="en-US" sz="3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an thiệp y lệnh điều trị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ết mổ: thay băng, rút dẫn lưu.. Cắt chỉ vết mổ.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ệ sinh: thân thể, răng miệng…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iáo dục sức khỏe: BN và gia đình BN.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QUY TRÌNH ĐIỀU DƯỠ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850040" y="1882800"/>
            <a:ext cx="5367240" cy="4377960"/>
            <a:chOff x="1850040" y="1882800"/>
            <a:chExt cx="5367240" cy="4377960"/>
          </a:xfrm>
        </p:grpSpPr>
        <p:sp>
          <p:nvSpPr>
            <p:cNvPr id="272" name="_s165896"/>
            <p:cNvSpPr/>
            <p:nvPr/>
          </p:nvSpPr>
          <p:spPr>
            <a:xfrm>
              <a:off x="3068280" y="1882800"/>
              <a:ext cx="2930760" cy="2331720"/>
            </a:xfrm>
            <a:custGeom>
              <a:avLst/>
              <a:gdLst>
                <a:gd name="textAreaLeft" fmla="*/ 0 w 2930760"/>
                <a:gd name="textAreaRight" fmla="*/ 2931120 w 2930760"/>
                <a:gd name="textAreaTop" fmla="*/ 0 h 2331720"/>
                <a:gd name="textAreaBottom" fmla="*/ 2332080 h 23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87b56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_s165902"/>
            <p:cNvSpPr/>
            <p:nvPr/>
          </p:nvSpPr>
          <p:spPr>
            <a:xfrm rot="4320000">
              <a:off x="4296960" y="2119680"/>
              <a:ext cx="2331720" cy="2930760"/>
            </a:xfrm>
            <a:custGeom>
              <a:avLst/>
              <a:gdLst>
                <a:gd name="textAreaLeft" fmla="*/ 0 w 2331720"/>
                <a:gd name="textAreaRight" fmla="*/ 2332080 w 2331720"/>
                <a:gd name="textAreaTop" fmla="*/ 0 h 2930760"/>
                <a:gd name="textAreaBottom" fmla="*/ 2931120 h 293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87b56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_s165904"/>
            <p:cNvSpPr/>
            <p:nvPr/>
          </p:nvSpPr>
          <p:spPr>
            <a:xfrm rot="8640000">
              <a:off x="3644280" y="3288960"/>
              <a:ext cx="2930760" cy="2331720"/>
            </a:xfrm>
            <a:custGeom>
              <a:avLst/>
              <a:gdLst>
                <a:gd name="textAreaLeft" fmla="*/ 0 w 2930760"/>
                <a:gd name="textAreaRight" fmla="*/ 2931120 w 2930760"/>
                <a:gd name="textAreaTop" fmla="*/ 0 h 2331720"/>
                <a:gd name="textAreaBottom" fmla="*/ 2332080 h 23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87b56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_s165897"/>
            <p:cNvSpPr/>
            <p:nvPr/>
          </p:nvSpPr>
          <p:spPr>
            <a:xfrm rot="12960000">
              <a:off x="2493000" y="3290040"/>
              <a:ext cx="2930760" cy="2331720"/>
            </a:xfrm>
            <a:custGeom>
              <a:avLst/>
              <a:gdLst>
                <a:gd name="textAreaLeft" fmla="*/ 0 w 2930760"/>
                <a:gd name="textAreaRight" fmla="*/ 2931120 w 2930760"/>
                <a:gd name="textAreaTop" fmla="*/ 0 h 2331720"/>
                <a:gd name="textAreaBottom" fmla="*/ 2332080 h 23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87b56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_s165899"/>
            <p:cNvSpPr/>
            <p:nvPr/>
          </p:nvSpPr>
          <p:spPr>
            <a:xfrm rot="17280000">
              <a:off x="2437920" y="2121120"/>
              <a:ext cx="2331720" cy="2930760"/>
            </a:xfrm>
            <a:custGeom>
              <a:avLst/>
              <a:gdLst>
                <a:gd name="textAreaLeft" fmla="*/ 0 w 2331720"/>
                <a:gd name="textAreaRight" fmla="*/ 2332080 w 2331720"/>
                <a:gd name="textAreaTop" fmla="*/ 0 h 2930760"/>
                <a:gd name="textAreaBottom" fmla="*/ 2931120 h 293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87b56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_s165894"/>
            <p:cNvSpPr/>
            <p:nvPr/>
          </p:nvSpPr>
          <p:spPr>
            <a:xfrm>
              <a:off x="5284800" y="1981080"/>
              <a:ext cx="107748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hẩn đoá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điều dưỡng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_s165895"/>
            <p:cNvSpPr/>
            <p:nvPr/>
          </p:nvSpPr>
          <p:spPr>
            <a:xfrm>
              <a:off x="1905120" y="3938400"/>
              <a:ext cx="10774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ượng giá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_s165898"/>
            <p:cNvSpPr/>
            <p:nvPr/>
          </p:nvSpPr>
          <p:spPr>
            <a:xfrm>
              <a:off x="2701440" y="1982880"/>
              <a:ext cx="10771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hận định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_s165901"/>
            <p:cNvSpPr/>
            <p:nvPr/>
          </p:nvSpPr>
          <p:spPr>
            <a:xfrm>
              <a:off x="6085440" y="3935520"/>
              <a:ext cx="10771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ập kế hoạch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hăm sóc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_s165903"/>
            <p:cNvSpPr/>
            <p:nvPr/>
          </p:nvSpPr>
          <p:spPr>
            <a:xfrm>
              <a:off x="3996360" y="5145120"/>
              <a:ext cx="10771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ực hiện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ế hoạch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72105"/>
                </a:solidFill>
                <a:latin typeface="Arial"/>
              </a:rPr>
              <a:t>ĐẶT VẤN ĐỀ</a:t>
            </a: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ọ tên: Nguyễn T. L.  Tuổi: 45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Giới: Nam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ân tộc: Kinh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Nghề nghiệp: Công nhân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Địa chỉ: Sơn Đồng, Hoài Đức, TP Hà Nội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gày vào viện: 22.10.2012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ý do vào viện: tê tay chân, đi lại khó khăn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ẩn đoán y khoa: thoát vị đĩa đệm C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C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trung tâm, chèn ép tủy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hương pháp điều trị: phẫu thuật lấy đĩa đệm C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C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, đặt đĩa đệm nhân tạo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NHẬN ĐỊNH</a:t>
            </a: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úc 8h00 ngày 26/10/2012 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N sau phẫu thuật giờ thứ 18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Ý thức tỉnh, da, niêm mạc hồng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Mạch: 75 l/p, huyết áp: 100/60 mmHg, nhiệt độ: 37</a:t>
            </a:r>
            <a:r>
              <a:rPr b="1" lang="en-US" sz="3000" spc="-1" strike="noStrike" baseline="30000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, nhịp thở: 20 l/p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hể trạng: trung bình (BMI=21,3)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âm lý: lo lắng, suy nghĩ về kết quả phẫu thuật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SC được cố định bằng nẹp ngoài ORBE, đau mỏi cổ gáy,vùng chẩm do tì đè lên nẹp</a:t>
            </a:r>
            <a:endParaRPr b="1" lang="en-US" sz="30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Đau vết mổ mức độ vừa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ứ chi không liệt, cảm giác căng mỏi cơ, tê nhẹ bàn tay và 2 chân 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Đau rát họng, tăng tiết đờm rãi ít, tự ho khạc được, nói rõ tiếng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a vùng cổ gáy ẩm, ngứa do đeo nẹp cổ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iêu hóa: ăn cháo, uống sữa, chưa đi đại tiện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Kiến thức: chưa biết cách tập luyện sau mổ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am khảo hồ sơ bệnh án: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ác xét nghiệm máu, nước tiểu: bình thường 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Kết quả chụp MRI CSC: hình ảnh TVĐĐ C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-C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, có tổn thương tủy cùng mức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CHẨN ĐOÁN ĐIỀU DƯỠNG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Đau mỏi cổ gáy liên quan (lq) đến đeo nẹp cổ cố định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KQMĐ: đỡ đau mỏi sau 24h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Hạn chế vận động lq đến tê tay chân, căng mỏi cơ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KQMĐ: BN cảm thấy thoải mái, tay chân vận động dễ dàng sau 24h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Không có khả năng tự chăm sóc bản thân lq đến nằm bất động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KQMĐ: BN được chăm sóc dưới sự hỗ trợ của nhân viên y tế và gia đình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CHẨN ĐOÁN ĐIỀU DƯỠNG: (tiếp)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Lo lắng lq đến chưa có đầy đủ kiến thức về bệnh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KQMĐ: giảm lo lắng sau 24h 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Nguy cơ suy hô hấp lq đến tăng tiết đờm, đau vết mổ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KQMĐ: không xảy ra suy hô hấp trong thời gian điều trị  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Nguy cơ táo bón lq đến ăn ít rau, uống ít nước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KQMĐ: không xảy ra táo bón, BN đi ngoài 1 đến 2 ngày một lần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LẬP KẾ HOẠCH CHĂM SÓC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Theo dõi: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Ý thức 3h/lần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Tình trạng hô hấp: tần số thở, kiểu thở, SpO</a:t>
            </a:r>
            <a:r>
              <a:rPr b="1" lang="en-US" sz="2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, mức độ tăng tiết đờm rãi 2h/lần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Dấu hiệu sinh tồn 3h/lần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Vết mổ: 2 lần/ ngày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Dấu hiệu thần kinh khu trú: vận đông, cảm giác, sự tuân thủ cố định CSC bằng nẹp ngoài 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Lượng nước vào ra 2 lần/ ngày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LẬP KẾ HOẠCH CHĂM SÓC: (tiếp)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út đờm rãi khi tăng tiết nhiều, khi BN không tự ho khạc được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an thiệp y lệnh điều trị: thay băng, thuốc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LTL, tập vận động tay chân 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ệ sinh cá nhân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Đảm bảo dinh dưỡng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iáo dục sức khỏe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THỰC HIỆN KẾ HOẠCH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8h00: Kiểm tra ý thức, vận động tay chân, tình trạng hô hấp, màu sác da, niêm mạc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8h15’: Đo mạch-nhiệt độ-huyết áp-nhịp thở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8h30’: Cho BN nằm nghiêng, HD BN tập ho, khạc đờm, tâp thở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8h45’: Thay băng, kiểm tra vết mổ, vệ sinh vùng cổ gáy, đệm lót nẹp cổ 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9h00’: Tiêm thuốc (theo y lệnh)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9h15’: Xoa bóp tay chân, vùng tì đè, tập vân động 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10h00’: HD, tư vấn GDSK cho người bệnh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…… 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 HOẠCH CHĂM SÓ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LƯỢNG GIÁ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8h00 ngày 27/10/2012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N tỉnh, tiếp xúc tốt, không khó thở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ứ chi vận động được dễ dàng, đỡ cảm giác căng cứng cơ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Đỡ đau mỏi CSC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ệ sinh sạch sẽ, ăn ngon miệng, bụng mềm, không chướng, BN chưa đi đại tiện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N biết cách tự tập, vui vẻ, yên tâm điều trị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08000"/>
            <a:ext cx="8153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ĐẶT VẤN Đ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055a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2aa2"/>
                </a:solidFill>
                <a:latin typeface="Arial"/>
              </a:rPr>
              <a:t>TVĐĐ CSC là bệnh lý khá phổ biến (K. Jurgen, 36% các loại TVĐĐ)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2aa2"/>
                </a:solidFill>
                <a:latin typeface="Arial"/>
              </a:rPr>
              <a:t>TVĐĐ CSC ảnh hưởng đến chất lượng cuộc sống, sinh hoạt, lao động. Có thể tàn phế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2aa2"/>
                </a:solidFill>
                <a:latin typeface="Arial"/>
              </a:rPr>
              <a:t>Chẩn đoán: Lâm sàng + Chẩn đoán hình ảnh (</a:t>
            </a:r>
            <a:r>
              <a:rPr b="0" lang="en-US" sz="2400" spc="-1" strike="noStrike">
                <a:solidFill>
                  <a:srgbClr val="c72105"/>
                </a:solidFill>
                <a:latin typeface="Arial"/>
              </a:rPr>
              <a:t>Cộng hưởng từ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2aa2"/>
                </a:solidFill>
                <a:latin typeface="Arial"/>
              </a:rPr>
              <a:t>Điều trị: Nội khoa, Ngoại khoa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2aa2"/>
                </a:solidFill>
                <a:latin typeface="Arial"/>
              </a:rPr>
              <a:t>Biến chứng trong, sau phẫu thuật: tính mạng, chức năng sống =&gt; </a:t>
            </a:r>
            <a:r>
              <a:rPr b="0" lang="en-US" sz="2400" spc="-1" strike="noStrike">
                <a:solidFill>
                  <a:srgbClr val="c72105"/>
                </a:solidFill>
                <a:latin typeface="Arial"/>
              </a:rPr>
              <a:t>Theo dõi, phát hiện, xử lý kịp thời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2aa2"/>
                </a:solidFill>
                <a:latin typeface="Arial"/>
              </a:rPr>
              <a:t>Vai trò điều dưỡng trong theo dõi phát hiện và xử trí: </a:t>
            </a:r>
            <a:r>
              <a:rPr b="0" lang="en-US" sz="2400" spc="-1" strike="noStrike">
                <a:solidFill>
                  <a:srgbClr val="c72105"/>
                </a:solidFill>
                <a:latin typeface="Arial"/>
              </a:rPr>
              <a:t>quan trọng.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72105"/>
                </a:solidFill>
                <a:latin typeface="Arial"/>
              </a:rPr>
              <a:t>KẾT LUẬN</a:t>
            </a: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KẾT LUẬ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2105"/>
                </a:solidFill>
                <a:latin typeface="Arial"/>
              </a:rPr>
              <a:t>Các tai biến, biến chứng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o gây mê: suy hô hấp, trụy tim mạch…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o phẫu thuật: tổn thương mạch máu, thần kinh liên quan, khí quản, thực quản…, nhiễm trùng vết mổ, hô hấp, tiết niệu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2105"/>
                </a:solidFill>
                <a:latin typeface="Arial"/>
              </a:rPr>
              <a:t>Chăm sóc sau mổ: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i giác, hô hấp, tim mạch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ố định CSC, dấu hiệu thần kinh khu trú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 thiệp y lệnh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ăm sóc cơ bản: đảm bảo vệ sinh, dinh dưỡng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áo dục sức khỏe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Arial"/>
              </a:rPr>
              <a:t>XIN TRÂN TRỌNG CẢM ƠN!</a:t>
            </a:r>
            <a:endParaRPr b="1" lang="en-US" sz="40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391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ĐẶT VẤN ĐỀ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92aa2"/>
                </a:solidFill>
                <a:uFillTx/>
                <a:latin typeface="Arial"/>
              </a:rPr>
              <a:t>Chuyên đề</a:t>
            </a: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Chăm sóc bệnh nhân 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2105"/>
                </a:solidFill>
                <a:latin typeface="Arial"/>
              </a:rPr>
              <a:t>sau mổ thoát vị đĩa đệm cột sống cổ”</a:t>
            </a:r>
            <a:endParaRPr b="1" lang="en-US" sz="3200" spc="-1" strike="noStrike">
              <a:solidFill>
                <a:srgbClr val="87b567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Nội dung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92aa2"/>
                </a:solidFill>
                <a:latin typeface="Arial"/>
              </a:rPr>
              <a:t>1. Các tai biến và biến chứng sau mổ  TVĐĐCSC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92aa2"/>
                </a:solidFill>
                <a:latin typeface="Arial"/>
              </a:rPr>
              <a:t>2. Đề xuất quy trình chăm sóc BN sau mổ TVĐĐCSC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72105"/>
                </a:solidFill>
                <a:latin typeface="Arial"/>
              </a:rPr>
              <a:t>KHÁI QUÁT</a:t>
            </a: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72105"/>
                </a:solidFill>
                <a:latin typeface="Arial"/>
              </a:rPr>
              <a:t>CÁC VẤN ĐỀ LIÊN QUAN</a:t>
            </a:r>
            <a:endParaRPr b="1" lang="en-US" sz="5400" spc="-1" strike="noStrike">
              <a:solidFill>
                <a:srgbClr val="87b5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Ơ LƯỢC GIẢI  PHẪU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2105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Cột sống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Cột trụ chính, 33 – 35 ĐS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ĐS: thân, cung, mỏm và lỗ ĐS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Cột sống cổ: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7 ĐS, cong lồi ra trước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Mỏm ngang: lỗ ngang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235400" y="1219320"/>
            <a:ext cx="4208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Ơ LƯỢC GIẢI  PHẪU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72105"/>
                </a:solidFill>
                <a:latin typeface="Arial"/>
              </a:rPr>
              <a:t>Đặc điểm riêng CSC:</a:t>
            </a:r>
            <a:endParaRPr b="1" lang="en-US" sz="26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C1 (Đốt đội): không có thân đốt sống, chỉ có cung trước, cung sau và hai khối bên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C2 (Đốt trục): mỏm răng, tiếp khớp với cung trước C1 và dây chằng ngang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</a:rPr>
              <a:t>C7 (đốt lồi): gai sau dài nhất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436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1080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Ơ LƯỢC GIẢI  PHẪU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055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2105"/>
                </a:solidFill>
                <a:latin typeface="Arial"/>
              </a:rPr>
              <a:t>Tủy sống:</a:t>
            </a:r>
            <a:r>
              <a:rPr b="1" lang="en-US" sz="2400" spc="-1" strike="noStrike">
                <a:solidFill>
                  <a:srgbClr val="87b56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TKTW nằm trong ống sống, cột trụ dẹt, màu trắng xám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Gồm 3 phần: Ống trung tâm, chất trắng và chất xám.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55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2aa2"/>
                </a:solidFill>
                <a:latin typeface="Arial"/>
              </a:rPr>
              <a:t>Tủy  cổ: 8 khoanh tủy, 8 đôi rễ (trước:v/đ, sau: cg)</a:t>
            </a: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7b567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276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4:05:35Z</dcterms:created>
  <dc:creator>Khac Hieu</dc:creator>
  <dc:description/>
  <dc:language>en-US</dc:language>
  <cp:lastModifiedBy>Smart</cp:lastModifiedBy>
  <dcterms:modified xsi:type="dcterms:W3CDTF">2002-05-27T20:17:32Z</dcterms:modified>
  <cp:revision>64</cp:revision>
  <dc:subject/>
  <dc:title>Tiểu luận tốt nghiệp:  Theo dõi và chăm sóc bệnh nhân sau mổ thoát vị đĩa đệm cột sống cổ</dc:title>
</cp:coreProperties>
</file>