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30.jpeg" ContentType="image/jpeg"/>
  <Override PartName="/ppt/media/niceday.wav" ContentType="audio/x-wav"/>
  <Override PartName="/ppt/media/image47.gif" ContentType="image/gif"/>
  <Override PartName="/ppt/media/image3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BeeGees-AndTheSunWillShine%20loopab.wav" ContentType="audio/x-wav"/>
  <Override PartName="/ppt/media/image46.jpeg" ContentType="image/jpeg"/>
  <Override PartName="/ppt/media/image43.jpeg" ContentType="image/jpeg"/>
  <Override PartName="/ppt/media/image48.gif" ContentType="image/gif"/>
  <Override PartName="/ppt/media/image8.jpeg" ContentType="image/jpeg"/>
  <Override PartName="/ppt/media/image39.jpeg" ContentType="image/jpeg"/>
  <Override PartName="/ppt/media/01%20Who'll%20stop%20the%20rain.wav" ContentType="audio/x-wav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BC5-6F76-4514-A6D4-DCD60965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76C-01EE-46AC-B99D-35B66F8F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E19-5B61-403B-BDDB-5D537486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EB5-5CE6-4F34-904B-A8E89779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6E80-B1D4-425F-8404-FC72F78C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6D65-DF94-4F7D-94D4-5A4E8399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B5C2-CABA-416D-8389-1377EA0C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8575-E1F0-4083-A79E-7825A182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8980-B207-4A36-AE45-5F3819DE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D05E-D5C1-4AFC-8FD1-7F8C3119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D610-3635-4D94-B3DC-798A231F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D2E-9267-4976-B6AF-2F442B24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6EF8-834A-41C1-88B8-2FED2DC1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8CB3-CE00-40EE-AF01-68CC8FA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9FB5-0B31-44B7-BBD9-F4E49492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3B23-9427-4650-8C61-0A811B81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9909-5533-4DDF-B7B6-AE31ADAD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1AD4-AB9D-4FD1-BDE2-467546A5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7FFC-2243-47BE-8B2C-309C09A7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DABC-8118-49EE-9676-50DC5A42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8BBB-BAC5-4689-B550-92459F2B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782D-977D-4F2D-996B-19E4EB0B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DC3-7019-4AD5-847A-BCBCC7A4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4172C-1F7C-4D83-AB2F-776C559C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22B8-AB65-4943-A244-53B2C7D8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77C9-83F0-4816-91BB-78CA0C75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8433-347E-459E-B371-DF3E9712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A25F-C5FB-43A8-800B-0647BAB0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616D4-E837-4CD2-8444-8783F3DB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CBD9E-D43C-4925-A8F3-08F7541D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00411-08D9-4D5E-A6F5-3373FA60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94F0-48CF-4A84-8621-8A989727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09A73-F7F8-4E0C-BC79-027DCFAC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DCF-80EF-4D49-83A3-C01B6D40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78656-5423-4638-ABD7-64D5F977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F398-077A-444E-B9C6-DA778A14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18137-2BC1-4647-83A2-5DEC946F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ED52-6961-423D-83A4-D11DCA44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AC829-AE26-4D6C-89DE-02A4F3D4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D0DFB-4286-4CD9-85BB-5788501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B594F-F164-4B33-BA36-57F99DF9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9D086-38AE-4C7B-AEC4-A0875C18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44C2-B64F-4C1D-9E3F-3D2287F0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61C-B0B7-401A-BCB0-272D3CC5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628-1480-4F5A-8554-5DC5FE98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6D4-8F98-494D-A433-0A497D86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E23-988B-49A7-A02F-1D1C86C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F63-DDEE-4F1C-BB6E-16244197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3F4-A3E8-4418-9D8F-06B1388DA53C}" type="slidenum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D9D3-9400-4A1A-92B3-6402EC2CEB84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52C7-0C88-474E-ADC3-475B07B3F71B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F527-4C48-4C2D-B521-79CA7C49176C}" type="slidenum"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blog.seniorennet.be/jefkenpps" TargetMode="External"/><Relationship Id="rId3" Type="http://schemas.openxmlformats.org/officeDocument/2006/relationships/image" Target="../media/image47.gif"/><Relationship Id="rId4" Type="http://schemas.openxmlformats.org/officeDocument/2006/relationships/hyperlink" Target="http://users.skynet.be/fa552294/" TargetMode="External"/><Relationship Id="rId5" Type="http://schemas.openxmlformats.org/officeDocument/2006/relationships/hyperlink" Target="mailto:ostinvest@telenet.be" TargetMode="External"/><Relationship Id="rId6" Type="http://schemas.openxmlformats.org/officeDocument/2006/relationships/image" Target="../media/image48.gif"/><Relationship Id="rId7" Type="http://schemas.openxmlformats.org/officeDocument/2006/relationships/image" Target="../media/image49.gif"/><Relationship Id="rId8" Type="http://schemas.openxmlformats.org/officeDocument/2006/relationships/image" Target="../media/image49.gif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audio" Target="../media/01%20Who&apos;ll%20stop%20the%20rain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4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image" Target="../media/image42.jpeg"/><Relationship Id="rId12" Type="http://schemas.openxmlformats.org/officeDocument/2006/relationships/image" Target="../media/image43.jpeg"/><Relationship Id="rId13" Type="http://schemas.openxmlformats.org/officeDocument/2006/relationships/audio" Target="../media/BeeGees-AndTheSunWillShine%20loopab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audio" Target="../media/niceday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ealjefken04" descr=""/>
          <p:cNvPicPr/>
          <p:nvPr/>
        </p:nvPicPr>
        <p:blipFill>
          <a:blip r:embed="rId2"/>
          <a:stretch/>
        </p:blipFill>
        <p:spPr>
          <a:xfrm>
            <a:off x="2905200" y="17622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542760" y="541008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RAINY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0480" y="96372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REGEND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85920" y="601668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MUZIEK – MUSIC – MUSIK - MUS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4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8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809880" cy="3024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134600" y="4797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Joz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960480" y="5661000"/>
            <a:ext cx="90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Visitez aussi – Bezoek ook – Visit also – Besuchen Sie auc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6732720" y="57340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9933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59640" y="6021360"/>
            <a:ext cx="438120" cy="5716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rId4"/>
          </p:cNvPr>
          <p:cNvSpPr/>
          <p:nvPr/>
        </p:nvSpPr>
        <p:spPr>
          <a:xfrm>
            <a:off x="539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9933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71720" y="595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Jef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2200" y="649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Geo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333360"/>
            <a:ext cx="1333440" cy="190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522200" y="50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Mangal"/>
              </a:rPr>
              <a:t>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zoom dir="out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4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24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74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2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2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840"/>
                            </p:stCondLst>
                            <p:childTnLst>
                              <p:par>
                                <p:cTn id="5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34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840"/>
                            </p:stCondLst>
                            <p:childTnLst>
                              <p:par>
                                <p:cTn id="5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6840"/>
                            </p:stCondLst>
                            <p:childTnLst>
                              <p:par>
                                <p:cTn id="55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5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27200" y="638280"/>
            <a:ext cx="4154760" cy="4108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34160" y="4915080"/>
            <a:ext cx="78282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n Belgium it is raining for weeks now. I hope that this presentation will cheer you up a b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n België regent het nu al weken. Ik hoop dat deze presentatie je een beetje zal opbeu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33400" y="380880"/>
            <a:ext cx="3197160" cy="5538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61840" y="387360"/>
            <a:ext cx="3154680" cy="5522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46000" y="388800"/>
            <a:ext cx="3165480" cy="5526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847800" y="398520"/>
            <a:ext cx="3208320" cy="5513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2480" y="198360"/>
            <a:ext cx="37116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260600" y="204840"/>
            <a:ext cx="12600" cy="59371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44320" y="159840"/>
            <a:ext cx="12600" cy="59374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2960" y="6102360"/>
            <a:ext cx="37116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4984920" y="407880"/>
            <a:ext cx="3336840" cy="5423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4997520" y="417600"/>
            <a:ext cx="3338280" cy="541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5010120" y="422280"/>
            <a:ext cx="3313080" cy="5364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5010120" y="417600"/>
            <a:ext cx="3313080" cy="5348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789440" y="204840"/>
            <a:ext cx="37116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8494560" y="171000"/>
            <a:ext cx="12960" cy="59374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765320" y="193680"/>
            <a:ext cx="12600" cy="59371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7360" y="6121440"/>
            <a:ext cx="37116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 rot="19463400">
            <a:off x="958320" y="4290480"/>
            <a:ext cx="2667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ighting alon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 rot="19463400">
            <a:off x="5419800" y="4032000"/>
            <a:ext cx="2666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ighting   togeth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95480" y="498600"/>
            <a:ext cx="2966760" cy="5386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67480" y="728640"/>
            <a:ext cx="302076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19380600">
            <a:off x="4572000" y="407196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 see 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 rot="19380600">
            <a:off x="325080" y="4263840"/>
            <a:ext cx="16002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y   ??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162240" y="243000"/>
            <a:ext cx="2819520" cy="1123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 rot="19380600">
            <a:off x="503280" y="517212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aarom   ??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 rot="19380600">
            <a:off x="4782960" y="5165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h,  ja 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41240" y="733320"/>
            <a:ext cx="3219480" cy="4861080"/>
          </a:xfrm>
          <a:prstGeom prst="rect">
            <a:avLst/>
          </a:prstGeom>
          <a:ln w="82440">
            <a:solidFill>
              <a:srgbClr val="0000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087880" y="692280"/>
            <a:ext cx="3449520" cy="4889520"/>
          </a:xfrm>
          <a:prstGeom prst="rect">
            <a:avLst/>
          </a:prstGeom>
          <a:ln w="82440">
            <a:solidFill>
              <a:srgbClr val="0000ff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072040" y="679320"/>
            <a:ext cx="3452760" cy="4873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5059440" y="679320"/>
            <a:ext cx="3477960" cy="4891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5056200" y="673200"/>
            <a:ext cx="3473280" cy="4890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5102280" y="663480"/>
            <a:ext cx="3432240" cy="4903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5095800" y="657360"/>
            <a:ext cx="3432240" cy="48844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197000" y="5952960"/>
            <a:ext cx="2190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  hate  it 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0320" y="5999040"/>
            <a:ext cx="2190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  love  it 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5086440" y="639720"/>
            <a:ext cx="3438360" cy="49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40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58800" y="903240"/>
            <a:ext cx="7772400" cy="4892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68160" y="870120"/>
            <a:ext cx="7767720" cy="4944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85800" y="871560"/>
            <a:ext cx="7761240" cy="4956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671400" y="865080"/>
            <a:ext cx="7774200" cy="4942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660240" y="878040"/>
            <a:ext cx="7772400" cy="4943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565200" y="635040"/>
            <a:ext cx="8013600" cy="5335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600200" y="804960"/>
            <a:ext cx="5943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o will stop that fu..... rain ?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00200" y="5264280"/>
            <a:ext cx="5943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ie doet die kl....regen stoppen ?? ?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3487680" y="190440"/>
            <a:ext cx="204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ffffff"/>
                </a:solidFill>
                <a:latin typeface="Arial"/>
              </a:rPr>
              <a:t>Weather forecast - Weerberi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1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xit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34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xit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41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5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7" nodeType="afterEffect" fill="hold" presetClass="exit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48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2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4" nodeType="afterEffect" fill="hold" presetClass="exit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55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xit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2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1000"/>
                            </p:stCondLst>
                            <p:childTnLst>
                              <p:par>
                                <p:cTn id="2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08280" y="692280"/>
            <a:ext cx="3927600" cy="53276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2383920" y="6269040"/>
            <a:ext cx="43761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ot my problem   -  Niet mijn proble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96720" y="385920"/>
            <a:ext cx="8336160" cy="6086160"/>
          </a:xfrm>
          <a:prstGeom prst="rect">
            <a:avLst/>
          </a:prstGeom>
          <a:ln w="50760">
            <a:solidFill>
              <a:srgbClr val="ffffff"/>
            </a:solidFill>
            <a:prstDash val="sysDot"/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07880" y="412920"/>
            <a:ext cx="8304480" cy="6018120"/>
          </a:xfrm>
          <a:prstGeom prst="rect">
            <a:avLst/>
          </a:prstGeom>
          <a:ln w="41400">
            <a:solidFill>
              <a:srgbClr val="ffffff"/>
            </a:solidFill>
            <a:prstDash val="sysDot"/>
            <a:miter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403200" y="396720"/>
            <a:ext cx="8285040" cy="6032520"/>
          </a:xfrm>
          <a:prstGeom prst="rect">
            <a:avLst/>
          </a:prstGeom>
          <a:ln w="47520">
            <a:solidFill>
              <a:srgbClr val="ffffff"/>
            </a:solidFill>
            <a:prstDash val="sysDot"/>
            <a:miter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423720" y="420840"/>
            <a:ext cx="8242560" cy="5964120"/>
          </a:xfrm>
          <a:prstGeom prst="rect">
            <a:avLst/>
          </a:prstGeom>
          <a:ln w="44280">
            <a:solidFill>
              <a:srgbClr val="ffffff"/>
            </a:solidFill>
            <a:prstDash val="sysDot"/>
            <a:miter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264960" y="243000"/>
            <a:ext cx="4017960" cy="5192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77920" y="5526000"/>
            <a:ext cx="40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On the other side it’s raining too. Aan de andere kant regent het 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8"/>
          <a:stretch/>
        </p:blipFill>
        <p:spPr>
          <a:xfrm>
            <a:off x="4859280" y="293760"/>
            <a:ext cx="3932280" cy="50385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231" name=""/>
          <p:cNvSpPr/>
          <p:nvPr/>
        </p:nvSpPr>
        <p:spPr>
          <a:xfrm>
            <a:off x="4856040" y="5559480"/>
            <a:ext cx="40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Shall we share the umbrella ?    Zullen wij het regenscherm del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287280" y="276120"/>
            <a:ext cx="3986280" cy="5151600"/>
          </a:xfrm>
          <a:prstGeom prst="rect">
            <a:avLst/>
          </a:prstGeom>
          <a:ln w="34920">
            <a:solidFill>
              <a:srgbClr val="80808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4792680" y="225360"/>
            <a:ext cx="4051440" cy="5213520"/>
          </a:xfrm>
          <a:prstGeom prst="rect">
            <a:avLst/>
          </a:prstGeom>
          <a:ln w="34920">
            <a:solidFill>
              <a:srgbClr val="808080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955440" y="604188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All alone  -   Gans all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72800" y="60357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Empty  -   Le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39760" y="258840"/>
            <a:ext cx="4040280" cy="5207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2"/>
          <a:stretch/>
        </p:blipFill>
        <p:spPr>
          <a:xfrm>
            <a:off x="4772160" y="322200"/>
            <a:ext cx="4011480" cy="504828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238" name=""/>
          <p:cNvSpPr/>
          <p:nvPr/>
        </p:nvSpPr>
        <p:spPr>
          <a:xfrm>
            <a:off x="608040" y="606744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Weeping leave – Wenend b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08920" y="606744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Save me !! – Red mij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2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32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882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98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2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698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70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298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598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7980"/>
                            </p:stCondLst>
                            <p:childTnLst>
                              <p:par>
                                <p:cTn id="390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2" presetSubtype="4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7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" presetSubtype="4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1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598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898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98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2980"/>
                            </p:stCondLst>
                            <p:childTnLst>
                              <p:par>
                                <p:cTn id="422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" presetSubtype="4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4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383920" y="6269040"/>
            <a:ext cx="43761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ot my problem   -  Niet mijn proble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378160" y="903240"/>
            <a:ext cx="4297320" cy="5089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232760" y="61740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8313840" y="165744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7238880" y="2809800"/>
            <a:ext cx="40032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8278920" y="378468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7211880" y="4680000"/>
            <a:ext cx="400320" cy="619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8305920" y="554832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1447920" y="517680"/>
            <a:ext cx="399960" cy="618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461880" y="1571760"/>
            <a:ext cx="399960" cy="61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1"/>
          <a:stretch/>
        </p:blipFill>
        <p:spPr>
          <a:xfrm>
            <a:off x="1455840" y="251136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2"/>
          <a:stretch/>
        </p:blipFill>
        <p:spPr>
          <a:xfrm>
            <a:off x="412920" y="358776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3"/>
          <a:stretch/>
        </p:blipFill>
        <p:spPr>
          <a:xfrm>
            <a:off x="1521000" y="4460760"/>
            <a:ext cx="399960" cy="619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4"/>
          <a:stretch/>
        </p:blipFill>
        <p:spPr>
          <a:xfrm>
            <a:off x="441360" y="5487840"/>
            <a:ext cx="39996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8:38:50Z</dcterms:created>
  <dc:creator> Jozef Snel</dc:creator>
  <dc:description/>
  <dc:language>en-US</dc:language>
  <cp:lastModifiedBy>Smets</cp:lastModifiedBy>
  <dcterms:modified xsi:type="dcterms:W3CDTF">2008-08-15T05:15:35Z</dcterms:modified>
  <cp:revision>33</cp:revision>
  <dc:subject/>
  <dc:title>Slide 1</dc:title>
</cp:coreProperties>
</file>