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0.jpeg" ContentType="image/jpeg"/>
  <Override PartName="/ppt/media/niceday.wav" ContentType="audio/x-wav"/>
  <Override PartName="/ppt/media/image47.gif" ContentType="image/gif"/>
  <Override PartName="/ppt/media/image3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BeeGees-AndTheSunWillShine%20loopab.wav" ContentType="audio/x-wav"/>
  <Override PartName="/ppt/media/image46.jpeg" ContentType="image/jpeg"/>
  <Override PartName="/ppt/media/image43.jpeg" ContentType="image/jpeg"/>
  <Override PartName="/ppt/media/image48.gif" ContentType="image/gif"/>
  <Override PartName="/ppt/media/image8.jpeg" ContentType="image/jpeg"/>
  <Override PartName="/ppt/media/image39.jpeg" ContentType="image/jpeg"/>
  <Override PartName="/ppt/media/01%20Who'll%20stop%20the%20rain.wav" ContentType="audio/x-wav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75E-D1F4-4B2D-8BA7-992EDF8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ACF-C64B-49E7-B7E7-0B5F9B03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404-F7CA-49C6-8894-AA61B903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05B-0861-4AA7-9A43-70F49128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256-FE40-456A-AE57-CAFF4038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18E7-282B-47D9-855F-BDF4ECE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3350-7A6F-4C76-A88A-79641E50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62B-E02F-4230-973B-BC9A365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55F-BBB6-4DE7-A5E9-35940506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2AB-011B-434D-A6C7-B8799FF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7F72-A610-4A58-BD5E-D3D8645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B6F-E844-442D-98C7-030B7A0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B8B-327A-46A1-824A-D6681D0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17E0-6A22-4CE7-A6FD-3EEE39F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209A-C95F-4FF8-8749-4047787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B474-63C7-4393-AFC5-5830FD69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B2A4-EEF1-484E-8438-44D86C2D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CA75-52B8-45D2-88AA-8A9AEEC8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7BF9-3BCB-49F1-889F-0B4EFCD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133E-255B-4029-871A-DCBE574F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B0F2-5515-45F4-BBD0-6A8B7FA2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1863-00B6-4C89-9B94-1EE5781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6A0-3EF6-4B0F-9615-C4D1882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E6A4-1715-4D5E-B12A-FB7F419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2EE0-394C-4CE2-8F65-CC5850D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AE32-06D9-4FD7-BF70-6B2B0F0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2270-CDF5-4588-894E-260A398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1CB1-0BD9-4426-940D-74B39A2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E282-FFCF-423D-A195-32223C74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606F-9099-43F9-AE27-DAB9AE9F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0FC6-C339-40D3-80C4-915E494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8A07-C9D4-4940-810B-0B9C406A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A101-CCC3-4C8F-949B-96B6037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A2F-D7B1-4CFF-9DB6-9666114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EFFE-9835-46CD-9EAF-895D75C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E8B1-788D-4A40-A41B-B3B6495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DF42-41EF-436F-8E43-EECC1230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3126-49EE-4C49-A1E2-BC85373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D823-B318-46F4-AD26-B7C4983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C945-6A03-4B37-8062-4EBE438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C46B-02DF-464A-9BAF-96F4A1DE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6D12-DF53-4249-886B-E360AEA6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44DB-2165-4992-BB45-419A190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0DF-2DD2-4099-B265-92FB9DE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211-45E7-40ED-A5E4-DF2A1A8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D5D-A810-4014-BD4D-3C241AF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71F-EBB4-4C1D-8046-8AFA492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122-1B10-4F8F-8EAD-4089165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36D3-3D8B-4DD7-B959-58FE181EE154}" type="slidenum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2D4-A26D-4EFE-82E6-61CCFC25E5D3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2829-7D4C-43C8-91C9-4766D62AE153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884-B1EB-4DC0-8F1D-C4FFD45A93CC}" type="slidenum"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blog.seniorennet.be/jefkenpps" TargetMode="External"/><Relationship Id="rId3" Type="http://schemas.openxmlformats.org/officeDocument/2006/relationships/image" Target="../media/image47.gif"/><Relationship Id="rId4" Type="http://schemas.openxmlformats.org/officeDocument/2006/relationships/hyperlink" Target="http://users.skynet.be/fa552294/" TargetMode="External"/><Relationship Id="rId5" Type="http://schemas.openxmlformats.org/officeDocument/2006/relationships/hyperlink" Target="mailto:ostinvest@telenet.be" TargetMode="External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49.gif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audio" Target="../media/01%20Who&apos;ll%20stop%20the%20rain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4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audio" Target="../media/BeeGees-AndTheSunWillShine%20loopab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audio" Target="../media/niceday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ealjefken04" descr=""/>
          <p:cNvPicPr/>
          <p:nvPr/>
        </p:nvPicPr>
        <p:blipFill>
          <a:blip r:embed="rId2"/>
          <a:stretch/>
        </p:blipFill>
        <p:spPr>
          <a:xfrm>
            <a:off x="2905200" y="17622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42760" y="54100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0480" y="96372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REGEND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85920" y="601668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UZIEK – MUSIC – MUSIK - MUS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809880" cy="3024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134600" y="479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oz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960480" y="5661000"/>
            <a:ext cx="90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Visitez aussi – Bezoek ook – Visit also – Besuchen Sie au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673272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4"/>
          </p:cNvPr>
          <p:cNvSpPr/>
          <p:nvPr/>
        </p:nvSpPr>
        <p:spPr>
          <a:xfrm>
            <a:off x="53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1720" y="595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ef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2200" y="649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Ge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333360"/>
            <a:ext cx="1333440" cy="190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522200" y="50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4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24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74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2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2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840"/>
                            </p:stCondLst>
                            <p:childTnLst>
                              <p:par>
                                <p:cTn id="5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34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84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840"/>
                            </p:stCondLst>
                            <p:childTnLst>
                              <p:par>
                                <p:cTn id="55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27200" y="638280"/>
            <a:ext cx="4154760" cy="410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34160" y="4915080"/>
            <a:ext cx="7828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 Belgium it is raining for weeks now. I hope that this presentation will cheer you up a b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 België regent het nu al weken. Ik hoop dat deze presentatie je een beetje zal opbeu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33400" y="380880"/>
            <a:ext cx="3197160" cy="553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61840" y="387360"/>
            <a:ext cx="3154680" cy="5522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46000" y="388800"/>
            <a:ext cx="3165480" cy="552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847800" y="398520"/>
            <a:ext cx="3208320" cy="5513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2480" y="19836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260600" y="204840"/>
            <a:ext cx="12600" cy="5937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4320" y="159840"/>
            <a:ext cx="12600" cy="5937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610236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984920" y="407880"/>
            <a:ext cx="3336840" cy="5423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4997520" y="417600"/>
            <a:ext cx="3338280" cy="541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5010120" y="422280"/>
            <a:ext cx="3313080" cy="5364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10120" y="417600"/>
            <a:ext cx="3313080" cy="5348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789440" y="20484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8494560" y="171000"/>
            <a:ext cx="12960" cy="5937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765320" y="193680"/>
            <a:ext cx="12600" cy="5937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7360" y="612144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 rot="19463400">
            <a:off x="958320" y="4290480"/>
            <a:ext cx="2667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ghting al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 rot="19463400">
            <a:off x="5419800" y="403200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ghting   togeth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95480" y="498600"/>
            <a:ext cx="2966760" cy="5386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67480" y="728640"/>
            <a:ext cx="302076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19380600">
            <a:off x="4572000" y="407196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 see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 rot="19380600">
            <a:off x="325080" y="4263840"/>
            <a:ext cx="1600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y   ??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162240" y="243000"/>
            <a:ext cx="2819520" cy="1123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19380600">
            <a:off x="503280" y="517212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arom   ??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 rot="19380600">
            <a:off x="4782960" y="5165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h,  ja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41240" y="733320"/>
            <a:ext cx="3219480" cy="4861080"/>
          </a:xfrm>
          <a:prstGeom prst="rect">
            <a:avLst/>
          </a:prstGeom>
          <a:ln w="82440">
            <a:solidFill>
              <a:srgbClr val="0000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087880" y="692280"/>
            <a:ext cx="3449520" cy="4889520"/>
          </a:xfrm>
          <a:prstGeom prst="rect">
            <a:avLst/>
          </a:prstGeom>
          <a:ln w="82440">
            <a:solidFill>
              <a:srgbClr val="0000ff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72040" y="679320"/>
            <a:ext cx="3452760" cy="4873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059440" y="679320"/>
            <a:ext cx="3477960" cy="4891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056200" y="673200"/>
            <a:ext cx="3473280" cy="4890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102280" y="663480"/>
            <a:ext cx="3432240" cy="490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5095800" y="657360"/>
            <a:ext cx="3432240" cy="4884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197000" y="5952960"/>
            <a:ext cx="2190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 hate  it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0320" y="5999040"/>
            <a:ext cx="2190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 love  it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086440" y="639720"/>
            <a:ext cx="343836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58800" y="903240"/>
            <a:ext cx="7772400" cy="4892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68160" y="870120"/>
            <a:ext cx="7767720" cy="4944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85800" y="871560"/>
            <a:ext cx="7761240" cy="495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71400" y="865080"/>
            <a:ext cx="7774200" cy="4942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60240" y="878040"/>
            <a:ext cx="7772400" cy="4943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565200" y="635040"/>
            <a:ext cx="8013600" cy="5335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600200" y="804960"/>
            <a:ext cx="5943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will stop that fu..... rain ?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0200" y="5264280"/>
            <a:ext cx="5943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ie doet die kl....regen stoppen ?? ?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3487680" y="190440"/>
            <a:ext cx="204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ffffff"/>
                </a:solidFill>
                <a:latin typeface="Arial"/>
              </a:rPr>
              <a:t>Weather forecast - Weerberi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4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1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5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2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08280" y="692280"/>
            <a:ext cx="3927600" cy="53276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2383920" y="6269040"/>
            <a:ext cx="4376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ot my problem   -  Niet mijn probl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6720" y="385920"/>
            <a:ext cx="8336160" cy="6086160"/>
          </a:xfrm>
          <a:prstGeom prst="rect">
            <a:avLst/>
          </a:prstGeom>
          <a:ln w="50760">
            <a:solidFill>
              <a:srgbClr val="ffffff"/>
            </a:solidFill>
            <a:prstDash val="sysDot"/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07880" y="412920"/>
            <a:ext cx="8304480" cy="6018120"/>
          </a:xfrm>
          <a:prstGeom prst="rect">
            <a:avLst/>
          </a:prstGeom>
          <a:ln w="41400">
            <a:solidFill>
              <a:srgbClr val="ffffff"/>
            </a:solidFill>
            <a:prstDash val="sysDot"/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03200" y="396720"/>
            <a:ext cx="8285040" cy="6032520"/>
          </a:xfrm>
          <a:prstGeom prst="rect">
            <a:avLst/>
          </a:prstGeom>
          <a:ln w="47520">
            <a:solidFill>
              <a:srgbClr val="ffffff"/>
            </a:solidFill>
            <a:prstDash val="sysDot"/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423720" y="420840"/>
            <a:ext cx="8242560" cy="5964120"/>
          </a:xfrm>
          <a:prstGeom prst="rect">
            <a:avLst/>
          </a:prstGeom>
          <a:ln w="44280">
            <a:solidFill>
              <a:srgbClr val="ffffff"/>
            </a:solidFill>
            <a:prstDash val="sysDot"/>
            <a:miter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264960" y="243000"/>
            <a:ext cx="4017960" cy="5192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77920" y="5526000"/>
            <a:ext cx="40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On the other side it’s raining too. Aan de andere kant regent het 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4859280" y="293760"/>
            <a:ext cx="3932280" cy="50385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4856040" y="5559480"/>
            <a:ext cx="40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Shall we share the umbrella ?    Zullen wij het regenscherm del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287280" y="276120"/>
            <a:ext cx="3986280" cy="515160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4792680" y="225360"/>
            <a:ext cx="4051440" cy="521352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955440" y="60418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All alone  -   Gans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72800" y="6035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Empty  -   Le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39760" y="258840"/>
            <a:ext cx="4040280" cy="5207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4772160" y="322200"/>
            <a:ext cx="4011480" cy="504828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608040" y="606744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Weeping leave – Wenend b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08920" y="606744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Save me !! – Red mij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32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882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98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2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698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298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98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798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98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898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98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298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83920" y="6269040"/>
            <a:ext cx="4376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ot my problem   -  Niet mijn probl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78160" y="903240"/>
            <a:ext cx="4297320" cy="5089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232760" y="61740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8313840" y="165744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238880" y="2809800"/>
            <a:ext cx="40032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8278920" y="378468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7211880" y="4680000"/>
            <a:ext cx="400320" cy="619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8305920" y="554832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1447920" y="517680"/>
            <a:ext cx="399960" cy="618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461880" y="1571760"/>
            <a:ext cx="399960" cy="61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1455840" y="25113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412920" y="35877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1521000" y="44607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441360" y="5487840"/>
            <a:ext cx="3999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8:38:50Z</dcterms:created>
  <dc:creator> Jozef Snel</dc:creator>
  <dc:description/>
  <dc:language>en-US</dc:language>
  <cp:lastModifiedBy>Smets</cp:lastModifiedBy>
  <dcterms:modified xsi:type="dcterms:W3CDTF">2008-08-15T05:15:35Z</dcterms:modified>
  <cp:revision>33</cp:revision>
  <dc:subject/>
  <dc:title>Slide 1</dc:title>
</cp:coreProperties>
</file>