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8DDF2-10C1-4E0D-A06A-FE3BB054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C7AF8-7443-418C-8915-EB056554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7AB08-AA02-4304-BCAC-C555955C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BBB03-42AA-4BC6-9697-49FA0775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A8A2-80D4-4EE4-87CA-BB14F235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20FE-7D98-4778-B999-E81C3552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5218-DF0B-4C20-81F5-F37D75BB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7870-FBEB-4208-8AA7-4F89CE9B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B3A0-E559-4B4E-A877-3B4797FB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635E-8925-44F1-BC47-19A573F2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FC20-053F-46CC-955A-620B95DB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9DE6B-EF92-4996-BB66-0FB2633D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CAEB-48CB-4CF8-9A75-0CCD6166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5D40-E9A1-48FF-9836-678CA006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E5A9-4701-46EB-B030-147C3942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895A-B645-4555-9677-E7581E36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1E6B-E5DD-41D2-A8F9-78B81758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8ED3-137A-4064-B38C-134D580B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08B06-76BC-4E97-A4A1-7939AF3F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D6AAA-4E6B-4DF7-B29D-734B0161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F9D68-2C25-4538-B7B0-6EBC8CF2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45DF1-1231-444B-BFC3-DE39E60F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B32A1-D6B8-4F13-AE50-B42E26E7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36D30-9E53-4B58-B535-31989D0C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4B42-93A8-4803-ADCD-323D1B4B66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3461-9C91-461E-833D-BFD34112A9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istem  Pernapasan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6840" y="42667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injauan Fisiolog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leh:Marwito W. dr., M.Biomed., AIF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304920" y="685800"/>
            <a:ext cx="8839080" cy="1752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kuensi Pernapasan: Normal pada istira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-15 kali/mnt atau 500 ml udara per sa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li napas, 6 - 8 L udara per me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6320" y="3352680"/>
            <a:ext cx="3429000" cy="838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tomi Pa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28600" y="3733920"/>
            <a:ext cx="8915400" cy="3124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uran Udara: Udara di hidung dan faring dihangat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 dilembabkan. Udara inspirasi kemud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 trakea, bronkus, bronkiolus respiratori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 duktus alveolaris  sampai ke alve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228600" y="228600"/>
            <a:ext cx="8915400" cy="160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abangan antara trakea sampai ke sakus alveolar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 kali percabangan dibagi atas : - zona kondu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zona respir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228600" y="1828800"/>
            <a:ext cx="8915400" cy="2590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a Konduks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kus, bronkiolus &amp; bronkiolus terminalis, sebag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a penyaluran udara (16  percabanga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a Respir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kiolus respiratorius, duktus alveolaris 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veoli zona pertukaran udara / gas (7 percabang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380880" y="4648320"/>
            <a:ext cx="8686800" cy="2209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ap alveoli dikelilingi oleh pembuluh d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piler paru dan struktur antara udara &amp; kal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at terjadinya difusi O2 &amp; CO2 sangat tip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veoli Manusia : 300 juta, luas dinding alveoli y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hubungan dengan kapiler : 70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gbr-3"/>
          <p:cNvPicPr/>
          <p:nvPr/>
        </p:nvPicPr>
        <p:blipFill>
          <a:blip r:embed="rId1"/>
          <a:stretch/>
        </p:blipFill>
        <p:spPr>
          <a:xfrm>
            <a:off x="60480" y="0"/>
            <a:ext cx="58068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3"/>
          <p:cNvSpPr/>
          <p:nvPr/>
        </p:nvSpPr>
        <p:spPr>
          <a:xfrm>
            <a:off x="5105520" y="3809880"/>
            <a:ext cx="4038480" cy="30481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ap alveoli dilapisi 2 je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 epit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 tipe I: merupakan sel pel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ama, terdiri dari sel gepe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 tipe II: lebih tebal, bany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dan inklusi lamelar, m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arkan surfak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mungkinan terdapat sel l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 makrofag, limfosi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 pleura, mast 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>
            <a:off x="76320" y="457200"/>
            <a:ext cx="579096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nkus dan Persarafan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0" y="1600200"/>
            <a:ext cx="9144000" cy="4495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kea dan Bronkus: - Mengandung tulang raw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edikit otot p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inding dilapisi epitel bersili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andung mukos dan ser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kiolus dan Bronkiolus Terminal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inding tidak mengandung tulang raw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anyak mengandung otot p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erdapat epitel bers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idak terdapat kelenj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04920" y="533520"/>
            <a:ext cx="8839080" cy="2895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araf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ding bronkus dan bronkiolus oleh saraf oton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angsangan kolinergik: Bronkus konstri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angsangan Adrenergik: Bronkus dilatasi, p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tel bronkus banyak ditemukan resep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ergi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&amp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76320" y="3505320"/>
            <a:ext cx="8915400" cy="2590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rkulasi Par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eri brakialis: merupakan cabang aorta, berfung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i nutrisi pada bronkus dan ple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a brakialis: mengalirkan darah kembali melalui ve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ygos ke jan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fig-17-2-a"/>
          <p:cNvPicPr/>
          <p:nvPr/>
        </p:nvPicPr>
        <p:blipFill>
          <a:blip r:embed="rId1"/>
          <a:stretch/>
        </p:blipFill>
        <p:spPr>
          <a:xfrm>
            <a:off x="0" y="0"/>
            <a:ext cx="558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>
            <a:off x="533520" y="533520"/>
            <a:ext cx="487656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kanisme Pernapas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457200" y="1600200"/>
            <a:ext cx="8686800" cy="3124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u-paru dan dinding dada merupakan strukt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st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: antara dinding dada –paru terdapat selap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is cairan. Paru-paru dapat dengan mudah b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k sepanjang dinding dada, seperti dua lempe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ca yang direkatkan dengan air, mudah diges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ah dipisa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57200" y="4724280"/>
            <a:ext cx="8610480" cy="2133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anan antara dinding dada-paru (ruang intraple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atmosfirik. Apabila dinding dada dibuka paru-pa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n kolaps. Apabila paru-paru kehilangan elastis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a dada menggembung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rrel shap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>
            <a:off x="380880" y="609480"/>
            <a:ext cx="8763120" cy="4267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piras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upakan proses ak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raksi otot-otot inspirasi volume intratorak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ing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anan intrapleura di basis paru = - 2,5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a awal inspirasi tekanan intra pleura = - 6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asi kuat tekanan intra pleura = - 30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a akhir inspirasi daya rekoil paru menarik d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a kembali ke kedudukan ekspira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380880" y="4800600"/>
            <a:ext cx="8382240" cy="18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ot-otot inspira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ot diapra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ot interkostalis eksternus, berjalan ke arah baw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762120" y="533520"/>
            <a:ext cx="8381880" cy="160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ot-otot inspirasi tambah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ot skal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nokledomastoid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457200" y="2286000"/>
            <a:ext cx="8686800" cy="457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kspiras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upakan proses pasi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dak memerlukan kontraksi otot untuk menurun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intra torak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a penurunan volume intra torakal &amp; ekspira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ksa: Otot-otot ekspirasi berkontra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ot-otot ekspir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tot interkostalis internus; berjalan miring ke baw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akang 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tot dinding abdomen ant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609480" y="457200"/>
            <a:ext cx="358164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ti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609480" y="1981080"/>
            <a:ext cx="8534520" cy="3505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at inspirasi: otot abduktor laring berkontraks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isahkan pita suara &amp; glotis membu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at menelan/terseda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ot adduktor laring kontraksi pita suara menut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cegah aspirasi ke paru-pa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ot-otot glotis dipersarafi oleh saraf Vag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533520" y="762120"/>
            <a:ext cx="3581280" cy="99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napas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304920" y="2057400"/>
            <a:ext cx="8610480" cy="160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juan: -  Menyediakan oksigen bagi jari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Membuang karbon dioks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57200" y="3886200"/>
            <a:ext cx="8686800" cy="2971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: - Menyediakan oks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liminasi karbon dioks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gulasi ion Hydrogen dalam da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emberi bentuk su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ertahanan terhadap mikroba 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engaruh terhadap konsentrasi kimia darah melalu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es di kapiler p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gbr-12"/>
          <p:cNvPicPr/>
          <p:nvPr/>
        </p:nvPicPr>
        <p:blipFill>
          <a:blip r:embed="rId1"/>
          <a:stretch/>
        </p:blipFill>
        <p:spPr>
          <a:xfrm>
            <a:off x="0" y="733320"/>
            <a:ext cx="914400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gbr-12"/>
          <p:cNvPicPr/>
          <p:nvPr/>
        </p:nvPicPr>
        <p:blipFill>
          <a:blip r:embed="rId1"/>
          <a:stretch/>
        </p:blipFill>
        <p:spPr>
          <a:xfrm>
            <a:off x="0" y="460440"/>
            <a:ext cx="91440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gbr-11"/>
          <p:cNvPicPr/>
          <p:nvPr/>
        </p:nvPicPr>
        <p:blipFill>
          <a:blip r:embed="rId1"/>
          <a:stretch/>
        </p:blipFill>
        <p:spPr>
          <a:xfrm>
            <a:off x="0" y="84240"/>
            <a:ext cx="701028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ig-17-12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8656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3"/>
          <p:cNvSpPr/>
          <p:nvPr/>
        </p:nvSpPr>
        <p:spPr>
          <a:xfrm>
            <a:off x="457200" y="304920"/>
            <a:ext cx="7238880" cy="1447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ukuran volume pernapas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gunakan alat spi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6134040" y="3238560"/>
            <a:ext cx="1600200" cy="1066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ti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ig-17-13"/>
          <p:cNvPicPr/>
          <p:nvPr/>
        </p:nvPicPr>
        <p:blipFill>
          <a:blip r:embed="rId1"/>
          <a:stretch/>
        </p:blipFill>
        <p:spPr>
          <a:xfrm>
            <a:off x="0" y="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3"/>
          <p:cNvSpPr/>
          <p:nvPr/>
        </p:nvSpPr>
        <p:spPr>
          <a:xfrm>
            <a:off x="228600" y="4572000"/>
            <a:ext cx="8915400" cy="228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dal volu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volume alun napas/napas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piratory reserve volu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volume cadangan inspir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spiratory reserve volume= volume cadangan ekspir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al volu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volume res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lang kapa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kapasitas paru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tal kapa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kapasitas v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2"/>
          <p:cNvSpPr/>
          <p:nvPr/>
        </p:nvSpPr>
        <p:spPr>
          <a:xfrm>
            <a:off x="380880" y="990720"/>
            <a:ext cx="8763120" cy="29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port Oksi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angkutan O2 ke jaringan tergantung pa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mlah O2 yang masuk ke pa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ukaran gas di paru yang adeku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ran darah menuju jari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pasitas darah mengangkut 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533520" y="3581280"/>
            <a:ext cx="8610480" cy="2895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mlah O2 dalam darah ditentukan ole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mlah O2 yang lar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mlah hemoglobin dalam d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initas hemoglobin terhadap 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2"/>
          <p:cNvSpPr/>
          <p:nvPr/>
        </p:nvSpPr>
        <p:spPr>
          <a:xfrm>
            <a:off x="380880" y="762120"/>
            <a:ext cx="8534520" cy="5638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ksi Hemoglobin &amp; Oks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namika reaksi pengikatan O2 oleh Hemoglobin m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kannya pembawa O2 yang sangat sera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moglobin adalah protein, dibentuk dari 4 subun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ing-masing mengandung gugus heme yang mele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da sebuah rantai polipept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da dewasa normal hemoglobin mengand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ranta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ranta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me kompleks terdiri dari 1 porfirin &amp; 1 atom f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ap masing-masing atom besi dapat mengikat O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ara reversib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2"/>
          <p:cNvSpPr/>
          <p:nvPr/>
        </p:nvSpPr>
        <p:spPr>
          <a:xfrm rot="2859000">
            <a:off x="1308600" y="2461320"/>
            <a:ext cx="20494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"/>
          <p:cNvSpPr/>
          <p:nvPr/>
        </p:nvSpPr>
        <p:spPr>
          <a:xfrm rot="2368800">
            <a:off x="1879200" y="3571560"/>
            <a:ext cx="2147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4"/>
          <p:cNvSpPr/>
          <p:nvPr/>
        </p:nvSpPr>
        <p:spPr>
          <a:xfrm rot="2059200">
            <a:off x="1690200" y="3406320"/>
            <a:ext cx="1287720" cy="203688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 rot="2539800">
            <a:off x="2350800" y="2082960"/>
            <a:ext cx="1447560" cy="198108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6"/>
          <p:cNvSpPr/>
          <p:nvPr/>
        </p:nvSpPr>
        <p:spPr>
          <a:xfrm>
            <a:off x="2057400" y="2514600"/>
            <a:ext cx="1371600" cy="2438280"/>
          </a:xfrm>
          <a:prstGeom prst="ellipse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057400" y="3733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2666880" y="2438280"/>
            <a:ext cx="763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828800" y="23623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1752480" y="46483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3352680" y="45720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 Narrow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3200400" y="2590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 Narrow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3"/>
          <p:cNvSpPr/>
          <p:nvPr/>
        </p:nvSpPr>
        <p:spPr>
          <a:xfrm rot="19765800">
            <a:off x="5556240" y="1883880"/>
            <a:ext cx="1523880" cy="2438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4"/>
          <p:cNvSpPr/>
          <p:nvPr/>
        </p:nvSpPr>
        <p:spPr>
          <a:xfrm rot="2338800">
            <a:off x="6122880" y="1811160"/>
            <a:ext cx="1447920" cy="24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5"/>
          <p:cNvSpPr/>
          <p:nvPr/>
        </p:nvSpPr>
        <p:spPr>
          <a:xfrm rot="19255200">
            <a:off x="6095880" y="2971800"/>
            <a:ext cx="1371600" cy="22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6"/>
          <p:cNvSpPr/>
          <p:nvPr/>
        </p:nvSpPr>
        <p:spPr>
          <a:xfrm rot="1976400">
            <a:off x="5491080" y="3205080"/>
            <a:ext cx="1360440" cy="2220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7"/>
          <p:cNvSpPr/>
          <p:nvPr/>
        </p:nvSpPr>
        <p:spPr>
          <a:xfrm>
            <a:off x="5791320" y="2286000"/>
            <a:ext cx="1447560" cy="2514600"/>
          </a:xfrm>
          <a:prstGeom prst="ellipse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6553080" y="2286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586728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0"/>
          <p:cNvSpPr/>
          <p:nvPr/>
        </p:nvSpPr>
        <p:spPr>
          <a:xfrm>
            <a:off x="5562720" y="2438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1"/>
          <p:cNvSpPr/>
          <p:nvPr/>
        </p:nvSpPr>
        <p:spPr>
          <a:xfrm>
            <a:off x="5638680" y="464832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7086600" y="2438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3"/>
          <p:cNvSpPr/>
          <p:nvPr/>
        </p:nvSpPr>
        <p:spPr>
          <a:xfrm>
            <a:off x="7010280" y="4724280"/>
            <a:ext cx="38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4"/>
          <p:cNvSpPr/>
          <p:nvPr/>
        </p:nvSpPr>
        <p:spPr>
          <a:xfrm>
            <a:off x="2209680" y="5715000"/>
            <a:ext cx="129564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5"/>
          <p:cNvSpPr/>
          <p:nvPr/>
        </p:nvSpPr>
        <p:spPr>
          <a:xfrm>
            <a:off x="5943600" y="5638680"/>
            <a:ext cx="12952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b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6"/>
          <p:cNvSpPr/>
          <p:nvPr/>
        </p:nvSpPr>
        <p:spPr>
          <a:xfrm>
            <a:off x="380880" y="533520"/>
            <a:ext cx="8763120" cy="838080"/>
          </a:xfrm>
          <a:prstGeom prst="roundRect">
            <a:avLst>
              <a:gd name="adj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globin mengikat 4 molekul oksigen per tetra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1828800" y="91440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H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886200" y="12193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 flipH="1">
            <a:off x="3885840" y="13716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809880" y="9144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sigen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752480" y="1676520"/>
            <a:ext cx="579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H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191120" y="198108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H="1">
            <a:off x="4190760" y="213372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1752480" y="2590920"/>
            <a:ext cx="5791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H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4191120" y="297180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 flipH="1">
            <a:off x="4190760" y="31240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1752480" y="3429000"/>
            <a:ext cx="5867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H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4267080" y="38098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 flipH="1">
            <a:off x="4267080" y="39625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457200" y="5029200"/>
            <a:ext cx="868680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ksi Hb dan Oksigen ini cepat kurang dari 0,01 det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oksigenasi (reduksi) Hb4O8 juga sangat cep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6"/>
          <p:cNvSpPr/>
          <p:nvPr/>
        </p:nvSpPr>
        <p:spPr>
          <a:xfrm>
            <a:off x="304920" y="380880"/>
            <a:ext cx="3429000" cy="6098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ksi Hb dan 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Fig"/>
          <p:cNvPicPr/>
          <p:nvPr/>
        </p:nvPicPr>
        <p:blipFill>
          <a:blip r:embed="rId1"/>
          <a:stretch/>
        </p:blipFill>
        <p:spPr>
          <a:xfrm>
            <a:off x="304920" y="304920"/>
            <a:ext cx="4483080" cy="632448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3"/>
          <p:cNvSpPr/>
          <p:nvPr/>
        </p:nvSpPr>
        <p:spPr>
          <a:xfrm>
            <a:off x="4800600" y="4191120"/>
            <a:ext cx="4343400" cy="2666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tukaran G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ara atmosfir ke par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u ke pembuluh da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or gas dalam da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n perubahan gas di 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952880" y="3429000"/>
            <a:ext cx="1524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e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gbr-1"/>
          <p:cNvPicPr/>
          <p:nvPr/>
        </p:nvPicPr>
        <p:blipFill>
          <a:blip r:embed="rId1"/>
          <a:stretch/>
        </p:blipFill>
        <p:spPr>
          <a:xfrm>
            <a:off x="0" y="-76320"/>
            <a:ext cx="883908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>
            <a:off x="1828800" y="2286000"/>
            <a:ext cx="5181480" cy="160020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209680" y="1219320"/>
            <a:ext cx="10670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209680" y="27432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3048120" y="29718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6"/>
          <p:cNvSpPr/>
          <p:nvPr/>
        </p:nvSpPr>
        <p:spPr>
          <a:xfrm flipH="1">
            <a:off x="3048120" y="3124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657600" y="281952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2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8"/>
          <p:cNvSpPr/>
          <p:nvPr/>
        </p:nvSpPr>
        <p:spPr>
          <a:xfrm>
            <a:off x="4648320" y="2971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4952880" y="312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 flipH="1">
            <a:off x="4648320" y="3124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105520" y="281952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HCO3</a:t>
            </a:r>
            <a:r>
              <a:rPr b="1" lang="en-US" sz="1800" spc="-1" strike="noStrike" baseline="54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5410080" y="31240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5105520" y="3505320"/>
            <a:ext cx="1523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Hb</a:t>
            </a:r>
            <a:r>
              <a:rPr b="1" lang="en-US" sz="18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 flipH="1">
            <a:off x="4648320" y="3733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4648320" y="3886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3581280" y="35812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H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7"/>
          <p:cNvSpPr/>
          <p:nvPr/>
        </p:nvSpPr>
        <p:spPr>
          <a:xfrm>
            <a:off x="6019920" y="22860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8"/>
          <p:cNvSpPr/>
          <p:nvPr/>
        </p:nvSpPr>
        <p:spPr>
          <a:xfrm flipV="1">
            <a:off x="6019920" y="21333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6400800" y="2209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6248520" y="18288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1"/>
          <p:cNvSpPr/>
          <p:nvPr/>
        </p:nvSpPr>
        <p:spPr>
          <a:xfrm>
            <a:off x="2666880" y="18288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3429000" y="22860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 darah me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3"/>
          <p:cNvSpPr/>
          <p:nvPr/>
        </p:nvSpPr>
        <p:spPr>
          <a:xfrm>
            <a:off x="609480" y="4572000"/>
            <a:ext cx="541044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gkasan : Transport C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4"/>
          <p:cNvSpPr/>
          <p:nvPr/>
        </p:nvSpPr>
        <p:spPr>
          <a:xfrm>
            <a:off x="609480" y="5257800"/>
            <a:ext cx="8534520" cy="160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am Plas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lar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gan protein plasma membentuk senyawa karba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rasi,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 bufer,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lam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685800" y="914400"/>
            <a:ext cx="480060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CO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lam sel darah mera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533520" y="2590920"/>
            <a:ext cx="8610480" cy="2361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lar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mbentukan karbamino H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rasi,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bufer, 70 % HCO3 memasuki 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geseran Cl</a:t>
            </a:r>
            <a:r>
              <a:rPr b="0" lang="en-US" sz="3600" spc="-1" strike="noStrike" baseline="36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600" spc="-1" strike="noStrike" baseline="4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 dalam sel, mOsmol/L dal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 flipV="1">
            <a:off x="5638680" y="3200040"/>
            <a:ext cx="228600" cy="304920"/>
          </a:xfrm>
          <a:prstGeom prst="line">
            <a:avLst/>
          </a:prstGeom>
          <a:ln w="284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 flipV="1">
            <a:off x="2209680" y="4495320"/>
            <a:ext cx="228600" cy="304920"/>
          </a:xfrm>
          <a:prstGeom prst="line">
            <a:avLst/>
          </a:prstGeom>
          <a:ln w="284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fig-18-9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30337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3"/>
          <p:cNvSpPr/>
          <p:nvPr/>
        </p:nvSpPr>
        <p:spPr>
          <a:xfrm>
            <a:off x="380880" y="304920"/>
            <a:ext cx="8763120" cy="2361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ktor-faktor yang mempengaruhi afinitas hemogl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hadap oksi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dar 2,3 difosfogliserat (DPG; 2,3-DP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380880" y="5943600"/>
            <a:ext cx="876312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hu   &amp; pH     kurva bergeser ke kanan, dibutuhkan PO2 lebih tinggi agar Hb dap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gikat O2. Afinitas hemoglobin terhadap O2    pada pH     , DPG    afin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"/>
          <p:cNvSpPr/>
          <p:nvPr/>
        </p:nvSpPr>
        <p:spPr>
          <a:xfrm flipV="1">
            <a:off x="1066680" y="61718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1905120" y="6172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5334120" y="64771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6477120" y="64771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"/>
          <p:cNvSpPr/>
          <p:nvPr/>
        </p:nvSpPr>
        <p:spPr>
          <a:xfrm flipV="1">
            <a:off x="7315200" y="640044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8381880" y="6477120"/>
            <a:ext cx="15264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762120" y="609480"/>
            <a:ext cx="754380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dali Persarafan pada Pernapa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685800" y="2286000"/>
            <a:ext cx="8458200" cy="3657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dali pusat pernapasan di : Medula Oblong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bagi at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 Dorsalis (Neuron 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epaskan impuls selama Inspir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euron Ventralis (Neuron 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a pernapasan tenang neuron E tidak m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kan impu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/>
          <p:cNvSpPr/>
          <p:nvPr/>
        </p:nvSpPr>
        <p:spPr>
          <a:xfrm>
            <a:off x="533520" y="533520"/>
            <a:ext cx="6400800" cy="1066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ngaruh Pons &amp; Nervus Vag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"/>
          <p:cNvSpPr/>
          <p:nvPr/>
        </p:nvSpPr>
        <p:spPr>
          <a:xfrm>
            <a:off x="380880" y="2133720"/>
            <a:ext cx="8763120" cy="289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at pernapasan di M.O. dimodifikasi ol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 pada Pons serta oleh serat aferen N.Va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atu daerah pnemotaksik di Pons mengand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 I dan neuron 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usakan daerah ini pernapasan menjadi lamb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fig-18-15"/>
          <p:cNvPicPr/>
          <p:nvPr/>
        </p:nvPicPr>
        <p:blipFill>
          <a:blip r:embed="rId1"/>
          <a:stretch/>
        </p:blipFill>
        <p:spPr>
          <a:xfrm>
            <a:off x="0" y="33480"/>
            <a:ext cx="7162920" cy="67896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3429000" y="5638680"/>
            <a:ext cx="358128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bagai keadaan yang dap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stimulasi pusat pernapa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1066680" y="457200"/>
            <a:ext cx="7315200" cy="1219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gaturan Aktifitas Pernapas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1066680" y="2362320"/>
            <a:ext cx="8077320" cy="3504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  CO2  &amp; [ H+] art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ubahan berlawanan mengakibatkan inhib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"/>
          <p:cNvSpPr/>
          <p:nvPr/>
        </p:nvSpPr>
        <p:spPr>
          <a:xfrm flipV="1">
            <a:off x="1905120" y="3123720"/>
            <a:ext cx="0" cy="228600"/>
          </a:xfrm>
          <a:prstGeom prst="line">
            <a:avLst/>
          </a:prstGeom>
          <a:ln w="284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"/>
          <p:cNvSpPr/>
          <p:nvPr/>
        </p:nvSpPr>
        <p:spPr>
          <a:xfrm>
            <a:off x="1676520" y="3581280"/>
            <a:ext cx="0" cy="304920"/>
          </a:xfrm>
          <a:prstGeom prst="line">
            <a:avLst/>
          </a:prstGeom>
          <a:ln w="284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5181480" y="3124080"/>
            <a:ext cx="304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638680" y="342900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napasan di M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ing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838080" y="838080"/>
            <a:ext cx="510552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ngendalian Kimia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762120" y="2286000"/>
            <a:ext cx="8381880" cy="3657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2 ( melalui konsentrasi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 L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 cairan interstisiel ot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2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elalui glomus karotikus dan aortik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1981080" y="4038480"/>
            <a:ext cx="76320" cy="990720"/>
          </a:xfrm>
          <a:custGeom>
            <a:avLst/>
            <a:gdLst>
              <a:gd name="textAreaLeft" fmla="*/ 0 w 76320"/>
              <a:gd name="textAreaRight" fmla="*/ 5364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2"/>
          <p:cNvSpPr/>
          <p:nvPr/>
        </p:nvSpPr>
        <p:spPr>
          <a:xfrm>
            <a:off x="685800" y="762120"/>
            <a:ext cx="63244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ngendalian non Ki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"/>
          <p:cNvSpPr/>
          <p:nvPr/>
        </p:nvSpPr>
        <p:spPr>
          <a:xfrm>
            <a:off x="533520" y="2514600"/>
            <a:ext cx="8610480" cy="3733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eran N. Vagus di reseptor Saluran napas d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eren dari Pons, Hipotalamus &amp; Sistem Limb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eran dari Propiosep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eren dari : Baroreseptor arte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rium, Ventrikel, dan Pulm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gbr-14"/>
          <p:cNvPicPr/>
          <p:nvPr/>
        </p:nvPicPr>
        <p:blipFill>
          <a:blip r:embed="rId1"/>
          <a:stretch/>
        </p:blipFill>
        <p:spPr>
          <a:xfrm>
            <a:off x="0" y="0"/>
            <a:ext cx="437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2"/>
          <p:cNvSpPr/>
          <p:nvPr/>
        </p:nvSpPr>
        <p:spPr>
          <a:xfrm>
            <a:off x="0" y="457200"/>
            <a:ext cx="9144000" cy="3886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ilah Pernapas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napasan luar : penyerapan oksigen dan pengelu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ksternal)            aran CO2 dari tubu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Pernapasan Dalam: penggunaan O2 dan pemb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ternal)               kan CO2 oleh sel-sel, pertuka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 antar sel tubuh dengan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ir sekitarny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0" y="4419720"/>
            <a:ext cx="914400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 pernapasan  terdiri atas: - Organ pertukaran gas (paru-par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ompa ventilasi p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-152280" y="5410080"/>
            <a:ext cx="9296280" cy="1447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mpa Ventilasi Paru terdiri:- Dinding d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tot-otot pernapasan; meningkatka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runkan ukuran rongga d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Fig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Fig"/>
          <p:cNvPicPr/>
          <p:nvPr/>
        </p:nvPicPr>
        <p:blipFill>
          <a:blip r:embed="rId1"/>
          <a:stretch/>
        </p:blipFill>
        <p:spPr>
          <a:xfrm>
            <a:off x="380880" y="304920"/>
            <a:ext cx="8610840" cy="34257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"/>
          <p:cNvSpPr/>
          <p:nvPr/>
        </p:nvSpPr>
        <p:spPr>
          <a:xfrm>
            <a:off x="457200" y="4267080"/>
            <a:ext cx="8458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tong pleura (dabel membran) mengelilingi paru, diilustrasikan udara da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on yang dikelilingi cairan dalam ba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4"/>
          <p:cNvSpPr/>
          <p:nvPr/>
        </p:nvSpPr>
        <p:spPr>
          <a:xfrm>
            <a:off x="838080" y="609480"/>
            <a:ext cx="2819520" cy="129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ipoks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533520" y="2362320"/>
            <a:ext cx="8458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rupakan defisiensi O2 di tingkat jaringa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tilah yang lebih tepat dibanding anok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oksia: jarang benar-benar tidak ada 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lam jaring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4"/>
          <p:cNvSpPr/>
          <p:nvPr/>
        </p:nvSpPr>
        <p:spPr>
          <a:xfrm>
            <a:off x="380880" y="152280"/>
            <a:ext cx="571500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mbagian Hipok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0" y="1447920"/>
            <a:ext cx="9144000" cy="5410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ara Umum dibagi atas 4 Jen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Hipoksia hipoksik (anoksia anoksik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at PO2 darah arteri berkura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2. Hipoksia Anemi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at PO2 arteri normal, jumlah Hb ku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3. Hipoksia stagnan (iskemi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ran darak ke jaringan berkura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laupun PO2 dan Konsentrasi Hb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4. Hipoksia histotoks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mlah O2 jaringan adekuat, tetapi karena ker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at toksik, sel/jaringan tidak dapat gunakan O2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685800" y="380880"/>
            <a:ext cx="48769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ipoksia hipoks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533520" y="1981080"/>
            <a:ext cx="8458200" cy="2590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poksia hipoksi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rupakan masalah pada individu norm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 tempat ketinggian, dapat juga komplika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ri pneumonia serta penyakit lain susun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napas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533520" y="4648320"/>
            <a:ext cx="8610480" cy="2209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rbagai penyakit penyebab hipoksia hipoksi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yakit jantung kongenital (kebocoran septum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yakit kegagalan pernapas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Fibrosis paru, 2. Depresi pernapasan (akibat morf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Peumotoraks, 4 Obstruksi bronk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380880" y="304920"/>
            <a:ext cx="42674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ipoksia Anem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0" y="1828800"/>
            <a:ext cx="9144000" cy="3657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poksia karena anemia, pada keada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tirahat tidak parah, kecuali anemia be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,3 DPG eritrosit meningk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da anemia dengan aktifitas tubuh ak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mpak lebih berat, karena kemampu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ningkatkan pengangkutan O2 terba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4"/>
          <p:cNvSpPr/>
          <p:nvPr/>
        </p:nvSpPr>
        <p:spPr>
          <a:xfrm>
            <a:off x="685800" y="304920"/>
            <a:ext cx="5029200" cy="1066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poksia Stagn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85800" y="1676520"/>
            <a:ext cx="84582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poksia terjadi karena lambatnya sirkula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pat terjadi pada keadaan syok, dap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ngenai organ-organ  sepert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njal, jantung, hati dan otak &amp; jaringan l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457200" y="380880"/>
            <a:ext cx="4876920" cy="1143000"/>
          </a:xfrm>
          <a:prstGeom prst="rect">
            <a:avLst/>
          </a:prstGeom>
          <a:noFill/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poksia sitotoks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304920" y="1905120"/>
            <a:ext cx="883908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poksia terjadi kerena penghambat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ses oksidasi di jaringan oleh zat toksi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sal sian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anida menghambat sitokrom oksid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n mungkin enzim 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tokrom berperan pada fosforila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ksidatif untuk hasilkan A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4"/>
          <p:cNvSpPr/>
          <p:nvPr/>
        </p:nvSpPr>
        <p:spPr>
          <a:xfrm>
            <a:off x="533520" y="304920"/>
            <a:ext cx="3886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klimatisas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28600" y="1905120"/>
            <a:ext cx="868680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kanisme kompensasi tubuh terhadap perubah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anan atmosfir yang cukup bes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a tempat ketinggian, tubuh akan mengala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limatisasi, bila tidak  terjadi aklimatisasi p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tinggian 3700 m timbul gejala: Iritabilitas m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a ketinggian 5500 m timbul gejala hipoksia p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a ketinggian 6100 m kesadaran bisa menghila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limatisasi di tempat ketinggian terjadi mela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bagai mekanisme; a/l kadar O2 rendah dapat m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sang pembentukan eritropoetin, sitok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sidase dll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ilasi Peru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 peristiwa fungsional utama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42800"/>
            <a:ext cx="822960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ilasi paru: masuk dan keluarnya udara antara atmosfir dan alveoli pa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usi O2 dan CO2: antara alveoli dan d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O2 dan CO2 darah dan cairan tubuh ke dan dari 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aturan dan hal-hal lain dari pernafas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380880" y="609480"/>
            <a:ext cx="624852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kanisme Ventilasi Pa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04920" y="2133720"/>
            <a:ext cx="88390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apragma : bergerak turun/naik unt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mperbesar atau memperkec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ngga d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. Depreasi/Elevasi: tulang iga untu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mperbesar/memperkecil diame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eroposterior rongga d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4"/>
          <p:cNvSpPr/>
          <p:nvPr/>
        </p:nvSpPr>
        <p:spPr>
          <a:xfrm>
            <a:off x="304920" y="1295280"/>
            <a:ext cx="77724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ot-otot mengelevasi rangka d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152280" y="2286000"/>
            <a:ext cx="8991720" cy="457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ot-otot inspir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Otot interkostalis ekster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ot-otot pembantu Inspir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rnokledomastoideus. Mengangkat stern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 a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Seratus anterior, mengangkat sebagian 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Skalenus, mengangkat  2 iga pert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304920" y="533520"/>
            <a:ext cx="86104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tot yang menurunkan rangka d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228600" y="1981080"/>
            <a:ext cx="8686800" cy="358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ktus Abdomin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nekan isi abdomen ke atas ke ara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aprag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. Interkostalis internu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gbr-2"/>
          <p:cNvPicPr/>
          <p:nvPr/>
        </p:nvPicPr>
        <p:blipFill>
          <a:blip r:embed="rId1"/>
          <a:stretch/>
        </p:blipFill>
        <p:spPr>
          <a:xfrm>
            <a:off x="0" y="320760"/>
            <a:ext cx="9144000" cy="621648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3"/>
          <p:cNvSpPr/>
          <p:nvPr/>
        </p:nvSpPr>
        <p:spPr>
          <a:xfrm>
            <a:off x="2971800" y="5029200"/>
            <a:ext cx="327672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ta suar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4:53:54Z</dcterms:created>
  <dc:creator>Dr. Marwito</dc:creator>
  <dc:description/>
  <dc:language>en-US</dc:language>
  <cp:lastModifiedBy>fk-uki</cp:lastModifiedBy>
  <dcterms:modified xsi:type="dcterms:W3CDTF">2011-11-08T20:37:50Z</dcterms:modified>
  <cp:revision>13</cp:revision>
  <dc:subject/>
  <dc:title>Sistem  Pernapasan</dc:title>
</cp:coreProperties>
</file>