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9E75-9D56-4370-9D1B-B8D587AE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416EF-F15D-4653-8023-2F678A82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BBEF-BA56-47A8-9994-370B71E0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72CE-2DF2-48EF-BB00-E56C407F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0AB0-B898-4C97-9FDE-ECF9B7D3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E2B2-BA08-4CEE-9E6B-7F6EEF9D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E05E-281E-4880-9D5F-BD5F028F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7500-1F30-4CCF-A405-EDFA5978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2455-55A5-4355-8FF8-10A162C9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CBE9-9D5D-4A2B-8D57-3E66FAA2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F620-467D-4477-9EF6-8AA0CE74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1406-C16E-47E7-9FFB-E38CE682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6FE-7B51-4DF5-BF5D-75E68368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FE8B-BD29-4CB9-B3F9-385BC11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8DDA-69AA-4733-8CE2-E67BFFC4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163E-FBCB-4067-97AF-86518B20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4128-0F27-4411-98FF-C018917A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0739-EB14-47C5-AC29-765D3A1C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24571-4369-442D-9887-FD6943A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C65E3-F019-46B2-9BA8-93D82E65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1AE2-0EAF-48F2-9C43-3732874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726E4-C2FD-4427-BA5F-2EFE2E43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9236-65DC-4724-9794-2E19FC98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9C30-F517-487E-9355-AE785C9B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04AE-BD2A-4817-B50D-D48053B18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3F81-6264-471C-B35F-40C0402D9D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  Pernapasan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6840" y="42667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njauan Fisiolog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leh:Marwito W. dr., M.Biomed., AIF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304920" y="685800"/>
            <a:ext cx="8839080" cy="1752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kuensi Pernapasan: Normal pada istira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5 kali/mnt atau 500 ml udara per sa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li napas, 6 - 8 L udara per me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6320" y="3352680"/>
            <a:ext cx="3429000" cy="838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tomi P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28600" y="3733920"/>
            <a:ext cx="891540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uran Udara: Udara di hidung dan faring dihangat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dilembabkan. Udara inspirasi kemud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trakea, bronkus, bronkiolus respiratori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duktus alveolaris  sampai ke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28600" y="228600"/>
            <a:ext cx="89154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abangan antara trakea sampai ke sakus alveolar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kali percabangan dibagi atas : - zona kondu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zona respi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228600" y="1828800"/>
            <a:ext cx="8915400" cy="259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 Konduks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kus, bronkiolus &amp; bronkiolus terminalis, seba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 penyaluran udara (16  percabanga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 Re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kiolus respiratorius, duktus alveolaris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i zona pertukaran udara / gas (7 percabang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80880" y="4648320"/>
            <a:ext cx="8686800" cy="2209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ap alveoli dikelilingi oleh pembuluh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iler paru dan struktur antara udara &amp; kal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at terjadinya difusi O2 &amp; CO2 sangat tip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veoli Manusia : 300 juta, luas dinding alveoli 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hubungan dengan kapiler : 70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gbr-3"/>
          <p:cNvPicPr/>
          <p:nvPr/>
        </p:nvPicPr>
        <p:blipFill>
          <a:blip r:embed="rId1"/>
          <a:stretch/>
        </p:blipFill>
        <p:spPr>
          <a:xfrm>
            <a:off x="60480" y="0"/>
            <a:ext cx="58068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5105520" y="3809880"/>
            <a:ext cx="4038480" cy="3048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ap alveoli dilapisi 2 je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epi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tipe I: merupakan sel pel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ama, terdiri dari sel gep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tipe II: lebih tebal, bany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an inklusi lamelar, m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arkan surfak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mungkinan terdapat sel l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makrofag, limfos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 pleura, mast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76320" y="457200"/>
            <a:ext cx="57909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kus dan Persarafan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1600200"/>
            <a:ext cx="9144000" cy="4495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kea dan Bronkus: - Mengandung tulang ra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dikit otot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nding dilapisi epitel bersil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andung mukos dan se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kiolus dan Bronkiolus Terminal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nding tidak mengandung tulang ra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nyak mengandung otot p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erdapat epitel bers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idak terdapat kelen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04920" y="533520"/>
            <a:ext cx="8839080" cy="289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araf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ding bronkus dan bronkiolus oleh saraf oto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sangan kolinergik: Bronkus konstri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ngsangan Adrenergik: Bronkus dilatasi, p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tel bronkus banyak ditemukan res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ergi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&amp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76320" y="3505320"/>
            <a:ext cx="8915400" cy="2590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kulasi Par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i brakialis: merupakan cabang aorta, berfun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i nutrisi pada bronkus dan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a brakialis: mengalirkan darah kembali melalui ve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ygos ke jant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fig-17-2-a"/>
          <p:cNvPicPr/>
          <p:nvPr/>
        </p:nvPicPr>
        <p:blipFill>
          <a:blip r:embed="rId1"/>
          <a:stretch/>
        </p:blipFill>
        <p:spPr>
          <a:xfrm>
            <a:off x="0" y="0"/>
            <a:ext cx="558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533520" y="533520"/>
            <a:ext cx="487656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kanisme Pernapa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457200" y="1600200"/>
            <a:ext cx="8686800" cy="312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u-paru dan dinding dada merupakan strukt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: antara dinding dada –paru terdapat selap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is cairan. Paru-paru dapat dengan mudah b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k sepanjang dinding dada, seperti dua lempe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ca yang direkatkan dengan air, mudah diges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ah dipisa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57200" y="4724280"/>
            <a:ext cx="8610480" cy="2133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anan antara dinding dada-paru (ruang intraple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atmosfirik. Apabila dinding dada dibuka paru-pa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n kolaps. Apabila paru-paru kehilangan elastisi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a dada menggembung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rel shap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380880" y="609480"/>
            <a:ext cx="8763120" cy="426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upakan proses ak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traksi otot-otot inspirasi volume intratora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ing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anan intrapleura di basis paru = - 2,5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awal inspirasi tekanan intra pleura = - 6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irasi kuat tekanan intra pleura = - 30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akhir inspirasi daya rekoil paru menarik d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a kembali ke kedudukan ekspir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80880" y="4800600"/>
            <a:ext cx="8382240" cy="18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t-otot inspira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diap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interkostalis eksternus, berjalan ke arah baw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762120" y="533520"/>
            <a:ext cx="83818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t-otot inspirasi tamba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skal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okledomastoid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457200" y="2286000"/>
            <a:ext cx="8686800" cy="457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kspiras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upakan proses pas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dak memerlukan kontraksi otot untuk menurun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intra tora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penurunan volume intra torakal &amp; ekspir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ksa: Otot-otot ekspirasi berkontra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-otot ek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tot interkostalis internus; berjalan miring ke baw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akang 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tot dinding abdomen ant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609480" y="457200"/>
            <a:ext cx="358164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ti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609480" y="1981080"/>
            <a:ext cx="8534520" cy="3505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t inspirasi: otot abduktor laring berkontraks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isahkan pita suara &amp; glotis membu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t menelan/terseda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 adduktor laring kontraksi pita suara menu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cegah aspirasi ke paru-pa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t-otot glotis dipersarafi oleh saraf Vag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533520" y="762120"/>
            <a:ext cx="358128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napas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304920" y="2057400"/>
            <a:ext cx="86104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juan: -  Menyediakan oksigen bagi jari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Membuang karbon dioks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57200" y="3886200"/>
            <a:ext cx="8686800" cy="2971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gsi : - Menyediakan oks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iminasi karbon dioks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gulasi ion Hydrogen dalam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mberi bentuk su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tahanan terhadap mikroba 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ngaruh terhadap konsentrasi kimia darah mela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es di kapiler p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gbr-12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br-12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gbr-11"/>
          <p:cNvPicPr/>
          <p:nvPr/>
        </p:nvPicPr>
        <p:blipFill>
          <a:blip r:embed="rId1"/>
          <a:stretch/>
        </p:blipFill>
        <p:spPr>
          <a:xfrm>
            <a:off x="0" y="84240"/>
            <a:ext cx="701028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ig-17-12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8656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457200" y="304920"/>
            <a:ext cx="7238880" cy="14475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ukuran volume pernapas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gunakan alat spi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6134040" y="3238560"/>
            <a:ext cx="16002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t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ig-17-13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228600" y="4572000"/>
            <a:ext cx="8915400" cy="228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dal 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olume alun napas/napas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piratory reserve 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olume cadangan inspi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spiratory reserve volume= volume cadangan ekspir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volu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olume res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lang kapa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apasitas paru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kapa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apasitas v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380880" y="990720"/>
            <a:ext cx="8763120" cy="29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Oks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ngkutan O2 ke jaringan tergantung p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O2 yang masuk ke p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ukaran gas di paru yang adek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ran darah menuju jari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asitas darah mengangkut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533520" y="3581280"/>
            <a:ext cx="8610480" cy="289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mlah O2 dalam darah ditentukan 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O2 yang lar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lah hemoglobin dalam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nitas hemoglobin terhadap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2"/>
          <p:cNvSpPr/>
          <p:nvPr/>
        </p:nvSpPr>
        <p:spPr>
          <a:xfrm>
            <a:off x="380880" y="762120"/>
            <a:ext cx="8534520" cy="5638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ksi Hemoglobin &amp; Oks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namika reaksi pengikatan O2 oleh Hemoglobin m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kannya pembawa O2 yang sangat ser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moglobin adalah protein, dibentuk dari 4 subun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ing-masing mengandung gugus heme yang mele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sebuah rantai polipept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da dewasa normal hemoglobin mengan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ranta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ranta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me kompleks terdiri dari 1 porfirin &amp; 1 atom f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ap masing-masing atom besi dapat mengikat O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ara reversib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2"/>
          <p:cNvSpPr/>
          <p:nvPr/>
        </p:nvSpPr>
        <p:spPr>
          <a:xfrm rot="2859000">
            <a:off x="1308600" y="2461320"/>
            <a:ext cx="204948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"/>
          <p:cNvSpPr/>
          <p:nvPr/>
        </p:nvSpPr>
        <p:spPr>
          <a:xfrm rot="2368800">
            <a:off x="1879200" y="3571560"/>
            <a:ext cx="2147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 rot="2059200">
            <a:off x="1690200" y="3406320"/>
            <a:ext cx="1287720" cy="203688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 rot="2539800">
            <a:off x="2350800" y="2082960"/>
            <a:ext cx="1447560" cy="198108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>
            <a:off x="2057400" y="2514600"/>
            <a:ext cx="1371600" cy="24382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0574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666880" y="2438280"/>
            <a:ext cx="76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828800" y="2362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752480" y="46483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352680" y="45720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Narrow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3200400" y="259092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Narrow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3"/>
          <p:cNvSpPr/>
          <p:nvPr/>
        </p:nvSpPr>
        <p:spPr>
          <a:xfrm rot="19765800">
            <a:off x="5556240" y="1883880"/>
            <a:ext cx="1523880" cy="2438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4"/>
          <p:cNvSpPr/>
          <p:nvPr/>
        </p:nvSpPr>
        <p:spPr>
          <a:xfrm rot="2338800">
            <a:off x="6122880" y="1811160"/>
            <a:ext cx="1447920" cy="24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5"/>
          <p:cNvSpPr/>
          <p:nvPr/>
        </p:nvSpPr>
        <p:spPr>
          <a:xfrm rot="19255200">
            <a:off x="6095880" y="2971800"/>
            <a:ext cx="1371600" cy="22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 rot="1976400">
            <a:off x="5491080" y="3205080"/>
            <a:ext cx="1360440" cy="2220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5791320" y="2286000"/>
            <a:ext cx="1447560" cy="251460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6553080" y="2286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58672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5562720" y="2438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5638680" y="464832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7086600" y="2438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7010280" y="472428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4"/>
          <p:cNvSpPr/>
          <p:nvPr/>
        </p:nvSpPr>
        <p:spPr>
          <a:xfrm>
            <a:off x="2209680" y="5715000"/>
            <a:ext cx="129564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5"/>
          <p:cNvSpPr/>
          <p:nvPr/>
        </p:nvSpPr>
        <p:spPr>
          <a:xfrm>
            <a:off x="5943600" y="56386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b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6"/>
          <p:cNvSpPr/>
          <p:nvPr/>
        </p:nvSpPr>
        <p:spPr>
          <a:xfrm>
            <a:off x="380880" y="533520"/>
            <a:ext cx="8763120" cy="8380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 mengikat 4 molekul oksigen per tetra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828800" y="91440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886200" y="1219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 flipH="1">
            <a:off x="3885840" y="13716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9880" y="9144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sigen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1752480" y="16765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191120" y="19810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>
            <a:off x="4190760" y="21337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752480" y="2590920"/>
            <a:ext cx="5791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191120" y="297180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 flipH="1">
            <a:off x="4190760" y="3124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1752480" y="3429000"/>
            <a:ext cx="586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42670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H="1">
            <a:off x="4267080" y="39625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57200" y="5029200"/>
            <a:ext cx="86868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ksi Hb dan Oksigen ini cepat kurang dari 0,01 det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oksigenasi (reduksi) Hb4O8 juga sangat ce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04920" y="380880"/>
            <a:ext cx="3429000" cy="6098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ksi Hb dan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Fig"/>
          <p:cNvPicPr/>
          <p:nvPr/>
        </p:nvPicPr>
        <p:blipFill>
          <a:blip r:embed="rId1"/>
          <a:stretch/>
        </p:blipFill>
        <p:spPr>
          <a:xfrm>
            <a:off x="304920" y="304920"/>
            <a:ext cx="4483080" cy="632448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4800600" y="4191120"/>
            <a:ext cx="4343400" cy="2666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tukaran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ara atmosfir ke par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u ke pembuluh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or gas dalam d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n perubahan gas di 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952880" y="3429000"/>
            <a:ext cx="1524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gbr-1"/>
          <p:cNvPicPr/>
          <p:nvPr/>
        </p:nvPicPr>
        <p:blipFill>
          <a:blip r:embed="rId1"/>
          <a:stretch/>
        </p:blipFill>
        <p:spPr>
          <a:xfrm>
            <a:off x="0" y="-76320"/>
            <a:ext cx="883908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1828800" y="2286000"/>
            <a:ext cx="5181480" cy="1600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09680" y="1219320"/>
            <a:ext cx="10670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20968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8120" y="29718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6"/>
          <p:cNvSpPr/>
          <p:nvPr/>
        </p:nvSpPr>
        <p:spPr>
          <a:xfrm flipH="1">
            <a:off x="304812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657600" y="28195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4648320" y="2971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495288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 flipH="1">
            <a:off x="4648320" y="31240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105520" y="28195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HCO3</a:t>
            </a:r>
            <a:r>
              <a:rPr b="1" lang="en-US" sz="1800" spc="-1" strike="noStrike" baseline="54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5410080" y="3124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105520" y="350532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Hb</a:t>
            </a:r>
            <a:r>
              <a:rPr b="1" lang="en-US" sz="1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4648320" y="3733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46483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3581280" y="35812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H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7"/>
          <p:cNvSpPr/>
          <p:nvPr/>
        </p:nvSpPr>
        <p:spPr>
          <a:xfrm>
            <a:off x="601992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V="1">
            <a:off x="6019920" y="21333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6400800" y="2209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6248520" y="18288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2666880" y="18288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3429000" y="22860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 darah m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3"/>
          <p:cNvSpPr/>
          <p:nvPr/>
        </p:nvSpPr>
        <p:spPr>
          <a:xfrm>
            <a:off x="609480" y="4572000"/>
            <a:ext cx="54104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kasan : Transport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4"/>
          <p:cNvSpPr/>
          <p:nvPr/>
        </p:nvSpPr>
        <p:spPr>
          <a:xfrm>
            <a:off x="609480" y="5257800"/>
            <a:ext cx="8534520" cy="160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Plas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lar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protein plasma membentuk senyawa karba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rasi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bufer,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lam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685800" y="914400"/>
            <a:ext cx="48006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CO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am sel darah mera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533520" y="2590920"/>
            <a:ext cx="8610480" cy="23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lar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bentukan karbamino H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rasi,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bufer, 70 % HCO3 memasuki 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geseran Cl</a:t>
            </a:r>
            <a:r>
              <a:rPr b="0" lang="en-US" sz="3600" spc="-1" strike="noStrike" baseline="36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 baseline="4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 dalam sel, mOsmol/L da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 flipV="1">
            <a:off x="5638680" y="3200040"/>
            <a:ext cx="228600" cy="30492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V="1">
            <a:off x="2209680" y="4495320"/>
            <a:ext cx="228600" cy="30492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fig-18-9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3033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3"/>
          <p:cNvSpPr/>
          <p:nvPr/>
        </p:nvSpPr>
        <p:spPr>
          <a:xfrm>
            <a:off x="380880" y="304920"/>
            <a:ext cx="8763120" cy="2361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or-faktor yang mempengaruhi afinitas hemogl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hadap oksi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ar 2,3 difosfogliserat (DPG; 2,3-DP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380880" y="5943600"/>
            <a:ext cx="87631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hu   &amp; pH     kurva bergeser ke kanan, dibutuhkan PO2 lebih tinggi agar Hb d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gikat O2. Afinitas hemoglobin terhadap O2    pada pH     , DPG    afin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 flipV="1">
            <a:off x="1066680" y="6171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190512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5334120" y="64771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6477120" y="6477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"/>
          <p:cNvSpPr/>
          <p:nvPr/>
        </p:nvSpPr>
        <p:spPr>
          <a:xfrm flipV="1">
            <a:off x="7315200" y="640044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8381880" y="6477120"/>
            <a:ext cx="1526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762120" y="609480"/>
            <a:ext cx="75438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dali Persarafan pada Pernapa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685800" y="2286000"/>
            <a:ext cx="845820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dali pusat pernapasan di : Medula Oblon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bagi at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Dorsalis (Neuron 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paskan impuls selama Inspi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euron Ventralis (Neuron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pernapasan tenang neuron E tidak m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kan impu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533520" y="533520"/>
            <a:ext cx="64008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garuh Pons &amp; Nervus Vag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"/>
          <p:cNvSpPr/>
          <p:nvPr/>
        </p:nvSpPr>
        <p:spPr>
          <a:xfrm>
            <a:off x="380880" y="2133720"/>
            <a:ext cx="8763120" cy="2895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at pernapasan di M.O. dimodifikasi o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pada Pons serta oleh serat aferen N.V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atu daerah pnemotaksik di Pons mengand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I dan neuron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usakan daerah ini pernapasan menjadi lam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fig-18-15"/>
          <p:cNvPicPr/>
          <p:nvPr/>
        </p:nvPicPr>
        <p:blipFill>
          <a:blip r:embed="rId1"/>
          <a:stretch/>
        </p:blipFill>
        <p:spPr>
          <a:xfrm>
            <a:off x="0" y="33480"/>
            <a:ext cx="7162920" cy="6789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3429000" y="5638680"/>
            <a:ext cx="358128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agai keadaan yang da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stimulasi pusat pernapa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1066680" y="457200"/>
            <a:ext cx="7315200" cy="1219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gaturan Aktifitas Pernapa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1066680" y="2362320"/>
            <a:ext cx="8077320" cy="3504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  CO2  &amp; [ H+] ar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ubahan berlawanan mengakibatkan inhib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1905120" y="3123720"/>
            <a:ext cx="0" cy="22860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1676520" y="3581280"/>
            <a:ext cx="0" cy="304920"/>
          </a:xfrm>
          <a:prstGeom prst="line">
            <a:avLst/>
          </a:prstGeom>
          <a:ln w="284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181480" y="3124080"/>
            <a:ext cx="304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638680" y="34290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napasan di M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ing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838080" y="838080"/>
            <a:ext cx="510552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gendalian Kimia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762120" y="2286000"/>
            <a:ext cx="838188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2 ( melalui konsentrasi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L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cairan interstisiel o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2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lalui glomus karotikus dan aorti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981080" y="4038480"/>
            <a:ext cx="76320" cy="990720"/>
          </a:xfrm>
          <a:custGeom>
            <a:avLst/>
            <a:gdLst>
              <a:gd name="textAreaLeft" fmla="*/ 0 w 76320"/>
              <a:gd name="textAreaRight" fmla="*/ 5364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2"/>
          <p:cNvSpPr/>
          <p:nvPr/>
        </p:nvSpPr>
        <p:spPr>
          <a:xfrm>
            <a:off x="685800" y="762120"/>
            <a:ext cx="63244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ngendalian non Ki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533520" y="2514600"/>
            <a:ext cx="8610480" cy="3733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an N. Vagus di reseptor Saluran napas 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en dari Pons, Hipotalamus &amp; Sistem Limb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an dari Propiosep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eren dari : Baroreseptor arte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rium, Ventrikel, dan Pulm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gbr-14"/>
          <p:cNvPicPr/>
          <p:nvPr/>
        </p:nvPicPr>
        <p:blipFill>
          <a:blip r:embed="rId1"/>
          <a:stretch/>
        </p:blipFill>
        <p:spPr>
          <a:xfrm>
            <a:off x="0" y="0"/>
            <a:ext cx="43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0" y="457200"/>
            <a:ext cx="9144000" cy="3886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ilah Pernapa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napasan luar : penyerapan oksigen dan pengelu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ksternal)            aran CO2 dari tubu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Pernapasan Dalam: penggunaan O2 dan pemben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ternal)               kan CO2 oleh sel-sel, pertuk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antar sel tubuh dengan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 sekitar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0" y="4419720"/>
            <a:ext cx="91440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 pernapasan  terdiri atas: - Organ pertukaran gas (paru-par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mpa ventilasi p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-152280" y="5410080"/>
            <a:ext cx="929628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pa Ventilasi Paru terdiri:- Dinding d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ot-otot pernapasan; meningkatka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runkan ukuran rongga d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i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ig"/>
          <p:cNvPicPr/>
          <p:nvPr/>
        </p:nvPicPr>
        <p:blipFill>
          <a:blip r:embed="rId1"/>
          <a:stretch/>
        </p:blipFill>
        <p:spPr>
          <a:xfrm>
            <a:off x="380880" y="304920"/>
            <a:ext cx="8610840" cy="34257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457200" y="4267080"/>
            <a:ext cx="8458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tong pleura (dabel membran) mengelilingi paru, diilustrasikan udara da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on yang dikelilingi cairan dalam b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838080" y="609480"/>
            <a:ext cx="281952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poks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533520" y="2362320"/>
            <a:ext cx="8458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upakan defisiensi O2 di tingkat jaring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tilah yang lebih tepat dibanding anok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oksia: jarang benar-benar tidak ada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lam jarin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4"/>
          <p:cNvSpPr/>
          <p:nvPr/>
        </p:nvSpPr>
        <p:spPr>
          <a:xfrm>
            <a:off x="380880" y="152280"/>
            <a:ext cx="57150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mbagian Hipok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0" y="1447920"/>
            <a:ext cx="9144000" cy="5410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ara Umum dibagi atas 4 Jen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ipoksia hipoksik (anoksia anoksik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at PO2 darah arteri berku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. Hipoksia Anemi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at PO2 arteri normal, jumlah Hb ku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3. Hipoksia stagnan (iskemi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ran darak ke jaringan berkura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laupun PO2 dan Konsentrasi Hb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4. Hipoksia histotoks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mlah O2 jaringan adekuat, tetapi karena ke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at toksik, sel/jaringan tidak dapat gunakan O2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685800" y="380880"/>
            <a:ext cx="48769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poksia hipoks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533520" y="1981080"/>
            <a:ext cx="8458200" cy="2590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poksia hipoks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upakan masalah pada individu norm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 tempat ketinggian, dapat juga komplik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i pneumonia serta penyakit lain susun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napas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33520" y="4648320"/>
            <a:ext cx="8610480" cy="220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rbagai penyakit penyebab hipoksia hipoks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yakit jantung kongenital (kebocoran septum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yakit kegagalan pernapas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Fibrosis paru, 2. Depresi pernapasan (akibat morf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Peumotoraks, 4 Obstruksi bronk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380880" y="304920"/>
            <a:ext cx="4267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ipoksia Anem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0" y="1828800"/>
            <a:ext cx="9144000" cy="3657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karena anemia, pada keada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tirahat tidak parah, kecuali anemia be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,3 DPG eritrosit mening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da anemia dengan aktifitas tubuh ak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mpak lebih berat, karena kemampu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ingkatkan pengangkutan O2 terb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>
            <a:off x="685800" y="304920"/>
            <a:ext cx="5029200" cy="1066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Stag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85800" y="1676520"/>
            <a:ext cx="84582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poksia terjadi karena lambatnya sirkul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pat terjadi pada keadaan syok, da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ngenai organ-organ  seper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njal, jantung, hati dan otak &amp; jaringan 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380880"/>
            <a:ext cx="4876920" cy="1143000"/>
          </a:xfrm>
          <a:prstGeom prst="rect">
            <a:avLst/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sitotoks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04920" y="1905120"/>
            <a:ext cx="88390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poksia terjadi kerena penghambat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ses oksidasi di jaringan oleh zat toksi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al sian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anida menghambat sitokrom oksid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n mungkin enzim 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okrom berperan pada fosforil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ksidatif untuk hasilkan A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533520" y="304920"/>
            <a:ext cx="3886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klimatisas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28600" y="1905120"/>
            <a:ext cx="86868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kanisme kompensasi tubuh terhadap peruba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anan atmosfir yang cukup bes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tempat ketinggian, tubuh akan mengal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limatisasi, bila tidak  terjadi aklimatisasi p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inggian 3700 m timbul gejala: Iritabilitas m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ketinggian 5500 m timbul gejala hipoksia p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da ketinggian 6100 m kesadaran bisa menghil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limatisasi di tempat ketinggian terjadi mela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bagai mekanisme; a/l kadar O2 rendah dapat me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sang pembentukan eritropoetin, sitok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sidase dll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ilasi Peru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peristiwa fungsional utama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280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ilasi paru: masuk dan keluarnya udara antara atmosfir dan alveoli pa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usi O2 dan CO2: antara alveoli dan da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O2 dan CO2 darah dan cairan tubuh ke dan dari 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turan dan hal-hal lain dari pernafas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380880" y="609480"/>
            <a:ext cx="62485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kanisme Ventilasi Pa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04920" y="2133720"/>
            <a:ext cx="88390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pragma : bergerak turun/naik unt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perbesar atau memperke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ngga d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Depreasi/Elevasi: tulang iga untu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mperbesar/memperkecil diame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eroposterior rongga d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304920" y="1295280"/>
            <a:ext cx="77724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ot-otot mengelevasi rangka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152280" y="2286000"/>
            <a:ext cx="8991720" cy="457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ot-otot in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Otot interkostalis ekster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ot-otot pembantu Inspir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rnokledomastoideus. Mengangkat stern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 a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Seratus anterior, mengangkat sebagian 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Skalenus, mengangkat  2 iga pert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304920" y="533520"/>
            <a:ext cx="8610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tot yang menurunkan rangka d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228600" y="1981080"/>
            <a:ext cx="8686800" cy="358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ktus Abdomin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ekan isi abdomen ke atas ke ara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prag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Interkostalis internu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gbr-2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"/>
          <p:cNvSpPr/>
          <p:nvPr/>
        </p:nvSpPr>
        <p:spPr>
          <a:xfrm>
            <a:off x="2971800" y="5029200"/>
            <a:ext cx="32767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ta suar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4:53:54Z</dcterms:created>
  <dc:creator>Dr. Marwito</dc:creator>
  <dc:description/>
  <dc:language>en-US</dc:language>
  <cp:lastModifiedBy>fk-uki</cp:lastModifiedBy>
  <dcterms:modified xsi:type="dcterms:W3CDTF">2011-11-08T20:37:50Z</dcterms:modified>
  <cp:revision>13</cp:revision>
  <dc:subject/>
  <dc:title>Sistem  Pernapasan</dc:title>
</cp:coreProperties>
</file>