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6D2A-3C16-4EF3-9BF2-28EB75D1778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5291-E8EA-4AD9-B2C8-45852172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DA3-5E25-481E-9264-C4BED8AA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1A63-D28C-44D2-AC3E-2048BC15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65C-9DFC-4BB4-B56A-25A39F47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E54-2288-4A77-9976-5443082A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E005-35B9-442E-B742-85CE5BBF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CB8-6EE2-4878-A209-57BBA62A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2686-EB09-480B-8ABB-654FDCBB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C68-BA05-448C-B2EA-C6235636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A1C1-11AC-4E82-B5F4-97B41CFE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55E-0D2D-4185-ADF0-73BAE0D5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FAF2-D6E6-4805-8369-C17B9726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C82E-C7D4-4AE2-9206-4D10DF49132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1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1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19.png"/><Relationship Id="rId4" Type="http://schemas.openxmlformats.org/officeDocument/2006/relationships/image" Target="../media/image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9 Llamada de flecha a la derecha"/>
          <p:cNvSpPr/>
          <p:nvPr/>
        </p:nvSpPr>
        <p:spPr>
          <a:xfrm rot="5400000">
            <a:off x="3816000" y="-568080"/>
            <a:ext cx="2016000" cy="6985080"/>
          </a:xfrm>
          <a:prstGeom prst="rightArrowCallout">
            <a:avLst>
              <a:gd name="adj1" fmla="val 24994"/>
              <a:gd name="adj2" fmla="val 25008"/>
              <a:gd name="adj3" fmla="val 25000"/>
              <a:gd name="adj4" fmla="val 6497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892160" cy="504720"/>
          </a:xfrm>
          <a:prstGeom prst="rect">
            <a:avLst/>
          </a:prstGeom>
          <a:ln w="0">
            <a:noFill/>
          </a:ln>
        </p:spPr>
      </p:pic>
      <p:pic>
        <p:nvPicPr>
          <p:cNvPr id="50" name="6 Imagen" descr=""/>
          <p:cNvPicPr/>
          <p:nvPr/>
        </p:nvPicPr>
        <p:blipFill>
          <a:blip r:embed="rId3"/>
          <a:stretch/>
        </p:blipFill>
        <p:spPr>
          <a:xfrm>
            <a:off x="6973920" y="195120"/>
            <a:ext cx="1884240" cy="908280"/>
          </a:xfrm>
          <a:prstGeom prst="rect">
            <a:avLst/>
          </a:prstGeom>
          <a:ln w="0">
            <a:noFill/>
          </a:ln>
        </p:spPr>
      </p:pic>
      <p:pic>
        <p:nvPicPr>
          <p:cNvPr id="51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7 CuadroTexto"/>
          <p:cNvSpPr/>
          <p:nvPr/>
        </p:nvSpPr>
        <p:spPr>
          <a:xfrm>
            <a:off x="1476360" y="191628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Evaluación en la Educación Ini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8 Rectángulo" descr=""/>
          <p:cNvPicPr/>
          <p:nvPr/>
        </p:nvPicPr>
        <p:blipFill>
          <a:blip r:embed="rId5"/>
          <a:stretch/>
        </p:blipFill>
        <p:spPr>
          <a:xfrm>
            <a:off x="2475000" y="165240"/>
            <a:ext cx="4584600" cy="1352520"/>
          </a:xfrm>
          <a:prstGeom prst="rect">
            <a:avLst/>
          </a:prstGeom>
          <a:ln w="0">
            <a:noFill/>
          </a:ln>
        </p:spPr>
      </p:pic>
      <p:sp>
        <p:nvSpPr>
          <p:cNvPr id="54" name="10 CuadroTexto"/>
          <p:cNvSpPr/>
          <p:nvPr/>
        </p:nvSpPr>
        <p:spPr>
          <a:xfrm>
            <a:off x="5148360" y="5805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030a0"/>
                </a:solidFill>
                <a:latin typeface="Calibri"/>
              </a:rPr>
              <a:t>Equipo de formación docente Educación in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1 CuadroTexto"/>
          <p:cNvSpPr/>
          <p:nvPr/>
        </p:nvSpPr>
        <p:spPr>
          <a:xfrm>
            <a:off x="3780000" y="630864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tubr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6"/>
          <a:stretch/>
        </p:blipFill>
        <p:spPr>
          <a:xfrm>
            <a:off x="5292720" y="2492280"/>
            <a:ext cx="3166920" cy="5791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71640" y="4365720"/>
            <a:ext cx="50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66"/>
                </a:solidFill>
                <a:latin typeface="Arial"/>
              </a:rPr>
              <a:t>formacionpermanenteinicial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Facebook: Educación Inicial Tách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Rectángulo"/>
          <p:cNvSpPr/>
          <p:nvPr/>
        </p:nvSpPr>
        <p:spPr>
          <a:xfrm>
            <a:off x="697320" y="1341360"/>
            <a:ext cx="221076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s-VE" sz="1800" spc="-1" strike="noStrike">
                <a:solidFill>
                  <a:srgbClr val="000000"/>
                </a:solidFill>
                <a:latin typeface="Calibri"/>
              </a:rPr>
              <a:t>Tabla de ind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6 Rectángulo"/>
          <p:cNvSpPr/>
          <p:nvPr/>
        </p:nvSpPr>
        <p:spPr>
          <a:xfrm>
            <a:off x="3924360" y="981000"/>
            <a:ext cx="4968720" cy="1465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800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Es un cuadro de doble entrada, en el cual se describen en la columna de la izquierda los niveles de cada aprendizaje, observados en un período de tiempo y en la parte superior horizontal el nombre de los niños y las niñas que se evalúa</a:t>
            </a: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9 Cheurón"/>
          <p:cNvSpPr/>
          <p:nvPr/>
        </p:nvSpPr>
        <p:spPr>
          <a:xfrm>
            <a:off x="3419640" y="1341360"/>
            <a:ext cx="360360" cy="503280"/>
          </a:xfrm>
          <a:custGeom>
            <a:avLst/>
            <a:gdLst>
              <a:gd name="textAreaLeft" fmla="*/ 0 w 360360"/>
              <a:gd name="textAreaRight" fmla="*/ 360720 w 360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10 Cheurón"/>
          <p:cNvSpPr/>
          <p:nvPr/>
        </p:nvSpPr>
        <p:spPr>
          <a:xfrm rot="5400000">
            <a:off x="1683000" y="1419840"/>
            <a:ext cx="395280" cy="1387800"/>
          </a:xfrm>
          <a:custGeom>
            <a:avLst/>
            <a:gdLst>
              <a:gd name="textAreaLeft" fmla="*/ 0 w 395280"/>
              <a:gd name="textAreaRight" fmla="*/ 395640 w 395280"/>
              <a:gd name="textAreaTop" fmla="*/ 0 h 1387800"/>
              <a:gd name="textAreaBottom" fmla="*/ 1388160 h 138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08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2 Rectángulo"/>
          <p:cNvSpPr/>
          <p:nvPr/>
        </p:nvSpPr>
        <p:spPr>
          <a:xfrm>
            <a:off x="826920" y="2924280"/>
            <a:ext cx="684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ff"/>
              </a:buClr>
              <a:buSzPct val="94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Para evaluar a través de la tabla de indicadores deben realizarse registros  descriptivos y anecdóticos diariamente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ff"/>
              </a:buClr>
              <a:buSzPct val="94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El docente debe conocer muy bien las áreas del desarrollo del niño(a), porque ellas están inmersas en las áreas de aprendiz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ff"/>
              </a:buClr>
              <a:buSzPct val="94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Por cada aprendizaje a ser alcanzado, se debe hacer una tabla de indicadores,  de acuerdo con el área de aprendiz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ff"/>
              </a:buClr>
              <a:buSzPct val="94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Los indicadores deben ir de lo simple a lo comple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ff"/>
              </a:buClr>
              <a:buSzPct val="94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En caso de no lograr el aprendizaje por cualquier situación, el indicador queda abierto hasta que se alc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3 CuadroTexto"/>
          <p:cNvSpPr/>
          <p:nvPr/>
        </p:nvSpPr>
        <p:spPr>
          <a:xfrm>
            <a:off x="3348000" y="189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Instrument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1116000" y="333360"/>
            <a:ext cx="1511280" cy="504720"/>
          </a:xfrm>
          <a:prstGeom prst="rect">
            <a:avLst/>
          </a:prstGeom>
          <a:ln w="0">
            <a:noFill/>
          </a:ln>
        </p:spPr>
      </p:pic>
      <p:pic>
        <p:nvPicPr>
          <p:cNvPr id="149" name="6 Imagen" descr=""/>
          <p:cNvPicPr/>
          <p:nvPr/>
        </p:nvPicPr>
        <p:blipFill>
          <a:blip r:embed="rId3"/>
          <a:stretch/>
        </p:blipFill>
        <p:spPr>
          <a:xfrm>
            <a:off x="6973920" y="195120"/>
            <a:ext cx="1884240" cy="908280"/>
          </a:xfrm>
          <a:prstGeom prst="rect">
            <a:avLst/>
          </a:prstGeom>
          <a:ln w="0">
            <a:noFill/>
          </a:ln>
        </p:spPr>
      </p:pic>
      <p:pic>
        <p:nvPicPr>
          <p:cNvPr id="150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1"/>
          <p:cNvSpPr/>
          <p:nvPr/>
        </p:nvSpPr>
        <p:spPr>
          <a:xfrm>
            <a:off x="900000" y="6357960"/>
            <a:ext cx="748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Calibri"/>
                <a:ea typeface="Calibri"/>
              </a:rPr>
              <a:t>Ministerio del Poder Popular para la Educación (2007).  Currículo y orientaciones metodológicas  de Subsistema de Educación Inicial Bolivariana. Caracas: au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187280" y="836640"/>
          <a:ext cx="6985080" cy="5049720"/>
        </p:xfrm>
        <a:graphic>
          <a:graphicData uri="http://schemas.openxmlformats.org/drawingml/2006/table">
            <a:tbl>
              <a:tblPr/>
              <a:tblGrid>
                <a:gridCol w="1839960"/>
                <a:gridCol w="1027080"/>
                <a:gridCol w="971640"/>
                <a:gridCol w="970200"/>
                <a:gridCol w="969840"/>
                <a:gridCol w="1206360"/>
              </a:tblGrid>
              <a:tr h="60804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bla de indica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6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rendizaje a ser alcanz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mbr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s niños y niñ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2 CuadroTexto"/>
          <p:cNvSpPr/>
          <p:nvPr/>
        </p:nvSpPr>
        <p:spPr>
          <a:xfrm>
            <a:off x="3635280" y="333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nstrumento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6 Imagen" descr=""/>
          <p:cNvPicPr/>
          <p:nvPr/>
        </p:nvPicPr>
        <p:blipFill>
          <a:blip r:embed="rId3"/>
          <a:stretch/>
        </p:blipFill>
        <p:spPr>
          <a:xfrm>
            <a:off x="7047000" y="122400"/>
            <a:ext cx="1884240" cy="907920"/>
          </a:xfrm>
          <a:prstGeom prst="rect">
            <a:avLst/>
          </a:prstGeom>
          <a:ln w="0">
            <a:noFill/>
          </a:ln>
        </p:spPr>
      </p:pic>
      <p:pic>
        <p:nvPicPr>
          <p:cNvPr id="156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781360"/>
            <a:ext cx="785880" cy="19429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9"/>
          <p:cNvSpPr/>
          <p:nvPr/>
        </p:nvSpPr>
        <p:spPr>
          <a:xfrm>
            <a:off x="826920" y="6357960"/>
            <a:ext cx="777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Calibri"/>
                <a:ea typeface="Calibri"/>
              </a:rPr>
              <a:t>Ministerio del Poder Popular para la Educación (2007).  Currículo y orientaciones metodológicas  de Subsistema de Educación Inicial Bolivariana. Caracas: au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187280" y="836640"/>
          <a:ext cx="5778720" cy="5184720"/>
        </p:xfrm>
        <a:graphic>
          <a:graphicData uri="http://schemas.openxmlformats.org/drawingml/2006/table">
            <a:tbl>
              <a:tblPr/>
              <a:tblGrid>
                <a:gridCol w="1513080"/>
                <a:gridCol w="1224000"/>
                <a:gridCol w="1101600"/>
                <a:gridCol w="970200"/>
                <a:gridCol w="969840"/>
              </a:tblGrid>
              <a:tr h="60804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bla de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Área  de aprendizaje: Formación personal social y comun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rendizaje a ser alcan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actica medidas que protegen la salud y la vi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ic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mbre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s niños y niñ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umple con los acuerdo de convivencia en cuanto a los hábitos de aliment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actica normas preventivas que protegen la salud y la v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conoce  la  diferencia entre alimentos sanos  y perjudiciales para la sal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dentifica  situaciones de peligro  para la  seguridad de su salu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isol  Lópe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therine Góme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z  Garc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2 CuadroTexto"/>
          <p:cNvSpPr/>
          <p:nvPr/>
        </p:nvSpPr>
        <p:spPr>
          <a:xfrm>
            <a:off x="3635280" y="333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nstrumento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161" name="6 Imagen" descr=""/>
          <p:cNvPicPr/>
          <p:nvPr/>
        </p:nvPicPr>
        <p:blipFill>
          <a:blip r:embed="rId3"/>
          <a:stretch/>
        </p:blipFill>
        <p:spPr>
          <a:xfrm>
            <a:off x="7047000" y="122400"/>
            <a:ext cx="1884240" cy="907920"/>
          </a:xfrm>
          <a:prstGeom prst="rect">
            <a:avLst/>
          </a:prstGeom>
          <a:ln w="0">
            <a:noFill/>
          </a:ln>
        </p:spPr>
      </p:pic>
      <p:pic>
        <p:nvPicPr>
          <p:cNvPr id="162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781360"/>
            <a:ext cx="7858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Rectángulo"/>
          <p:cNvSpPr/>
          <p:nvPr/>
        </p:nvSpPr>
        <p:spPr>
          <a:xfrm>
            <a:off x="1258920" y="40464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nstru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Tabla de indicad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5 Llamada de flecha hacia abajo"/>
          <p:cNvSpPr/>
          <p:nvPr/>
        </p:nvSpPr>
        <p:spPr>
          <a:xfrm>
            <a:off x="3635280" y="1268280"/>
            <a:ext cx="1728720" cy="648000"/>
          </a:xfrm>
          <a:prstGeom prst="downArrowCallout">
            <a:avLst>
              <a:gd name="adj1" fmla="val 25000"/>
              <a:gd name="adj2" fmla="val 24986"/>
              <a:gd name="adj3" fmla="val 25000"/>
              <a:gd name="adj4" fmla="val 64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entaj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7 Rectángulo"/>
          <p:cNvSpPr/>
          <p:nvPr/>
        </p:nvSpPr>
        <p:spPr>
          <a:xfrm>
            <a:off x="1116000" y="3789360"/>
            <a:ext cx="6912000" cy="642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erta u orienta al maestro y la maestra sobre el procesamiento de los aprendizajes, detectando así cuales no se han present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8 Rectángulo"/>
          <p:cNvSpPr/>
          <p:nvPr/>
        </p:nvSpPr>
        <p:spPr>
          <a:xfrm>
            <a:off x="1116000" y="2852640"/>
            <a:ext cx="6912000" cy="642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ón conjunta sobre la marcha del grupo y cada uno en forma parti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9 Rectángulo"/>
          <p:cNvSpPr/>
          <p:nvPr/>
        </p:nvSpPr>
        <p:spPr>
          <a:xfrm>
            <a:off x="1116000" y="1989000"/>
            <a:ext cx="6985080" cy="642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 poco espacio se agrupa información, ya que solo se necesita la lista del gru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1 CuadroTexto"/>
          <p:cNvSpPr/>
          <p:nvPr/>
        </p:nvSpPr>
        <p:spPr>
          <a:xfrm>
            <a:off x="1116000" y="4724280"/>
            <a:ext cx="6985080" cy="916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rece información visual acerca de los avances de cada niños y niña, sus ritmos individuales; a fin de tomar acciones relacionadas con las estrategias, recursos, intervención docente, entre otros aspec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826920" y="6213600"/>
            <a:ext cx="770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Calibri"/>
                <a:ea typeface="Calibri"/>
              </a:rPr>
              <a:t>Ministerio del Poder Popular para la Educación (2007).  Currículo y orientaciones metodológicas  de Subsistema de Educación Inicial Bolivariana. Caracas: au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Imagen 1" descr="http://www.me.gov.ve/simoncito1.jpg"/>
          <p:cNvPicPr/>
          <p:nvPr/>
        </p:nvPicPr>
        <p:blipFill>
          <a:blip r:embed="rId2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3" descr="logo5"/>
          <p:cNvPicPr/>
          <p:nvPr/>
        </p:nvPicPr>
        <p:blipFill>
          <a:blip r:embed="rId3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6 Imagen" descr=""/>
          <p:cNvPicPr/>
          <p:nvPr/>
        </p:nvPicPr>
        <p:blipFill>
          <a:blip r:embed="rId4"/>
          <a:stretch/>
        </p:blipFill>
        <p:spPr>
          <a:xfrm>
            <a:off x="7047000" y="195120"/>
            <a:ext cx="188424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7 Llamada de flecha hacia abajo"/>
          <p:cNvSpPr/>
          <p:nvPr/>
        </p:nvSpPr>
        <p:spPr>
          <a:xfrm>
            <a:off x="3995640" y="907920"/>
            <a:ext cx="2592360" cy="1008360"/>
          </a:xfrm>
          <a:prstGeom prst="downArrowCallout">
            <a:avLst>
              <a:gd name="adj1" fmla="val 24997"/>
              <a:gd name="adj2" fmla="val 24994"/>
              <a:gd name="adj3" fmla="val 25000"/>
              <a:gd name="adj4" fmla="val 64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3 Rectángulo"/>
          <p:cNvSpPr/>
          <p:nvPr/>
        </p:nvSpPr>
        <p:spPr>
          <a:xfrm>
            <a:off x="4067280" y="1052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Verdana"/>
              </a:rPr>
              <a:t>Ficha acumu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5 Llamada de flecha hacia abajo"/>
          <p:cNvSpPr/>
          <p:nvPr/>
        </p:nvSpPr>
        <p:spPr>
          <a:xfrm>
            <a:off x="900000" y="907920"/>
            <a:ext cx="2592360" cy="1008360"/>
          </a:xfrm>
          <a:prstGeom prst="downArrowCallout">
            <a:avLst>
              <a:gd name="adj1" fmla="val 24997"/>
              <a:gd name="adj2" fmla="val 24994"/>
              <a:gd name="adj3" fmla="val 25000"/>
              <a:gd name="adj4" fmla="val 64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4 Rectángulo"/>
          <p:cNvSpPr/>
          <p:nvPr/>
        </p:nvSpPr>
        <p:spPr>
          <a:xfrm>
            <a:off x="971640" y="98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Verdana"/>
              </a:rPr>
              <a:t>Ficha de inscrip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8 CuadroTexto"/>
          <p:cNvSpPr/>
          <p:nvPr/>
        </p:nvSpPr>
        <p:spPr>
          <a:xfrm>
            <a:off x="3203640" y="189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nstrument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179" name="6 Imagen" descr=""/>
          <p:cNvPicPr/>
          <p:nvPr/>
        </p:nvPicPr>
        <p:blipFill>
          <a:blip r:embed="rId3"/>
          <a:stretch/>
        </p:blipFill>
        <p:spPr>
          <a:xfrm>
            <a:off x="6973920" y="195120"/>
            <a:ext cx="1884240" cy="90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Object 3"/>
          <p:cNvGraphicFramePr/>
          <p:nvPr/>
        </p:nvGraphicFramePr>
        <p:xfrm>
          <a:off x="7236000" y="1052640"/>
          <a:ext cx="1506240" cy="187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6000" y="1052640"/>
                    <a:ext cx="15062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15 Rectángulo"/>
          <p:cNvSpPr/>
          <p:nvPr/>
        </p:nvSpPr>
        <p:spPr>
          <a:xfrm>
            <a:off x="5580000" y="4581360"/>
            <a:ext cx="324000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íntesis trimestral de los registros descriptivos de los progresos alcanzados en el aprendizaje y el desarrollo durante el año esc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17 Rectángulo"/>
          <p:cNvSpPr/>
          <p:nvPr/>
        </p:nvSpPr>
        <p:spPr>
          <a:xfrm>
            <a:off x="900000" y="3860640"/>
            <a:ext cx="251964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os específicos: ubicación, datos socio económ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a es actualizada cada año esc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8 Llamada de flecha hacia abajo"/>
          <p:cNvSpPr/>
          <p:nvPr/>
        </p:nvSpPr>
        <p:spPr>
          <a:xfrm>
            <a:off x="900000" y="2060640"/>
            <a:ext cx="2664000" cy="1297080"/>
          </a:xfrm>
          <a:prstGeom prst="downArrowCallout">
            <a:avLst>
              <a:gd name="adj1" fmla="val 25010"/>
              <a:gd name="adj2" fmla="val 24998"/>
              <a:gd name="adj3" fmla="val 25000"/>
              <a:gd name="adj4" fmla="val 64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 aplica al momento de ingreso del niño y niñ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9 Llamada de flecha hacia abajo"/>
          <p:cNvSpPr/>
          <p:nvPr/>
        </p:nvSpPr>
        <p:spPr>
          <a:xfrm>
            <a:off x="3780000" y="2060640"/>
            <a:ext cx="3240000" cy="1736640"/>
          </a:xfrm>
          <a:prstGeom prst="downArrowCallout">
            <a:avLst>
              <a:gd name="adj1" fmla="val 24999"/>
              <a:gd name="adj2" fmla="val 24996"/>
              <a:gd name="adj3" fmla="val 25000"/>
              <a:gd name="adj4" fmla="val 64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pila toda la información referente a los niños y niñ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21 Llamada de flecha hacia abajo"/>
          <p:cNvSpPr/>
          <p:nvPr/>
        </p:nvSpPr>
        <p:spPr>
          <a:xfrm>
            <a:off x="4500720" y="3933720"/>
            <a:ext cx="1439640" cy="574920"/>
          </a:xfrm>
          <a:prstGeom prst="downArrowCallout">
            <a:avLst>
              <a:gd name="adj1" fmla="val 24997"/>
              <a:gd name="adj2" fmla="val 24983"/>
              <a:gd name="adj3" fmla="val 25000"/>
              <a:gd name="adj4" fmla="val 64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2 Rectángulo"/>
          <p:cNvSpPr/>
          <p:nvPr/>
        </p:nvSpPr>
        <p:spPr>
          <a:xfrm>
            <a:off x="3564000" y="4653000"/>
            <a:ext cx="187164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atos anamnèsicos o historia de vida, y los datos socioeconó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magen 1" descr="http://www.me.gov.ve/simoncito1.jpg"/>
          <p:cNvPicPr/>
          <p:nvPr/>
        </p:nvPicPr>
        <p:blipFill>
          <a:blip r:embed="rId6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Llamada de flecha hacia abajo"/>
          <p:cNvSpPr/>
          <p:nvPr/>
        </p:nvSpPr>
        <p:spPr>
          <a:xfrm>
            <a:off x="2340000" y="333360"/>
            <a:ext cx="4896000" cy="1008000"/>
          </a:xfrm>
          <a:prstGeom prst="downArrowCallout">
            <a:avLst>
              <a:gd name="adj1" fmla="val 25008"/>
              <a:gd name="adj2" fmla="val 25005"/>
              <a:gd name="adj3" fmla="val 25000"/>
              <a:gd name="adj4" fmla="val 64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Verdana"/>
              </a:rPr>
              <a:t>Ficha acumu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4 CuadroTexto"/>
          <p:cNvSpPr/>
          <p:nvPr/>
        </p:nvSpPr>
        <p:spPr>
          <a:xfrm>
            <a:off x="3203640" y="1413000"/>
            <a:ext cx="295272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pectos que debe conten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5 CuadroTexto"/>
          <p:cNvSpPr/>
          <p:nvPr/>
        </p:nvSpPr>
        <p:spPr>
          <a:xfrm>
            <a:off x="1258920" y="5732640"/>
            <a:ext cx="74167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tecedentes prenatal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embarazo y enfermedades de la madre durante e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6 Rectángulo"/>
          <p:cNvSpPr/>
          <p:nvPr/>
        </p:nvSpPr>
        <p:spPr>
          <a:xfrm>
            <a:off x="1261080" y="1989000"/>
            <a:ext cx="3019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dentificació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el niño y niñ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7 Rectángulo"/>
          <p:cNvSpPr/>
          <p:nvPr/>
        </p:nvSpPr>
        <p:spPr>
          <a:xfrm>
            <a:off x="1258920" y="2492280"/>
            <a:ext cx="7345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mbre de la persona que suministra dat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parentesco, apellidos y nombres de la madre y el padre, cedula de identidad, nacionalidad, ocupación, dirección, estado civil y persona a quien pueda llamarse en caso de emerg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8 Rectángulo"/>
          <p:cNvSpPr/>
          <p:nvPr/>
        </p:nvSpPr>
        <p:spPr>
          <a:xfrm>
            <a:off x="1258920" y="4724280"/>
            <a:ext cx="74167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mbiente sociofamiliar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onas que viven en el hogar, características de la vivienda. Tenencia, distribución de la vivienda, datos de otras personas que cuidan al niño y la niña, carácter de las relaciones famili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9 Rectángulo"/>
          <p:cNvSpPr/>
          <p:nvPr/>
        </p:nvSpPr>
        <p:spPr>
          <a:xfrm>
            <a:off x="1258920" y="3789360"/>
            <a:ext cx="74167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ipos de juego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 prefiere el niño y la niña, lugares que visita, compañeros (as) de juego, especialistas a los que ha asistido y razones de e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197" name="6 Imagen" descr=""/>
          <p:cNvPicPr/>
          <p:nvPr/>
        </p:nvPicPr>
        <p:blipFill>
          <a:blip r:embed="rId3"/>
          <a:stretch/>
        </p:blipFill>
        <p:spPr>
          <a:xfrm>
            <a:off x="7259760" y="268200"/>
            <a:ext cx="1890720" cy="908280"/>
          </a:xfrm>
          <a:prstGeom prst="rect">
            <a:avLst/>
          </a:prstGeom>
          <a:ln w="0">
            <a:noFill/>
          </a:ln>
        </p:spPr>
      </p:pic>
      <p:pic>
        <p:nvPicPr>
          <p:cNvPr id="198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3 Llamada de flecha hacia abajo"/>
          <p:cNvSpPr/>
          <p:nvPr/>
        </p:nvSpPr>
        <p:spPr>
          <a:xfrm>
            <a:off x="2411280" y="189000"/>
            <a:ext cx="4897440" cy="1008000"/>
          </a:xfrm>
          <a:prstGeom prst="downArrowCallout">
            <a:avLst>
              <a:gd name="adj1" fmla="val 25015"/>
              <a:gd name="adj2" fmla="val 25013"/>
              <a:gd name="adj3" fmla="val 25000"/>
              <a:gd name="adj4" fmla="val 64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Verdana"/>
              </a:rPr>
              <a:t>Ficha acumu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4 CuadroTexto"/>
          <p:cNvSpPr/>
          <p:nvPr/>
        </p:nvSpPr>
        <p:spPr>
          <a:xfrm>
            <a:off x="3059280" y="1268280"/>
            <a:ext cx="295272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pectos que debe conten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7 Rectángulo"/>
          <p:cNvSpPr/>
          <p:nvPr/>
        </p:nvSpPr>
        <p:spPr>
          <a:xfrm>
            <a:off x="1116000" y="5373720"/>
            <a:ext cx="7632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ábitos de alimentació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 come solo, se desayuna en casa, tiene buen apetito), hora en que se acuesta y se levanta, con quien duerme; así como información de si controla esfínteres, se orina, a que edad dejo de usar pañales y si puede ir solo al b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8 Rectángulo"/>
          <p:cNvSpPr/>
          <p:nvPr/>
        </p:nvSpPr>
        <p:spPr>
          <a:xfrm>
            <a:off x="1116000" y="4221000"/>
            <a:ext cx="7632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alu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 medicamentos ha recibido, enfermedades que ha padecido grupo sanguíneo al que pertenece: información cerca de si ha sido hospitalizado, si padece algún tipo de enfermedad; así como en caso de fiebre que medicamento administr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9 Rectángulo"/>
          <p:cNvSpPr/>
          <p:nvPr/>
        </p:nvSpPr>
        <p:spPr>
          <a:xfrm>
            <a:off x="1116000" y="2852640"/>
            <a:ext cx="7632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tecedentes postnatal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peso, talla, problemas que presentó el niño y niña en los primeros días.(de haberse present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arrollo del lenguaje y motor: momento en que empezó a caminar y hablar, mano que utili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0 Rectángulo"/>
          <p:cNvSpPr/>
          <p:nvPr/>
        </p:nvSpPr>
        <p:spPr>
          <a:xfrm>
            <a:off x="1116000" y="2060640"/>
            <a:ext cx="763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ntecedentes paranatal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condiciones en las que se desarrolló el parto, edad de la madre en el momento de e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206" name="6 Imagen" descr=""/>
          <p:cNvPicPr/>
          <p:nvPr/>
        </p:nvPicPr>
        <p:blipFill>
          <a:blip r:embed="rId3"/>
          <a:stretch/>
        </p:blipFill>
        <p:spPr>
          <a:xfrm>
            <a:off x="7259760" y="122400"/>
            <a:ext cx="1890720" cy="907920"/>
          </a:xfrm>
          <a:prstGeom prst="rect">
            <a:avLst/>
          </a:prstGeom>
          <a:ln w="0">
            <a:noFill/>
          </a:ln>
        </p:spPr>
      </p:pic>
      <p:pic>
        <p:nvPicPr>
          <p:cNvPr id="207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1"/>
          <p:cNvSpPr/>
          <p:nvPr/>
        </p:nvSpPr>
        <p:spPr>
          <a:xfrm>
            <a:off x="1042920" y="6655680"/>
            <a:ext cx="763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Calibri"/>
                <a:ea typeface="Calibri"/>
              </a:rPr>
              <a:t>Ministerio del Poder Popular para la Educación (2007).  Currículo y orientaciones metodológicas  de Subsistema de Educación Inicial Bolivariana. Caracas: au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1 Título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CuadroTexto"/>
          <p:cNvSpPr/>
          <p:nvPr/>
        </p:nvSpPr>
        <p:spPr>
          <a:xfrm>
            <a:off x="2195640" y="40464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nstrumentos: Boletín inform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trimest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6 Rectángulo"/>
          <p:cNvSpPr/>
          <p:nvPr/>
        </p:nvSpPr>
        <p:spPr>
          <a:xfrm>
            <a:off x="1042920" y="4437000"/>
            <a:ext cx="748980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Socializar entre docentes y especialistas los componentes que se desarrollan en los PA y Planes para registrar las estrategias de articulación, así como la valoración de los procesos de aprendizajes alcanzados, y potencialidades deportivas, artísticas de los estudi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6 Imagen" descr=""/>
          <p:cNvPicPr/>
          <p:nvPr/>
        </p:nvPicPr>
        <p:blipFill>
          <a:blip r:embed="rId3"/>
          <a:stretch/>
        </p:blipFill>
        <p:spPr>
          <a:xfrm>
            <a:off x="7334280" y="49320"/>
            <a:ext cx="1888920" cy="914400"/>
          </a:xfrm>
          <a:prstGeom prst="rect">
            <a:avLst/>
          </a:prstGeom>
          <a:ln w="0">
            <a:noFill/>
          </a:ln>
        </p:spPr>
      </p:pic>
      <p:sp>
        <p:nvSpPr>
          <p:cNvPr id="214" name="11 CuadroTexto"/>
          <p:cNvSpPr/>
          <p:nvPr/>
        </p:nvSpPr>
        <p:spPr>
          <a:xfrm>
            <a:off x="1042920" y="1341360"/>
            <a:ext cx="7561440" cy="1465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s instrumento que permite dar a conocer de manera cualitativa a los padres, madres y o representantes, responsables, los progresos , los procesos alcanzados por los niños y niñas en relación a los aprendizajes  y el desarrollo: en tres momentos del año escolar ( inicio, mediados, y al final del mismo)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ambién  llamados Periodos  Evaluativ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14 CuadroTexto"/>
          <p:cNvSpPr/>
          <p:nvPr/>
        </p:nvSpPr>
        <p:spPr>
          <a:xfrm>
            <a:off x="1042920" y="3213000"/>
            <a:ext cx="748980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 información que se suministre en el boletín debe ser un fiel reflejo de la niña o el niño al cual se hace referencia y relevante  en cuanto a su aprendizaje y nivel de desarrollo y 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0"/>
          <p:cNvSpPr/>
          <p:nvPr/>
        </p:nvSpPr>
        <p:spPr>
          <a:xfrm>
            <a:off x="971640" y="6412320"/>
            <a:ext cx="72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Calibri"/>
                <a:ea typeface="Calibri"/>
              </a:rPr>
              <a:t>Ministerio del Poder Popular para la Educación (2005). Currículo de Educación Inicial. Caracas: au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1 Título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4 CuadroTexto"/>
          <p:cNvSpPr/>
          <p:nvPr/>
        </p:nvSpPr>
        <p:spPr>
          <a:xfrm>
            <a:off x="2195640" y="40464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nstrumentos: Boletín inform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trimest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221" name="6 Imagen" descr=""/>
          <p:cNvPicPr/>
          <p:nvPr/>
        </p:nvPicPr>
        <p:blipFill>
          <a:blip r:embed="rId3"/>
          <a:stretch/>
        </p:blipFill>
        <p:spPr>
          <a:xfrm>
            <a:off x="7334280" y="49320"/>
            <a:ext cx="188892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17 Rectángulo"/>
          <p:cNvSpPr/>
          <p:nvPr/>
        </p:nvSpPr>
        <p:spPr>
          <a:xfrm>
            <a:off x="1050120" y="126828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 la redacción del boletín es import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12 Rectángulo"/>
          <p:cNvSpPr/>
          <p:nvPr/>
        </p:nvSpPr>
        <p:spPr>
          <a:xfrm>
            <a:off x="971640" y="1700280"/>
            <a:ext cx="748800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En el informe de cada período evaluativo o lapso, se redacta la narración descriptiva global, empleando verbos en tiempo pasado que expresen los procesos de aprendizajes alcanzados integralmente por los estudiantes sin que se registre como seguidilla de indic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18 CuadroTexto"/>
          <p:cNvSpPr/>
          <p:nvPr/>
        </p:nvSpPr>
        <p:spPr>
          <a:xfrm>
            <a:off x="971640" y="3068640"/>
            <a:ext cx="734544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Fundamente la apreciación valorativa en aprendizajes observados durante los tres momentos del año escolar considerando los indicadores, nivel de desarrollo y aprendizaje alcan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19 CuadroTexto"/>
          <p:cNvSpPr/>
          <p:nvPr/>
        </p:nvSpPr>
        <p:spPr>
          <a:xfrm>
            <a:off x="971640" y="4149720"/>
            <a:ext cx="734544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En las observaciones destaque los aspectos en los se requiere el apoyo directo de la familia. Hágalo en forma sencilla evitando usar términos como lindo, maravilloso, feo, fantástico, 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20 CuadroTexto"/>
          <p:cNvSpPr/>
          <p:nvPr/>
        </p:nvSpPr>
        <p:spPr>
          <a:xfrm>
            <a:off x="971640" y="5300640"/>
            <a:ext cx="73454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Ser cuidadoso (a) al redactar los logros  obtenidos en cada periodo. Siempre debe evidenciarse el avance  del niño y la niña. El representante,  padres debe claramente observar los cambios del niño y niña con el transcurrir d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1 Título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4 CuadroTexto"/>
          <p:cNvSpPr/>
          <p:nvPr/>
        </p:nvSpPr>
        <p:spPr>
          <a:xfrm>
            <a:off x="2195640" y="40464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nstrumentos: Boletín inform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trimest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6 Imagen" descr=""/>
          <p:cNvPicPr/>
          <p:nvPr/>
        </p:nvPicPr>
        <p:blipFill>
          <a:blip r:embed="rId3"/>
          <a:stretch/>
        </p:blipFill>
        <p:spPr>
          <a:xfrm>
            <a:off x="7334280" y="49320"/>
            <a:ext cx="1888920" cy="914400"/>
          </a:xfrm>
          <a:prstGeom prst="rect">
            <a:avLst/>
          </a:prstGeom>
          <a:ln w="0">
            <a:noFill/>
          </a:ln>
        </p:spPr>
      </p:pic>
      <p:sp>
        <p:nvSpPr>
          <p:cNvPr id="232" name="13 CuadroTexto"/>
          <p:cNvSpPr/>
          <p:nvPr/>
        </p:nvSpPr>
        <p:spPr>
          <a:xfrm>
            <a:off x="1042920" y="4797360"/>
            <a:ext cx="770580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mendaciones del doc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chas, firmas  del directivo, docente y represent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14 Rectángulo"/>
          <p:cNvSpPr/>
          <p:nvPr/>
        </p:nvSpPr>
        <p:spPr>
          <a:xfrm>
            <a:off x="971640" y="1700280"/>
            <a:ext cx="770400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os de la institución, del niño y la niña y del represent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5 Rectángulo"/>
          <p:cNvSpPr/>
          <p:nvPr/>
        </p:nvSpPr>
        <p:spPr>
          <a:xfrm>
            <a:off x="971640" y="2492280"/>
            <a:ext cx="770400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rendizajes adquiridos durante el lapso, tomando como referencia las áreas de aprendizaje ( formación personal social y comunicación y relación entre los componentes del ambiente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16 Rectángulo"/>
          <p:cNvSpPr/>
          <p:nvPr/>
        </p:nvSpPr>
        <p:spPr>
          <a:xfrm>
            <a:off x="1042920" y="3789360"/>
            <a:ext cx="770580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reciación de los padres madres y o representantes sobre la información recib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17 Rectángulo"/>
          <p:cNvSpPr/>
          <p:nvPr/>
        </p:nvSpPr>
        <p:spPr>
          <a:xfrm>
            <a:off x="1049400" y="126828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 el diseño del boletín es import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2"/>
          <p:cNvSpPr/>
          <p:nvPr/>
        </p:nvSpPr>
        <p:spPr>
          <a:xfrm>
            <a:off x="1258920" y="6243120"/>
            <a:ext cx="46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Calibri"/>
                <a:ea typeface="Calibri"/>
              </a:rPr>
              <a:t>Ministerio del Poder Popular para la Educación (2005). Currículo de Educación Inicial. Caracas: au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332000" y="476280"/>
            <a:ext cx="68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Evaluación en la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572000" y="1413000"/>
            <a:ext cx="18003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écn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/>
          <p:cNvSpPr/>
          <p:nvPr/>
        </p:nvSpPr>
        <p:spPr>
          <a:xfrm>
            <a:off x="7451640" y="1197000"/>
            <a:ext cx="1366920" cy="57780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revist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4500720" y="2997360"/>
            <a:ext cx="1512720" cy="64764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servació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971640" y="4581360"/>
            <a:ext cx="2736720" cy="1872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dera la interacc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 niños y niñas c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 mater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 otros niños y niñ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 adul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"/>
          <p:cNvPicPr/>
          <p:nvPr/>
        </p:nvPicPr>
        <p:blipFill>
          <a:blip r:embed="rId2"/>
          <a:stretch/>
        </p:blipFill>
        <p:spPr>
          <a:xfrm>
            <a:off x="3851280" y="4149720"/>
            <a:ext cx="3168720" cy="2160720"/>
          </a:xfrm>
          <a:prstGeom prst="rect">
            <a:avLst/>
          </a:prstGeom>
          <a:ln w="0">
            <a:noFill/>
          </a:ln>
        </p:spPr>
      </p:pic>
      <p:sp>
        <p:nvSpPr>
          <p:cNvPr id="64" name="23 Elipse"/>
          <p:cNvSpPr/>
          <p:nvPr/>
        </p:nvSpPr>
        <p:spPr>
          <a:xfrm>
            <a:off x="684360" y="1125360"/>
            <a:ext cx="3671640" cy="2664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alibri"/>
              </a:rPr>
              <a:t>Proceso permanent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alibri"/>
              </a:rPr>
              <a:t>Valoración  cualit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alibri"/>
              </a:rPr>
              <a:t>de  las  potencialida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alibri"/>
              </a:rPr>
              <a:t>de los niños(as),  de 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alibri"/>
              </a:rPr>
              <a:t>Aprendizajes alcanzad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alibri"/>
              </a:rPr>
              <a:t>como de las condi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alibri"/>
              </a:rPr>
              <a:t>que lo afec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4 Flecha abajo"/>
          <p:cNvSpPr/>
          <p:nvPr/>
        </p:nvSpPr>
        <p:spPr>
          <a:xfrm>
            <a:off x="1979640" y="3933720"/>
            <a:ext cx="792000" cy="3589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5 Flecha a la derecha con bandas"/>
          <p:cNvSpPr/>
          <p:nvPr/>
        </p:nvSpPr>
        <p:spPr>
          <a:xfrm>
            <a:off x="6443640" y="1700280"/>
            <a:ext cx="576360" cy="504720"/>
          </a:xfrm>
          <a:custGeom>
            <a:avLst/>
            <a:gdLst>
              <a:gd name="textAreaLeft" fmla="*/ 78840 w 576360"/>
              <a:gd name="textAreaRight" fmla="*/ 450360 w 57636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576262" h="504825">
                <a:moveTo>
                  <a:pt x="0" y="126206"/>
                </a:moveTo>
                <a:lnTo>
                  <a:pt x="15776" y="126206"/>
                </a:lnTo>
                <a:lnTo>
                  <a:pt x="15776" y="378619"/>
                </a:lnTo>
                <a:lnTo>
                  <a:pt x="0" y="378619"/>
                </a:lnTo>
                <a:close/>
                <a:moveTo>
                  <a:pt x="31552" y="126206"/>
                </a:moveTo>
                <a:lnTo>
                  <a:pt x="63103" y="126206"/>
                </a:lnTo>
                <a:lnTo>
                  <a:pt x="63103" y="378619"/>
                </a:lnTo>
                <a:lnTo>
                  <a:pt x="31552" y="378619"/>
                </a:lnTo>
                <a:close/>
                <a:moveTo>
                  <a:pt x="78879" y="126206"/>
                </a:moveTo>
                <a:lnTo>
                  <a:pt x="323850" y="126206"/>
                </a:lnTo>
                <a:lnTo>
                  <a:pt x="323850" y="0"/>
                </a:lnTo>
                <a:lnTo>
                  <a:pt x="576262" y="252413"/>
                </a:lnTo>
                <a:lnTo>
                  <a:pt x="323850" y="504825"/>
                </a:lnTo>
                <a:lnTo>
                  <a:pt x="323850" y="378619"/>
                </a:lnTo>
                <a:lnTo>
                  <a:pt x="78879" y="378619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n 3" descr="logo5"/>
          <p:cNvPicPr/>
          <p:nvPr/>
        </p:nvPicPr>
        <p:blipFill>
          <a:blip r:embed="rId3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68" name="6 Imagen" descr=""/>
          <p:cNvPicPr/>
          <p:nvPr/>
        </p:nvPicPr>
        <p:blipFill>
          <a:blip r:embed="rId4"/>
          <a:stretch/>
        </p:blipFill>
        <p:spPr>
          <a:xfrm>
            <a:off x="6973920" y="195120"/>
            <a:ext cx="1884240" cy="908280"/>
          </a:xfrm>
          <a:prstGeom prst="rect">
            <a:avLst/>
          </a:prstGeom>
          <a:ln w="0">
            <a:noFill/>
          </a:ln>
        </p:spPr>
      </p:pic>
      <p:sp>
        <p:nvSpPr>
          <p:cNvPr id="69" name="12 Flecha a la derecha con bandas"/>
          <p:cNvSpPr/>
          <p:nvPr/>
        </p:nvSpPr>
        <p:spPr>
          <a:xfrm rot="5400000">
            <a:off x="5040720" y="2385000"/>
            <a:ext cx="574920" cy="503280"/>
          </a:xfrm>
          <a:custGeom>
            <a:avLst/>
            <a:gdLst>
              <a:gd name="textAreaLeft" fmla="*/ 78480 w 574920"/>
              <a:gd name="textAreaRight" fmla="*/ 449280 w 574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574675" h="503238">
                <a:moveTo>
                  <a:pt x="0" y="125810"/>
                </a:moveTo>
                <a:lnTo>
                  <a:pt x="15726" y="125810"/>
                </a:lnTo>
                <a:lnTo>
                  <a:pt x="15726" y="377429"/>
                </a:lnTo>
                <a:lnTo>
                  <a:pt x="0" y="377429"/>
                </a:lnTo>
                <a:close/>
                <a:moveTo>
                  <a:pt x="31452" y="125810"/>
                </a:moveTo>
                <a:lnTo>
                  <a:pt x="62905" y="125810"/>
                </a:lnTo>
                <a:lnTo>
                  <a:pt x="62905" y="377429"/>
                </a:lnTo>
                <a:lnTo>
                  <a:pt x="31452" y="377429"/>
                </a:lnTo>
                <a:close/>
                <a:moveTo>
                  <a:pt x="78631" y="125810"/>
                </a:moveTo>
                <a:lnTo>
                  <a:pt x="323056" y="125810"/>
                </a:lnTo>
                <a:lnTo>
                  <a:pt x="323056" y="0"/>
                </a:lnTo>
                <a:lnTo>
                  <a:pt x="574675" y="251619"/>
                </a:lnTo>
                <a:lnTo>
                  <a:pt x="323056" y="503238"/>
                </a:lnTo>
                <a:lnTo>
                  <a:pt x="323056" y="377429"/>
                </a:lnTo>
                <a:lnTo>
                  <a:pt x="78631" y="377429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08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3 CuadroTexto"/>
          <p:cNvSpPr/>
          <p:nvPr/>
        </p:nvSpPr>
        <p:spPr>
          <a:xfrm>
            <a:off x="7093080" y="1989000"/>
            <a:ext cx="1655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Estructu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4 Rectángulo"/>
          <p:cNvSpPr/>
          <p:nvPr/>
        </p:nvSpPr>
        <p:spPr>
          <a:xfrm>
            <a:off x="6962760" y="2492280"/>
            <a:ext cx="19728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. Semiestructu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7 Llamada con línea 1 (borde y barra de énfasis)"/>
          <p:cNvSpPr/>
          <p:nvPr/>
        </p:nvSpPr>
        <p:spPr>
          <a:xfrm>
            <a:off x="6588000" y="3141720"/>
            <a:ext cx="2305080" cy="20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18" y="4244"/>
                </a:moveTo>
                <a:lnTo>
                  <a:pt x="-2757" y="5253"/>
                </a:lnTo>
              </a:path>
              <a:path w="21600" h="21600">
                <a:moveTo>
                  <a:pt x="-2757" y="0"/>
                </a:moveTo>
                <a:lnTo>
                  <a:pt x="-2757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ual,  deliberada, naturalista, focalizada,, participativa, no participativa, individual o grupal , directa o dife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magen 1" descr="http://www.me.gov.ve/simoncito1.jpg"/>
          <p:cNvPicPr/>
          <p:nvPr/>
        </p:nvPicPr>
        <p:blipFill>
          <a:blip r:embed="rId5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  <p:sp>
        <p:nvSpPr>
          <p:cNvPr id="74" name="18 Rectángulo"/>
          <p:cNvSpPr/>
          <p:nvPr/>
        </p:nvSpPr>
        <p:spPr>
          <a:xfrm>
            <a:off x="3564000" y="6453360"/>
            <a:ext cx="49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Ministerio del Poder Popular para la Educación (2005). Currículo de Educación Inicial. Caracas: au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1332000" y="189360"/>
            <a:ext cx="7143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REPUBLICA BOLIVARIANA DE VENEZUEL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MINISTERIO DEL PODER POPULAR PARA LA EDUC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ESCUELA DE EDUCACION INICIAL. 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476360" y="1052640"/>
            <a:ext cx="7416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NOMBRE Y APELLIDO DEL NIÑO(A): 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CEDULA ESCOLAR: ____________________          EDAD: ______                      PESO: ______                  TALLA: ________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NIVEL: EDUCACIÓN INICIAL- VIA DE ATENCIÓN: ____________________  ETAPA:______________ GRUPO: 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DOCENTES: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DIRECTORA:___________________________________ REPRESENTANTE: _____________________________CI: 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MUNICIPIO:__________________________COMUNIDAD: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PLANES  Y PROYECTOS: 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_____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FECHÄ:  DESDE ________________________  HASTA:_________________________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202560" y="2781360"/>
            <a:ext cx="201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RIMER INFOR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PRENDIZAJES ALCANZ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1027440" y="5229360"/>
            <a:ext cx="71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COMENDACIONES DEL DOCENTE: 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1027440" y="6237360"/>
            <a:ext cx="140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FIRMA DIRE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780000" y="6237360"/>
            <a:ext cx="131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FIRMA DOC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6210360" y="6237360"/>
            <a:ext cx="173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FIRMA REPRESENT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953640" y="5734080"/>
            <a:ext cx="717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COMENDACIONES DEL REPRESENTANTE: 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8"/>
          <p:cNvSpPr/>
          <p:nvPr/>
        </p:nvSpPr>
        <p:spPr>
          <a:xfrm>
            <a:off x="1476360" y="3232080"/>
            <a:ext cx="670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249" name="6 Imagen" descr=""/>
          <p:cNvPicPr/>
          <p:nvPr/>
        </p:nvPicPr>
        <p:blipFill>
          <a:blip r:embed="rId3"/>
          <a:stretch/>
        </p:blipFill>
        <p:spPr>
          <a:xfrm>
            <a:off x="6973920" y="195120"/>
            <a:ext cx="1884240" cy="908280"/>
          </a:xfrm>
          <a:prstGeom prst="rect">
            <a:avLst/>
          </a:prstGeom>
          <a:ln w="0">
            <a:noFill/>
          </a:ln>
        </p:spPr>
      </p:pic>
      <p:pic>
        <p:nvPicPr>
          <p:cNvPr id="250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7 CuadroTexto"/>
          <p:cNvSpPr/>
          <p:nvPr/>
        </p:nvSpPr>
        <p:spPr>
          <a:xfrm>
            <a:off x="2340000" y="40464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Instrumentos: informe fin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8 Rectángulo"/>
          <p:cNvSpPr/>
          <p:nvPr/>
        </p:nvSpPr>
        <p:spPr>
          <a:xfrm>
            <a:off x="971640" y="1052640"/>
            <a:ext cx="720072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Elaborar  solo a los estudiantes del tercer grupo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254" name="6 Imagen" descr=""/>
          <p:cNvPicPr/>
          <p:nvPr/>
        </p:nvPicPr>
        <p:blipFill>
          <a:blip r:embed="rId3"/>
          <a:stretch/>
        </p:blipFill>
        <p:spPr>
          <a:xfrm>
            <a:off x="7334280" y="49320"/>
            <a:ext cx="1888920" cy="914400"/>
          </a:xfrm>
          <a:prstGeom prst="rect">
            <a:avLst/>
          </a:prstGeom>
          <a:ln w="0">
            <a:noFill/>
          </a:ln>
        </p:spPr>
      </p:pic>
      <p:sp>
        <p:nvSpPr>
          <p:cNvPr id="255" name="11 CuadroTexto"/>
          <p:cNvSpPr/>
          <p:nvPr/>
        </p:nvSpPr>
        <p:spPr>
          <a:xfrm>
            <a:off x="2411280" y="19162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3 Rectángulo"/>
          <p:cNvSpPr/>
          <p:nvPr/>
        </p:nvSpPr>
        <p:spPr>
          <a:xfrm>
            <a:off x="1042920" y="2781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ertificado de  Prosecución del Nivel de Educación Inicial al Primer Grado de Educación Pri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4 CuadroTexto"/>
          <p:cNvSpPr/>
          <p:nvPr/>
        </p:nvSpPr>
        <p:spPr>
          <a:xfrm>
            <a:off x="971640" y="4076640"/>
            <a:ext cx="7345440" cy="642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 elabora solo para el grupo que va egresar de la  institución para el nivel Educación pri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  <p:sp>
        <p:nvSpPr>
          <p:cNvPr id="259" name="9 Rectángulo"/>
          <p:cNvSpPr/>
          <p:nvPr/>
        </p:nvSpPr>
        <p:spPr>
          <a:xfrm>
            <a:off x="971640" y="1557360"/>
            <a:ext cx="720072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de se redactará en forma de resumen  los logros alcanzados durante el año escolar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 inicio, mediados y el final 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"/>
          <p:cNvSpPr/>
          <p:nvPr/>
        </p:nvSpPr>
        <p:spPr>
          <a:xfrm>
            <a:off x="1042920" y="333720"/>
            <a:ext cx="7143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REPUBLICA BOLIVARIANA DE VENEZUEL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MINISTERIO DEL PODER POPULAR PARA LA EDUC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ESCUELA DE EDUCACION INICIAL. 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476360" y="1052640"/>
            <a:ext cx="7416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NOMBRE Y APELLIDO DEL NIÑO(A): 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CEDULA ESCOLAR: ____________________          EDAD: ______                      PESO: ______                  TALLA: ________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NIVEL: EDUCACIÓN INICIAL- VIA DE ATENCIÓN: ____________________  ETAPA:______________ GRUPO: 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DOCENTES: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DIRECTORA:___________________________________ REPRESENTANTE: _____________________________CI: 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MUNICIPIO:__________________________COMUNIDAD: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PLANES  Y PROYECTOS: 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_____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FECHÄ:  DESDE ________________________  HASTA:_________________________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3202560" y="2781360"/>
            <a:ext cx="201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INFORM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PRENDIZAJES ALCANZ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476360" y="3232080"/>
            <a:ext cx="670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1027440" y="5229360"/>
            <a:ext cx="71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COMENDACIONES DEL DOCENTE: 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1027440" y="6237360"/>
            <a:ext cx="140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FIRMA DIRE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6210360" y="6237360"/>
            <a:ext cx="173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FIRMA REPRESENT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3780000" y="6237360"/>
            <a:ext cx="131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FIRMA DOC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269" name="6 Imagen" descr=""/>
          <p:cNvPicPr/>
          <p:nvPr/>
        </p:nvPicPr>
        <p:blipFill>
          <a:blip r:embed="rId3"/>
          <a:stretch/>
        </p:blipFill>
        <p:spPr>
          <a:xfrm>
            <a:off x="6973920" y="195120"/>
            <a:ext cx="1884240" cy="908280"/>
          </a:xfrm>
          <a:prstGeom prst="rect">
            <a:avLst/>
          </a:prstGeom>
          <a:ln w="0">
            <a:noFill/>
          </a:ln>
        </p:spPr>
      </p:pic>
      <p:pic>
        <p:nvPicPr>
          <p:cNvPr id="270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2361240" y="333360"/>
            <a:ext cx="4210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EPÚBLICA BOLIVARIANA DE VENEZU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MINISTERIO DEL PODER POPULAR PARA LA EDU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Viceministerio de Participación y Apoyo Acadé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Dirección General de Registro y Control Acadé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6805800" y="90792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P-000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5294520" y="1700280"/>
            <a:ext cx="292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ódigo Plantel: DEA___________________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1837080" y="2133720"/>
            <a:ext cx="456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LANTEL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539640" y="2492280"/>
            <a:ext cx="81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ERTIFICADO DE  PROSECUCIÓN DEL NIVEL DE EDUCACIÓN INICIAL 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IMER GRADO DE EDUCACIÓN PRIMARIA, QUE SE OTORGA  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1044360" y="2997360"/>
            <a:ext cx="76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4788000" y="3429000"/>
            <a:ext cx="37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alibri"/>
              </a:rPr>
              <a:t>el ________ de ____________del _______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1263960" y="335772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cido (a) en :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1125000" y="3789360"/>
            <a:ext cx="511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Cédula Escolar Nº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: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1191240" y="4076640"/>
            <a:ext cx="44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Previo el cumplimiento de los requisitos exigidos por la Le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1116000" y="4365720"/>
            <a:ext cx="66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 el nivel de Educación Inicial y continuará su proceso educativo en Primer Grado d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5"/>
          <p:cNvSpPr/>
          <p:nvPr/>
        </p:nvSpPr>
        <p:spPr>
          <a:xfrm>
            <a:off x="1195200" y="4724280"/>
            <a:ext cx="458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ducación Primaria durante el año escolar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2011 – 2012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7"/>
          <p:cNvSpPr/>
          <p:nvPr/>
        </p:nvSpPr>
        <p:spPr>
          <a:xfrm>
            <a:off x="1118880" y="530064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rma del (la) Director 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3927600" y="58053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llo del Plan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1"/>
          <p:cNvSpPr/>
          <p:nvPr/>
        </p:nvSpPr>
        <p:spPr>
          <a:xfrm>
            <a:off x="6159600" y="537372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rma del ( la) Doc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2"/>
          <p:cNvSpPr/>
          <p:nvPr/>
        </p:nvSpPr>
        <p:spPr>
          <a:xfrm>
            <a:off x="903600" y="5805360"/>
            <a:ext cx="26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ño Escolar de Egreso: 2011 -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5371560" y="6308640"/>
            <a:ext cx="32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n Cristóbal, _________ de Julio de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900000" y="260280"/>
            <a:ext cx="1511280" cy="504720"/>
          </a:xfrm>
          <a:prstGeom prst="rect">
            <a:avLst/>
          </a:prstGeom>
          <a:ln w="0">
            <a:noFill/>
          </a:ln>
        </p:spPr>
      </p:pic>
      <p:pic>
        <p:nvPicPr>
          <p:cNvPr id="289" name="6 Imagen" descr=""/>
          <p:cNvPicPr/>
          <p:nvPr/>
        </p:nvPicPr>
        <p:blipFill>
          <a:blip r:embed="rId3"/>
          <a:stretch/>
        </p:blipFill>
        <p:spPr>
          <a:xfrm>
            <a:off x="7192800" y="122400"/>
            <a:ext cx="1884600" cy="907920"/>
          </a:xfrm>
          <a:prstGeom prst="rect">
            <a:avLst/>
          </a:prstGeom>
          <a:ln w="0">
            <a:noFill/>
          </a:ln>
        </p:spPr>
      </p:pic>
      <p:pic>
        <p:nvPicPr>
          <p:cNvPr id="290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13 Diagrama" descr=""/>
          <p:cNvPicPr/>
          <p:nvPr/>
        </p:nvPicPr>
        <p:blipFill>
          <a:blip r:embed="rId2"/>
          <a:stretch/>
        </p:blipFill>
        <p:spPr>
          <a:xfrm>
            <a:off x="1274760" y="1158840"/>
            <a:ext cx="6888240" cy="3925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"/>
          <p:cNvPicPr/>
          <p:nvPr/>
        </p:nvPicPr>
        <p:blipFill>
          <a:blip r:embed="rId3"/>
          <a:stretch/>
        </p:blipFill>
        <p:spPr>
          <a:xfrm>
            <a:off x="611280" y="189000"/>
            <a:ext cx="1944720" cy="503280"/>
          </a:xfrm>
          <a:prstGeom prst="rect">
            <a:avLst/>
          </a:prstGeom>
          <a:ln w="0">
            <a:noFill/>
          </a:ln>
        </p:spPr>
      </p:pic>
      <p:sp>
        <p:nvSpPr>
          <p:cNvPr id="293" name="14 Rectángulo"/>
          <p:cNvSpPr/>
          <p:nvPr/>
        </p:nvSpPr>
        <p:spPr>
          <a:xfrm>
            <a:off x="2715840" y="40464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Calibri"/>
              </a:rPr>
              <a:t>Objeto de la 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6 Imagen" descr=""/>
          <p:cNvPicPr/>
          <p:nvPr/>
        </p:nvPicPr>
        <p:blipFill>
          <a:blip r:embed="rId4"/>
          <a:stretch/>
        </p:blipFill>
        <p:spPr>
          <a:xfrm>
            <a:off x="7192800" y="122400"/>
            <a:ext cx="1884600" cy="907920"/>
          </a:xfrm>
          <a:prstGeom prst="rect">
            <a:avLst/>
          </a:prstGeom>
          <a:ln w="0">
            <a:noFill/>
          </a:ln>
        </p:spPr>
      </p:pic>
      <p:sp>
        <p:nvSpPr>
          <p:cNvPr id="295" name="6 CuadroTexto"/>
          <p:cNvSpPr/>
          <p:nvPr/>
        </p:nvSpPr>
        <p:spPr>
          <a:xfrm>
            <a:off x="1187280" y="53737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La Educación inicial es un sola, estos aspectos son válidos para las dos vías de Atención Educativa Convencional y No Conven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900000" y="6357960"/>
            <a:ext cx="73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Calibri"/>
                <a:ea typeface="Calibri"/>
              </a:rPr>
              <a:t>Ministerio del Poder Popular para la Educación (2007).  Currículo y orientaciones metodológicas  de Subsistema de Educación Inicial Bolivariana. Caracas: au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Imagen 1" descr="http://www.me.gov.ve/simoncito1.jpg"/>
          <p:cNvPicPr/>
          <p:nvPr/>
        </p:nvPicPr>
        <p:blipFill>
          <a:blip r:embed="rId5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1 CuadroTexto"/>
          <p:cNvSpPr/>
          <p:nvPr/>
        </p:nvSpPr>
        <p:spPr>
          <a:xfrm>
            <a:off x="1042920" y="1125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¿Qué evalu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2 CuadroTexto"/>
          <p:cNvSpPr/>
          <p:nvPr/>
        </p:nvSpPr>
        <p:spPr>
          <a:xfrm>
            <a:off x="1116000" y="4005360"/>
            <a:ext cx="309564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Patrones de cri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Interacciones niños (a), padres- maestros y adulto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3 Rectángulo"/>
          <p:cNvSpPr/>
          <p:nvPr/>
        </p:nvSpPr>
        <p:spPr>
          <a:xfrm>
            <a:off x="1116000" y="1916280"/>
            <a:ext cx="309564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Desarrollo del niños y la niñ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4 Rectángulo"/>
          <p:cNvSpPr/>
          <p:nvPr/>
        </p:nvSpPr>
        <p:spPr>
          <a:xfrm>
            <a:off x="1116000" y="2924280"/>
            <a:ext cx="316872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Ambiente de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Ambiente famili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5 CuadroTexto"/>
          <p:cNvSpPr/>
          <p:nvPr/>
        </p:nvSpPr>
        <p:spPr>
          <a:xfrm>
            <a:off x="4932360" y="105264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¿Dónde evalu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6 CuadroTexto"/>
          <p:cNvSpPr/>
          <p:nvPr/>
        </p:nvSpPr>
        <p:spPr>
          <a:xfrm>
            <a:off x="5003640" y="4005360"/>
            <a:ext cx="2664000" cy="11912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pacios comuni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7 Rectángulo"/>
          <p:cNvSpPr/>
          <p:nvPr/>
        </p:nvSpPr>
        <p:spPr>
          <a:xfrm>
            <a:off x="5018400" y="1773360"/>
            <a:ext cx="268632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ntro de educación in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8 Rectángulo"/>
          <p:cNvSpPr/>
          <p:nvPr/>
        </p:nvSpPr>
        <p:spPr>
          <a:xfrm>
            <a:off x="5003640" y="2349360"/>
            <a:ext cx="266400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cuela de educación in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9 Rectángulo"/>
          <p:cNvSpPr/>
          <p:nvPr/>
        </p:nvSpPr>
        <p:spPr>
          <a:xfrm>
            <a:off x="5003640" y="3213000"/>
            <a:ext cx="266400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udote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2089440" cy="336600"/>
          </a:xfrm>
          <a:prstGeom prst="rect">
            <a:avLst/>
          </a:prstGeom>
          <a:ln w="0">
            <a:noFill/>
          </a:ln>
        </p:spPr>
      </p:pic>
      <p:pic>
        <p:nvPicPr>
          <p:cNvPr id="308" name="6 Imagen" descr=""/>
          <p:cNvPicPr/>
          <p:nvPr/>
        </p:nvPicPr>
        <p:blipFill>
          <a:blip r:embed="rId3"/>
          <a:stretch/>
        </p:blipFill>
        <p:spPr>
          <a:xfrm>
            <a:off x="7047000" y="122400"/>
            <a:ext cx="1884240" cy="9079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3"/>
          <p:cNvSpPr/>
          <p:nvPr/>
        </p:nvSpPr>
        <p:spPr>
          <a:xfrm>
            <a:off x="1042920" y="6213240"/>
            <a:ext cx="532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Calibri"/>
                <a:ea typeface="Calibri"/>
              </a:rPr>
              <a:t>Ministerio del Poder Popular para la Educación (2005). Currículo de Educación Inicial. Caracas: auto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  <a:ea typeface="Calibri"/>
              </a:rPr>
              <a:t>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1 CuadroTexto"/>
          <p:cNvSpPr/>
          <p:nvPr/>
        </p:nvSpPr>
        <p:spPr>
          <a:xfrm>
            <a:off x="3419640" y="40464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La 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2 CuadroTexto"/>
          <p:cNvSpPr/>
          <p:nvPr/>
        </p:nvSpPr>
        <p:spPr>
          <a:xfrm>
            <a:off x="900000" y="1628640"/>
            <a:ext cx="7128000" cy="2654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evaluación se basa en la observación directa de niños/as  en las diferentes situaciones  de aprendizaje , por lo que considera  que los / las  docente inician un proceso desde la investigación acción participativa  donde precisen el perfil de entrada del niño y la niña, además oriente a  el/ la   docente el procedimiento de los aprendizajes y avances , con su ritmo individual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3 CuadroTexto"/>
          <p:cNvSpPr/>
          <p:nvPr/>
        </p:nvSpPr>
        <p:spPr>
          <a:xfrm>
            <a:off x="1187280" y="4797360"/>
            <a:ext cx="60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rientaciones generales para el inicio de año escolar 2010-2011   Gaceta oficial 394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Imagen 1" descr="http://www.me.gov.ve/simoncito1.jpg"/>
          <p:cNvPicPr/>
          <p:nvPr/>
        </p:nvPicPr>
        <p:blipFill>
          <a:blip r:embed="rId2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"/>
          <p:cNvPicPr/>
          <p:nvPr/>
        </p:nvPicPr>
        <p:blipFill>
          <a:blip r:embed="rId3"/>
          <a:stretch/>
        </p:blipFill>
        <p:spPr>
          <a:xfrm>
            <a:off x="971640" y="333360"/>
            <a:ext cx="2089080" cy="336600"/>
          </a:xfrm>
          <a:prstGeom prst="rect">
            <a:avLst/>
          </a:prstGeom>
          <a:ln w="0">
            <a:noFill/>
          </a:ln>
        </p:spPr>
      </p:pic>
      <p:pic>
        <p:nvPicPr>
          <p:cNvPr id="316" name="6 Imagen" descr=""/>
          <p:cNvPicPr/>
          <p:nvPr/>
        </p:nvPicPr>
        <p:blipFill>
          <a:blip r:embed="rId4"/>
          <a:stretch/>
        </p:blipFill>
        <p:spPr>
          <a:xfrm>
            <a:off x="6900840" y="195120"/>
            <a:ext cx="188928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2 Rectángulo"/>
          <p:cNvSpPr/>
          <p:nvPr/>
        </p:nvSpPr>
        <p:spPr>
          <a:xfrm>
            <a:off x="971640" y="1413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Enseñen y tendrán quien sepa, eduquen y tendrán quién hag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3 CuadroTexto"/>
          <p:cNvSpPr/>
          <p:nvPr/>
        </p:nvSpPr>
        <p:spPr>
          <a:xfrm>
            <a:off x="2771640" y="299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Simón Rodríg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2089080" cy="336600"/>
          </a:xfrm>
          <a:prstGeom prst="rect">
            <a:avLst/>
          </a:prstGeom>
          <a:ln w="0">
            <a:noFill/>
          </a:ln>
        </p:spPr>
      </p:pic>
      <p:pic>
        <p:nvPicPr>
          <p:cNvPr id="320" name="6 Imagen" descr=""/>
          <p:cNvPicPr/>
          <p:nvPr/>
        </p:nvPicPr>
        <p:blipFill>
          <a:blip r:embed="rId3"/>
          <a:stretch/>
        </p:blipFill>
        <p:spPr>
          <a:xfrm>
            <a:off x="7192800" y="122400"/>
            <a:ext cx="1884600" cy="907920"/>
          </a:xfrm>
          <a:prstGeom prst="rect">
            <a:avLst/>
          </a:prstGeom>
          <a:ln w="0">
            <a:noFill/>
          </a:ln>
        </p:spPr>
      </p:pic>
      <p:pic>
        <p:nvPicPr>
          <p:cNvPr id="321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5"/>
          <a:stretch/>
        </p:blipFill>
        <p:spPr>
          <a:xfrm>
            <a:off x="5505480" y="2773440"/>
            <a:ext cx="2041560" cy="27064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1"/>
          <p:cNvSpPr/>
          <p:nvPr/>
        </p:nvSpPr>
        <p:spPr>
          <a:xfrm>
            <a:off x="826920" y="6020280"/>
            <a:ext cx="748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Calibri"/>
                <a:ea typeface="Calibri"/>
              </a:rPr>
              <a:t>Ministerio del Poder Popular para la Educación (2007).  Currículo y orientaciones metodológicas  de Subsistema de Educación Inicial Bolivariana. Caracas: au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Calibri"/>
                <a:ea typeface="Calibri"/>
              </a:rPr>
              <a:t>Ministerio del Poder Popular para la Educación (2005). Currículo de Educación Inicial. Caracas: au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5 Llamada de flecha hacia abajo"/>
          <p:cNvSpPr/>
          <p:nvPr/>
        </p:nvSpPr>
        <p:spPr>
          <a:xfrm>
            <a:off x="826920" y="2349360"/>
            <a:ext cx="2665440" cy="719280"/>
          </a:xfrm>
          <a:prstGeom prst="downArrowCallout">
            <a:avLst>
              <a:gd name="adj1" fmla="val 24981"/>
              <a:gd name="adj2" fmla="val 24996"/>
              <a:gd name="adj3" fmla="val 25000"/>
              <a:gd name="adj4" fmla="val 6497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Foc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6 Llamada de flecha hacia abajo"/>
          <p:cNvSpPr/>
          <p:nvPr/>
        </p:nvSpPr>
        <p:spPr>
          <a:xfrm>
            <a:off x="4643280" y="2349360"/>
            <a:ext cx="2665440" cy="719280"/>
          </a:xfrm>
          <a:prstGeom prst="downArrowCallout">
            <a:avLst>
              <a:gd name="adj1" fmla="val 24981"/>
              <a:gd name="adj2" fmla="val 24996"/>
              <a:gd name="adj3" fmla="val 25000"/>
              <a:gd name="adj4" fmla="val 6497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No foc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7 Llamada de flecha hacia abajo"/>
          <p:cNvSpPr/>
          <p:nvPr/>
        </p:nvSpPr>
        <p:spPr>
          <a:xfrm>
            <a:off x="826920" y="3213000"/>
            <a:ext cx="2665440" cy="647640"/>
          </a:xfrm>
          <a:prstGeom prst="downArrowCallout">
            <a:avLst>
              <a:gd name="adj1" fmla="val 25001"/>
              <a:gd name="adj2" fmla="val 24998"/>
              <a:gd name="adj3" fmla="val 25000"/>
              <a:gd name="adj4" fmla="val 64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if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Llamada de flecha hacia abajo"/>
          <p:cNvSpPr/>
          <p:nvPr/>
        </p:nvSpPr>
        <p:spPr>
          <a:xfrm>
            <a:off x="4500720" y="3141720"/>
            <a:ext cx="3384360" cy="86364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pontánea sin haber previsto lo que se va observ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2 Rectángulo"/>
          <p:cNvSpPr/>
          <p:nvPr/>
        </p:nvSpPr>
        <p:spPr>
          <a:xfrm>
            <a:off x="826920" y="3933720"/>
            <a:ext cx="3240360" cy="273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 intencional , factible si tiene  la idea exacta de  lo que queremos  sa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 adulto interviene para mediar, o solo registra los niños y niñas  sin apoyo de los adultos o adulta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ando estos intervienen con la  mediación estarán potenciando el nivel pot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3 Rectángulo"/>
          <p:cNvSpPr/>
          <p:nvPr/>
        </p:nvSpPr>
        <p:spPr>
          <a:xfrm>
            <a:off x="4427640" y="4005360"/>
            <a:ext cx="3744720" cy="25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requiere ningún conocimientos inicial sobre lo que obser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 el adulto y la adulta no intervienen, evidencia el nivel real, si lo hacen estarán trabajando el nivel  de desarrollo potencial del aprendizaj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908000" y="260280"/>
            <a:ext cx="568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La observación puede s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900000" y="189000"/>
            <a:ext cx="1511280" cy="504720"/>
          </a:xfrm>
          <a:prstGeom prst="rect">
            <a:avLst/>
          </a:prstGeom>
          <a:ln w="0">
            <a:noFill/>
          </a:ln>
        </p:spPr>
      </p:pic>
      <p:pic>
        <p:nvPicPr>
          <p:cNvPr id="83" name="6 Imagen" descr=""/>
          <p:cNvPicPr/>
          <p:nvPr/>
        </p:nvPicPr>
        <p:blipFill>
          <a:blip r:embed="rId3"/>
          <a:stretch/>
        </p:blipFill>
        <p:spPr>
          <a:xfrm>
            <a:off x="6900840" y="49320"/>
            <a:ext cx="1889280" cy="914400"/>
          </a:xfrm>
          <a:prstGeom prst="rect">
            <a:avLst/>
          </a:prstGeom>
          <a:ln w="0">
            <a:noFill/>
          </a:ln>
        </p:spPr>
      </p:pic>
      <p:sp>
        <p:nvSpPr>
          <p:cNvPr id="84" name="18 CuadroTexto"/>
          <p:cNvSpPr/>
          <p:nvPr/>
        </p:nvSpPr>
        <p:spPr>
          <a:xfrm>
            <a:off x="755640" y="765000"/>
            <a:ext cx="7920000" cy="642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 observación del desarrollo y los aprendizajes tiene que ver con mirar y escuchar con el máximo de atención y con un propósito defin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9 CuadroTexto"/>
          <p:cNvSpPr/>
          <p:nvPr/>
        </p:nvSpPr>
        <p:spPr>
          <a:xfrm>
            <a:off x="755640" y="1484280"/>
            <a:ext cx="7704000" cy="642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ede ser directa en las situaciones de aprendizaje espontánea o planificada en ambiente natural, con carácter participativo, individual o gru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332000" y="1197000"/>
            <a:ext cx="2016000" cy="5763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p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23 Llamada de flecha hacia abajo"/>
          <p:cNvSpPr/>
          <p:nvPr/>
        </p:nvSpPr>
        <p:spPr>
          <a:xfrm>
            <a:off x="1042920" y="2276640"/>
            <a:ext cx="3097440" cy="1008000"/>
          </a:xfrm>
          <a:prstGeom prst="downArrowCallout">
            <a:avLst>
              <a:gd name="adj1" fmla="val 25012"/>
              <a:gd name="adj2" fmla="val 25010"/>
              <a:gd name="adj3" fmla="val 25000"/>
              <a:gd name="adj4" fmla="val 6497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valuación diagnós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 inicio del año esc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24 Llamada de flecha hacia abajo"/>
          <p:cNvSpPr/>
          <p:nvPr/>
        </p:nvSpPr>
        <p:spPr>
          <a:xfrm>
            <a:off x="1116000" y="3573360"/>
            <a:ext cx="3095640" cy="129564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valuación formativ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rante el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 proceso educ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187280" y="5445000"/>
            <a:ext cx="2808360" cy="648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valuación fi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es trimest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31 Diagrama" descr=""/>
          <p:cNvPicPr/>
          <p:nvPr/>
        </p:nvPicPr>
        <p:blipFill>
          <a:blip r:embed="rId2"/>
          <a:stretch/>
        </p:blipFill>
        <p:spPr>
          <a:xfrm>
            <a:off x="4821120" y="2378160"/>
            <a:ext cx="2719440" cy="3290760"/>
          </a:xfrm>
          <a:prstGeom prst="rect">
            <a:avLst/>
          </a:prstGeom>
          <a:ln w="0">
            <a:noFill/>
          </a:ln>
        </p:spPr>
      </p:pic>
      <p:sp>
        <p:nvSpPr>
          <p:cNvPr id="91" name="28 Llamada de flecha hacia abajo"/>
          <p:cNvSpPr/>
          <p:nvPr/>
        </p:nvSpPr>
        <p:spPr>
          <a:xfrm>
            <a:off x="5003640" y="1197000"/>
            <a:ext cx="2305080" cy="792000"/>
          </a:xfrm>
          <a:prstGeom prst="downArrowCallout">
            <a:avLst>
              <a:gd name="adj1" fmla="val 25011"/>
              <a:gd name="adj2" fmla="val 25008"/>
              <a:gd name="adj3" fmla="val 25000"/>
              <a:gd name="adj4" fmla="val 6497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050920" y="260280"/>
            <a:ext cx="6050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Evaluación en la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Imagen 3" descr="logo5"/>
          <p:cNvPicPr/>
          <p:nvPr/>
        </p:nvPicPr>
        <p:blipFill>
          <a:blip r:embed="rId3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6 Imagen" descr=""/>
          <p:cNvPicPr/>
          <p:nvPr/>
        </p:nvPicPr>
        <p:blipFill>
          <a:blip r:embed="rId4"/>
          <a:stretch/>
        </p:blipFill>
        <p:spPr>
          <a:xfrm>
            <a:off x="7334280" y="122400"/>
            <a:ext cx="1888920" cy="907920"/>
          </a:xfrm>
          <a:prstGeom prst="rect">
            <a:avLst/>
          </a:prstGeom>
          <a:ln w="0">
            <a:noFill/>
          </a:ln>
        </p:spPr>
      </p:pic>
      <p:pic>
        <p:nvPicPr>
          <p:cNvPr id="95" name="Imagen 1" descr="http://www.me.gov.ve/simoncito1.jpg"/>
          <p:cNvPicPr/>
          <p:nvPr/>
        </p:nvPicPr>
        <p:blipFill>
          <a:blip r:embed="rId5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6"/>
          <p:cNvSpPr/>
          <p:nvPr/>
        </p:nvSpPr>
        <p:spPr>
          <a:xfrm>
            <a:off x="1970280" y="6400080"/>
            <a:ext cx="642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  <a:ea typeface="Calibri"/>
              </a:rPr>
              <a:t>Ministerio del Poder Popular para la Educación (2005). Currículo de Educación Inicial. Caracas: au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1 CuadroTexto"/>
          <p:cNvSpPr/>
          <p:nvPr/>
        </p:nvSpPr>
        <p:spPr>
          <a:xfrm>
            <a:off x="1763640" y="26028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Orient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Entrevistas a los padres o famili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99" name="6 Imagen" descr=""/>
          <p:cNvPicPr/>
          <p:nvPr/>
        </p:nvPicPr>
        <p:blipFill>
          <a:blip r:embed="rId3"/>
          <a:stretch/>
        </p:blipFill>
        <p:spPr>
          <a:xfrm>
            <a:off x="7259760" y="122400"/>
            <a:ext cx="1890720" cy="907920"/>
          </a:xfrm>
          <a:prstGeom prst="rect">
            <a:avLst/>
          </a:prstGeom>
          <a:ln w="0">
            <a:noFill/>
          </a:ln>
        </p:spPr>
      </p:pic>
      <p:sp>
        <p:nvSpPr>
          <p:cNvPr id="100" name="5 Rectángulo"/>
          <p:cNvSpPr/>
          <p:nvPr/>
        </p:nvSpPr>
        <p:spPr>
          <a:xfrm>
            <a:off x="1042920" y="1413000"/>
            <a:ext cx="720108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inda información útil de cómo ha transcurrido la vida del niño o niña en el hogar, la comunidad, que les gusta y que no, que hacen, como lo ha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6 Rectángulo"/>
          <p:cNvSpPr/>
          <p:nvPr/>
        </p:nvSpPr>
        <p:spPr>
          <a:xfrm>
            <a:off x="1042920" y="2276640"/>
            <a:ext cx="73454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 el intercambio con la familia se puede obtener cuales son los patrones de crianza, como perciben a su hijo o hija, que aspira para él o el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ocimiento en diversas áreas de salud, alimentación, juegos, hábitos, datos entre 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7 Rectángulo"/>
          <p:cNvSpPr/>
          <p:nvPr/>
        </p:nvSpPr>
        <p:spPr>
          <a:xfrm>
            <a:off x="1042920" y="3716280"/>
            <a:ext cx="720108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 importante la información para  el o la docente que trabajen en las instituciones o comu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8 Rectángulo"/>
          <p:cNvSpPr/>
          <p:nvPr/>
        </p:nvSpPr>
        <p:spPr>
          <a:xfrm>
            <a:off x="1042920" y="4653000"/>
            <a:ext cx="720108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da información que aporten contribuye a obtener una visión global de cómo es su hogar y el tipo de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9 Llamada de flecha hacia arriba"/>
          <p:cNvSpPr/>
          <p:nvPr/>
        </p:nvSpPr>
        <p:spPr>
          <a:xfrm>
            <a:off x="2411280" y="5373720"/>
            <a:ext cx="5113440" cy="1150920"/>
          </a:xfrm>
          <a:prstGeom prst="upArrowCallout">
            <a:avLst>
              <a:gd name="adj1" fmla="val 25014"/>
              <a:gd name="adj2" fmla="val 24991"/>
              <a:gd name="adj3" fmla="val 25000"/>
              <a:gd name="adj4" fmla="val 70041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ede elaborarse con dicha información: ficha de inscripción  y la acumula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500040" y="357120"/>
            <a:ext cx="82296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8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Rectángulo"/>
          <p:cNvSpPr/>
          <p:nvPr/>
        </p:nvSpPr>
        <p:spPr>
          <a:xfrm>
            <a:off x="1352160" y="2997360"/>
            <a:ext cx="259308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Registros anecdót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5 Rectángulo"/>
          <p:cNvSpPr/>
          <p:nvPr/>
        </p:nvSpPr>
        <p:spPr>
          <a:xfrm>
            <a:off x="5155560" y="2997360"/>
            <a:ext cx="231588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Registro descrip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6 Rectángulo"/>
          <p:cNvSpPr/>
          <p:nvPr/>
        </p:nvSpPr>
        <p:spPr>
          <a:xfrm>
            <a:off x="2693160" y="6308640"/>
            <a:ext cx="413388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Cuadernos de registros e incid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57200" y="476280"/>
            <a:ext cx="8435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2900" spc="-1" strike="noStrike">
                <a:solidFill>
                  <a:srgbClr val="7030a0"/>
                </a:solidFill>
                <a:latin typeface="Calibri"/>
              </a:rPr>
              <a:t>Instrumentos: Registro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9 Flecha abajo"/>
          <p:cNvSpPr/>
          <p:nvPr/>
        </p:nvSpPr>
        <p:spPr>
          <a:xfrm>
            <a:off x="2411280" y="2421000"/>
            <a:ext cx="505080" cy="503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0 Flecha abajo"/>
          <p:cNvSpPr/>
          <p:nvPr/>
        </p:nvSpPr>
        <p:spPr>
          <a:xfrm>
            <a:off x="5796000" y="242100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2 Flecha izquierda, derecha y arriba"/>
          <p:cNvSpPr/>
          <p:nvPr/>
        </p:nvSpPr>
        <p:spPr>
          <a:xfrm rot="10800000">
            <a:off x="3779640" y="4437000"/>
            <a:ext cx="1439640" cy="1728720"/>
          </a:xfrm>
          <a:custGeom>
            <a:avLst/>
            <a:gdLst>
              <a:gd name="textAreaLeft" fmla="*/ 180000 w 1439640"/>
              <a:gd name="textAreaRight" fmla="*/ 1259640 w 1439640"/>
              <a:gd name="textAreaTop" fmla="*/ 1188720 h 1728720"/>
              <a:gd name="textAreaBottom" fmla="*/ 1548720 h 1728720"/>
            </a:gdLst>
            <a:ahLst/>
            <a:rect l="textAreaLeft" t="textAreaTop" r="textAreaRight" b="textAreaBottom"/>
            <a:pathLst>
              <a:path w="1439862" h="1728787">
                <a:moveTo>
                  <a:pt x="0" y="1368822"/>
                </a:moveTo>
                <a:lnTo>
                  <a:pt x="359966" y="1008856"/>
                </a:lnTo>
                <a:lnTo>
                  <a:pt x="359966" y="1188839"/>
                </a:lnTo>
                <a:lnTo>
                  <a:pt x="539948" y="1188839"/>
                </a:lnTo>
                <a:lnTo>
                  <a:pt x="539948" y="359966"/>
                </a:lnTo>
                <a:lnTo>
                  <a:pt x="359966" y="359966"/>
                </a:lnTo>
                <a:lnTo>
                  <a:pt x="719931" y="0"/>
                </a:lnTo>
                <a:lnTo>
                  <a:pt x="1079897" y="359966"/>
                </a:lnTo>
                <a:lnTo>
                  <a:pt x="899914" y="359966"/>
                </a:lnTo>
                <a:lnTo>
                  <a:pt x="899914" y="1188839"/>
                </a:lnTo>
                <a:lnTo>
                  <a:pt x="1079897" y="1188839"/>
                </a:lnTo>
                <a:lnTo>
                  <a:pt x="1079897" y="1008856"/>
                </a:lnTo>
                <a:lnTo>
                  <a:pt x="1439862" y="1368822"/>
                </a:lnTo>
                <a:lnTo>
                  <a:pt x="1079897" y="1728787"/>
                </a:lnTo>
                <a:lnTo>
                  <a:pt x="1079897" y="1548804"/>
                </a:lnTo>
                <a:lnTo>
                  <a:pt x="359966" y="1548804"/>
                </a:lnTo>
                <a:lnTo>
                  <a:pt x="359966" y="1728787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4 Rectángulo"/>
          <p:cNvSpPr/>
          <p:nvPr/>
        </p:nvSpPr>
        <p:spPr>
          <a:xfrm>
            <a:off x="971640" y="1125360"/>
            <a:ext cx="7056360" cy="916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Consiste en recoger información descriptiva de lo que el niño y la niña hacen sin emitir juicios; haciendo énfasis en detectar los aprendizajes </a:t>
            </a:r>
            <a:r>
              <a:rPr b="0" i="1" lang="es-VE" sz="1800" spc="-1" strike="noStrike">
                <a:solidFill>
                  <a:srgbClr val="000000"/>
                </a:solidFill>
                <a:latin typeface="Calibri"/>
              </a:rPr>
              <a:t>que</a:t>
            </a: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 se están generando durante la experiencia pedagóg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116" name="6 Imagen" descr=""/>
          <p:cNvPicPr/>
          <p:nvPr/>
        </p:nvPicPr>
        <p:blipFill>
          <a:blip r:embed="rId3"/>
          <a:stretch/>
        </p:blipFill>
        <p:spPr>
          <a:xfrm>
            <a:off x="6973920" y="195120"/>
            <a:ext cx="1884240" cy="908280"/>
          </a:xfrm>
          <a:prstGeom prst="rect">
            <a:avLst/>
          </a:prstGeom>
          <a:ln w="0">
            <a:noFill/>
          </a:ln>
        </p:spPr>
      </p:pic>
      <p:sp>
        <p:nvSpPr>
          <p:cNvPr id="117" name="18 CuadroTexto"/>
          <p:cNvSpPr/>
          <p:nvPr/>
        </p:nvSpPr>
        <p:spPr>
          <a:xfrm>
            <a:off x="1116000" y="3716280"/>
            <a:ext cx="237636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ando sucede un hecho inesperado, un suceso significativo que no se había observado con anterio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9 CuadroTexto"/>
          <p:cNvSpPr/>
          <p:nvPr/>
        </p:nvSpPr>
        <p:spPr>
          <a:xfrm>
            <a:off x="5435640" y="3789360"/>
            <a:ext cx="266544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ce énfasis en detectar los aprendizajes que se están generando  durante la experiencia  pedagóg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Rectángulo"/>
          <p:cNvSpPr/>
          <p:nvPr/>
        </p:nvSpPr>
        <p:spPr>
          <a:xfrm>
            <a:off x="900000" y="2924280"/>
            <a:ext cx="777564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Se puede comenzar un plan o proyecto teniendo un solo registro del niño(a)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fami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Rectángulo"/>
          <p:cNvSpPr/>
          <p:nvPr/>
        </p:nvSpPr>
        <p:spPr>
          <a:xfrm>
            <a:off x="2556000" y="260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Instrumentos:  Reg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7 Rectángulo"/>
          <p:cNvSpPr/>
          <p:nvPr/>
        </p:nvSpPr>
        <p:spPr>
          <a:xfrm>
            <a:off x="900000" y="3716280"/>
            <a:ext cx="777564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Evitar el exceso de gerundios y conec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8 Rectángulo"/>
          <p:cNvSpPr/>
          <p:nvPr/>
        </p:nvSpPr>
        <p:spPr>
          <a:xfrm>
            <a:off x="971640" y="981000"/>
            <a:ext cx="4824360" cy="1224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eben contene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echa, nombre y apellido del niño, edad , espacio o momento de la rutina </a:t>
            </a: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sucedió la situación desc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125" name="6 Imagen" descr=""/>
          <p:cNvPicPr/>
          <p:nvPr/>
        </p:nvPicPr>
        <p:blipFill>
          <a:blip r:embed="rId3"/>
          <a:stretch/>
        </p:blipFill>
        <p:spPr>
          <a:xfrm>
            <a:off x="6973920" y="195120"/>
            <a:ext cx="1884240" cy="90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Object 1"/>
          <p:cNvGraphicFramePr/>
          <p:nvPr/>
        </p:nvGraphicFramePr>
        <p:xfrm>
          <a:off x="6659640" y="981000"/>
          <a:ext cx="1479600" cy="129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59640" y="981000"/>
                    <a:ext cx="14796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12 CuadroTexto"/>
          <p:cNvSpPr/>
          <p:nvPr/>
        </p:nvSpPr>
        <p:spPr>
          <a:xfrm>
            <a:off x="826920" y="5732640"/>
            <a:ext cx="77774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 registran los acontecimientos importantes que ocurren en el maternal como en el  hogar, propiciando así una comunicación diaria  y permanente entre todos los adultos y responsables de atender niños y niñas  de 0 a 3 añ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3 Rectángulo"/>
          <p:cNvSpPr/>
          <p:nvPr/>
        </p:nvSpPr>
        <p:spPr>
          <a:xfrm>
            <a:off x="900000" y="4221000"/>
            <a:ext cx="777564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Cuaderno de registro e incidencias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 donde se escriben los registros anecdóticos y descriptivos de los niños y niñas , se pueden realizar con   3 a 5 estudiantes diariamente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4 Rectángulo"/>
          <p:cNvSpPr/>
          <p:nvPr/>
        </p:nvSpPr>
        <p:spPr>
          <a:xfrm>
            <a:off x="2928240" y="522936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Cuaderno Dia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en 1" descr="http://www.me.gov.ve/simoncito1.jpg"/>
          <p:cNvPicPr/>
          <p:nvPr/>
        </p:nvPicPr>
        <p:blipFill>
          <a:blip r:embed="rId6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CuadroTexto"/>
          <p:cNvSpPr/>
          <p:nvPr/>
        </p:nvSpPr>
        <p:spPr>
          <a:xfrm>
            <a:off x="291636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Ejemplo de regist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1042920" y="260280"/>
            <a:ext cx="15130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6 Imagen" descr=""/>
          <p:cNvPicPr/>
          <p:nvPr/>
        </p:nvPicPr>
        <p:blipFill>
          <a:blip r:embed="rId3"/>
          <a:stretch/>
        </p:blipFill>
        <p:spPr>
          <a:xfrm>
            <a:off x="6900840" y="122400"/>
            <a:ext cx="1889280" cy="907920"/>
          </a:xfrm>
          <a:prstGeom prst="rect">
            <a:avLst/>
          </a:prstGeom>
          <a:ln w="0">
            <a:noFill/>
          </a:ln>
        </p:spPr>
      </p:pic>
      <p:sp>
        <p:nvSpPr>
          <p:cNvPr id="135" name="6 CuadroTexto"/>
          <p:cNvSpPr/>
          <p:nvPr/>
        </p:nvSpPr>
        <p:spPr>
          <a:xfrm>
            <a:off x="1187280" y="1557360"/>
            <a:ext cx="6769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echa: 04/03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ombre del niño: Esney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dad: 5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spacio: representar e imi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neyder se vistió con una bata blanca de Doctor, tomó el estetoscopio, la inyectadora de juguete y dijo: - “ yo soy médico” –  ¿quien está enfer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lendys, dice – “yo doctor, me duele el estómago y tengo vómit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neyder – señora, le voy a revisar los ojos, oídos, y el cuerp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neyder – “viste, ¡ por no cuidarte y comer muchos dulces te enfermaste ¡. Ahora te toca tomar medic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CuadroTexto"/>
          <p:cNvSpPr/>
          <p:nvPr/>
        </p:nvSpPr>
        <p:spPr>
          <a:xfrm>
            <a:off x="291636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Ejemplo de regist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1042920" y="260280"/>
            <a:ext cx="15130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6 Imagen" descr=""/>
          <p:cNvPicPr/>
          <p:nvPr/>
        </p:nvPicPr>
        <p:blipFill>
          <a:blip r:embed="rId3"/>
          <a:stretch/>
        </p:blipFill>
        <p:spPr>
          <a:xfrm>
            <a:off x="6900840" y="122400"/>
            <a:ext cx="1889280" cy="907920"/>
          </a:xfrm>
          <a:prstGeom prst="rect">
            <a:avLst/>
          </a:prstGeom>
          <a:ln w="0">
            <a:noFill/>
          </a:ln>
        </p:spPr>
      </p:pic>
      <p:sp>
        <p:nvSpPr>
          <p:cNvPr id="140" name="7 CuadroTexto"/>
          <p:cNvSpPr/>
          <p:nvPr/>
        </p:nvSpPr>
        <p:spPr>
          <a:xfrm>
            <a:off x="1187280" y="1052640"/>
            <a:ext cx="6769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echa: 6/03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mbre: Ros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dad: 3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ugar: comunidad La Esperanza, vereda ilusión, casa númer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mento de la rutina: bienven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 la canción “las gotas de lluvia”, la maestra pregunta : -¿ está lloviendo o haciendo s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sa responde : -¡ si, está lloviendo y estoy mojada, anoche llovió y se metió el agua por el techo de la casa 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 maestra pregunta : - ¿Por qué llueve ta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 señora María: -“estamos en invierno y esto va para largo y todo esta inundad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sa : - “anoche  a la comadre se le cayó una pared de la casa por culpa del agu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9:21:24Z</dcterms:created>
  <dc:creator>Samuel</dc:creator>
  <dc:description/>
  <dc:language>en-US</dc:language>
  <cp:lastModifiedBy>Marisol</cp:lastModifiedBy>
  <dcterms:modified xsi:type="dcterms:W3CDTF">2011-10-20T02:22:56Z</dcterms:modified>
  <cp:revision>129</cp:revision>
  <dc:subject/>
  <dc:title>Diapositiva 1</dc:title>
</cp:coreProperties>
</file>