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FA562-2392-4530-B7A2-DF219701C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B01B7-9A0D-4614-8981-BC5D9B845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0B925-3DF5-474C-9C13-937E9D37D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04360-607C-4B1B-A2F3-1DFF488B8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FE62F-077E-4153-90CA-E7BE1AC41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2E445-7AD7-4097-9759-2653FDE89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A75F4-AC1C-4B64-81B0-0EAC12524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4EC63-0199-48A6-BA66-B424088AE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243E5-512F-4B3F-9623-F09961437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EBD99-5E6A-44A5-9427-F01288BD1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35435-F79A-4E72-AE41-A30261990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07C28-4F4F-47D0-8AAB-5892FE295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F59DB-9DF0-4F17-97D1-DFC8B061C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39A3E-AA6E-4C15-882D-9BE45E9A0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AE8E1-655A-4051-8DD6-C8146541D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AEB7E-7D15-4954-A50F-F7F205FA1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7137D-790E-48AE-9E86-6FE8FBC5F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F5B99-EB6D-4191-A952-37A1DA3AA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68333-67E3-43AB-B652-D5E9AFA51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284BB-8152-4784-BF1E-3F8369EDA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D3880-CBDD-45A5-BF8A-2F7FCE349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D41DD-FE60-4652-BBD9-45257E7BA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9104C-E175-44CE-BC2D-CAA62E167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4A924-8D36-4073-8E15-BA9589861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9D5E4-9FE0-427E-BDBC-D946A7850F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F3EBC-7C57-46AF-8F99-8230E1A4DCB4}" type="slidenum"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16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D49CD-C008-4F2C-8034-D4E476658A8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uman Computer Interac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ek 8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alu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1DCDB-8EA2-4E33-8448-B8CCA01890E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Formative vs. Summative Evalu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26560" y="1913040"/>
            <a:ext cx="8045640" cy="439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mative Evaluation dilakukan pada saat software dikembangka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mmative Evaluation dilakukan pada saat software selesai dikembangka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Fokus kita pada formative evaluation, jadi yang dievaluasi adalah prototypenya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CFAC4-967C-4156-8F32-10B57B44ADB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900000" y="1985760"/>
            <a:ext cx="7772400" cy="45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luasi menghasilkan jawaban atas pertanyaan “sejauh apa desain dapat memenuhi kebutuhan user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ngan evaluasi dapa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ngerti keadaan sesungguhnya (efek dari pemakaian produk kit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mbandingkan beberapa desai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ngembangkan sesuai dengan target yang hendak dicapa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ngetahui apakah sudah memenuhi standar atau bel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asons for doing evalu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BE2E8-BB09-4731-BD76-BCA0F758EDF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ujuan pada tahap awal desain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12880" indent="-2700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mperkirakan usabilityny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12880" indent="-2700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nguji pengertian tim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12880" indent="-2700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nguji coba prototype dengan cepa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ujuan pada tahap akhir desain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12880" indent="-2700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ngidentifikasi kesulitan us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12880" indent="-2700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mikirkan pengembangan produ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valuations in the life cyc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668D6-6490-4565-8B73-7E8148EEC97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57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ing and monitoring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llecting user’s opin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perimenting &amp; benchmark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pretive evalu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edictive evalu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valuation Method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17DAA-57FF-4425-8049-F57B55116AF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Evaluation Methods vs Reasons</a:t>
            </a:r>
            <a:br>
              <a:rPr sz="4000"/>
            </a:b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X – very likely choice, x – less like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826920" y="2031840"/>
          <a:ext cx="8136000" cy="4205520"/>
        </p:xfrm>
        <a:graphic>
          <a:graphicData uri="http://schemas.openxmlformats.org/drawingml/2006/table">
            <a:tbl>
              <a:tblPr/>
              <a:tblGrid>
                <a:gridCol w="1670040"/>
                <a:gridCol w="1162080"/>
                <a:gridCol w="1163880"/>
                <a:gridCol w="1525320"/>
                <a:gridCol w="1379880"/>
                <a:gridCol w="1234800"/>
              </a:tblGrid>
              <a:tr h="79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bserv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User’s Opin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xperim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terpreti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edicti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ngineering towards a targ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Understanding the real worl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paring Desig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andard Conforma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23126-3110-4C13-8185-902E20960DC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bserving and Monitoring Usage…………….(1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00000" y="1987200"/>
            <a:ext cx="79027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pat dilakukan secara informal baik di tempat kerja maupun di lab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ujuannya untuk mengetahui bagaimana user dapat berinteraksi dengan sistem pada keadaan yang sesungguhny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asanya pengamat menggunakan video untuk merek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mungkinan terjadi Howthorne eff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94356-495A-4BF4-80D9-D768B6ADC86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bserving and Monitoring Usage…………….(2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erbal protocol (saat memakai prototype user diminta berkomentar atau diajak berdiskusi) akan membantu  menunjukkan apa yang dipikirkan us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mpting (desainer bertanya kepada user sehingga user bisa berkomentar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21587-13E8-43EC-9541-6130E9291F1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llecting Users’ Opin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46000" y="1989000"/>
            <a:ext cx="7974000" cy="432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cok untuk user yang banya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idak mungkin dilakukan dengan mencoba langsung karena membutuhkan waktu lam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pat dilakukan dengan cara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view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stion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09ABF-534F-4072-AF06-9E742850616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terview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57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struktur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pertanyaan sudah disiapkan dan disusun sedemikian rupa sehingga mudah dianalis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tanyaan yang baik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dak double barr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us netr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ktur pertanyaan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struktur : Piramid (open to close question) dan Funnel (close to open ques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dak terstruktur: diamond (gabungan piramid dan funnel) sehingga sulit untuk dianalis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BEFD2-1162-424E-9AA5-EBD23F9C357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uestion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ertanyaan harus jelas, jangan sampai membingungk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Jangan terlalu banya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kan pilot study (dicoba untuk 10 orang dulu, jika baik coba lagi untuk 100 orang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C7369-89A1-42F6-88B2-138FD28D3D0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42920" y="1981080"/>
            <a:ext cx="7902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luasi adalah suatu teknik yang digunakan untuk menilai suatu desain dan mencoba suatu sistem apakah telah bekerja seperti yang diharapkan serta sesuai dengan kebutuhan user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luasi dapat dilakukan berulang kali karena lebih mudah dan lebih murah untuk mengubah desain pada saat awal dari pada saat desain hampir selesai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F7225-0941-4B9F-A488-805B2FE9E88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periments and Benchmark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31960" y="1988640"/>
            <a:ext cx="7772400" cy="44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mbutuhkan hipotesis, variabel-variabel dan statistik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engendalian variabel sangat sulit dilakukan  karena nilainya masih diperdebatkan, sehingga perlu dibuat patokan atau pendekatan (benchmarking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9B43F-6AEF-47DA-96EF-632D69ED603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terpretive Evalu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00000" y="2122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ujuannya untuk membantu desainer mengetahui bagaimana user menggunakan sistem pada lingkungan sesungguhnya dan bagaimana sistem berintegrasi dengan kegiatan lai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cok untuk software yang dipakai oleh beberapa user sekaligus (groupwar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64691-ED2C-4EB3-A592-1F11567695E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edictive Evalu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26560" y="1917720"/>
            <a:ext cx="797436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ujuannya untuk memperkirakan masalah yang akan dialami jika tanpa melakukan percobaan pada use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cok bila waktu dan budget terbat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idak dilakukan oleh user tetapi dilakukan oleh reviewe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856A2-9642-4C0D-B96C-82DA3427E1C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ethods Comparis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1182600" y="2017800"/>
          <a:ext cx="7772400" cy="4516200"/>
        </p:xfrm>
        <a:graphic>
          <a:graphicData uri="http://schemas.openxmlformats.org/drawingml/2006/table">
            <a:tbl>
              <a:tblPr/>
              <a:tblGrid>
                <a:gridCol w="1781280"/>
                <a:gridCol w="3024000"/>
                <a:gridCol w="2967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etod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elebih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ekurang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bservasi dan pengawas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pat diaplikasikan secara luas, berfokus pada kesulitan yang a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pat mempengaruhi kelakuan us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endapat us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idak membutuhkan biaya tingg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emungkinan mendapat respon renda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ksperimen dan benchmark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enyediakan ukuran untuk mengarahkan desa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embutuhkan fasilitas yang mah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terpreti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emperlihatkan apa yang sebenarnya terjadi di lapang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embutuhkan keahlian sosiolog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dicti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ebanyakan form tidak membutuhkan sistem yang beker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eberapa form mempunyai fokus lu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7DF0B-1E11-4309-B5C5-BDD3AA3E699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rther Read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359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eece, chapter 29, 3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698C7-477F-41F3-BF22-7F1F65B007A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valuasi tahap aw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lakukan untuk 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ramalkan usability produ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ngetahui apakan tim desain telah mengerti kebutuhan user dengan melihat bagaimana penggunaan sistem yang telah ada ditempat kerj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ncoba ide-ide secara cepat dan inform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2AF7E-B7CE-4D5C-BC4D-BF1731035FC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valuasi tahap akhi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lakukan untu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ngetahui kesulitan user, sehingga produk dapat dimodifikasi sesuai dengan kebutuhan merek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ningkatkan kualitas produ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34913-A60F-4B98-B75D-24E13B36DEC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valuation Factors………..(1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00000" y="1981080"/>
            <a:ext cx="82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enali karakter Us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akah user sudah berpengalaman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akah user tidak pernah memakai komputer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gaimana karakteristik psikologinya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gaimana fisiknya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n sebagainy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CED3E-DEEA-456B-AFD6-A2D7B49955D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valuation Factors………..(2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Jenis aktifitas yang dilakukan us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akah memerlukan audio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salnya, untuk penunjuk arah pada mobil sebaiknya menggunakan audio, karena saat menyetir, sopir sulit sekali untuk melihat ke monito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A88A0-A4E7-413A-A2E8-14C3D1215FB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valuation Factors………..(3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ngkungan evaluas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luasi bisa dilakukan di tempat kerja user atau di tempat kerja desainer (la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alau di tempat kerja user, bisa pelajari keadaan yang sebenarnya (real world), tetapi bisa memanipulasi faktor-faktor yang mempengaruhi use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alau di lab, tidak real worl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8E141-0EA7-46EF-9518-CF1297F5E6F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valuation Factors………..(4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fat software yang akan dievaluas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ngevaluasi sketsa berbeda dengan mengevaluasi produk yang telah jadi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ngevaluasi software supermarket berbeda dengan mengevaluasi software edukasi untuk anak T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7E5E5-2BC4-46E9-95B4-4AAE0466133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y do evaluation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aluasi dilakukan untuk mengerti kebutuhan user dan masalah-masalah yang dihadapi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abila desainer mengerti kebutuhan user, maka desain yang dibuat akan lebih baik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7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02T18:43:34Z</dcterms:created>
  <dc:creator>Edwin Pramana</dc:creator>
  <dc:description>(c) EdP 2005</dc:description>
  <cp:keywords/>
  <dc:language>en-US</dc:language>
  <cp:lastModifiedBy>user</cp:lastModifiedBy>
  <cp:lastPrinted>2002-01-31T02:37:45Z</cp:lastPrinted>
  <dcterms:modified xsi:type="dcterms:W3CDTF">2011-01-22T14:11:35Z</dcterms:modified>
  <cp:revision>323</cp:revision>
  <dc:subject>Human Computer Interaction</dc:subject>
  <dc:title>Slide 08 - Evaluation</dc:title>
</cp:coreProperties>
</file>