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E4C-6833-4C80-BE7D-12986F02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E96-1545-4BD8-89A4-4B00DB7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442-A3AB-457A-A905-D2586B4F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B60-7D87-469F-B80A-1A440BBC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07D-E3E6-447F-A7BE-EF248A3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942-5839-4840-8019-58AF1B6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45D-3DF3-4B36-95DE-F4077713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1D7-B00D-45C3-A730-2FDB339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902-9188-4563-84FA-C365FE2E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E80-6985-4A85-B400-08BADEB3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281-906E-4FFD-9B09-AD69CFA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B2A-F67D-4DAA-AC0E-A6D7BED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A70-B48C-40F1-ADD1-4259C93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75A4-9D2A-426A-9BA5-16A2278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542-CF05-4782-9439-858B8CB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95A4-5EA6-459D-A07A-C8BA9846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512-BBB8-486C-92FA-98ACF50B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1B5-7940-4378-863E-171CF53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967-7D5E-4D13-9DB9-90EA59A7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3A7-B568-4B8D-B11F-BEF96FC9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1F1-B2AB-4960-A031-9000B4BE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DDA-3127-4C84-B9B9-4D2437F5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479-C3AF-4C5F-BE7A-2B60935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428-9415-4FDA-A965-9223E9C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0540-90FC-486C-8EC1-D2FD0F0F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16E-C3CA-4462-8BA1-A38EA2E2F6C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FD3B-061C-44E9-8813-C4F21568C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Computer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ek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CD08-96DE-4320-A201-77A9F8481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mative vs. Summative Evalu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13040"/>
            <a:ext cx="8045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Evaluation dilakukan pada saat software dikemba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Evaluation dilakukan pada saat software selesai dikemba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kus kita pada formative evaluation, jadi yang dievaluasi adalah prototypeny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3768-EF9B-4E44-9038-65E2B338A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98576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menghasilkan jawaban atas pertanyaan “sejauh apa desain dapat memenuhi kebutuhan user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evaluasi dap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rti keadaan sesungguhnya (efek dari pemakaian produk ki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andingkan beberapa des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mbangkan sesuai dengan target yang hendak dicap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getahui apakah sudah memenuhi standar atau be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sons for doing eval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6197-2970-46B6-A004-45E7226E22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pada tahap awal des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perkirakan usabilityn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ji pengertian ti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ji coba prototype dengan cep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pada tahap akhir des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identifikasi kesulitan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ikirkan pengembangan prod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s in the life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00B4-BC75-4508-BEF4-DA26A1040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ing and monitoring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ng user’s opin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ing &amp; benchma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iv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ive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940-D5B5-4872-9124-8325FEC74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aluation Methods vs Reasons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 – very likely choice, x – less like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031840"/>
          <a:ext cx="8136000" cy="4205520"/>
        </p:xfrm>
        <a:graphic>
          <a:graphicData uri="http://schemas.openxmlformats.org/drawingml/2006/table">
            <a:tbl>
              <a:tblPr/>
              <a:tblGrid>
                <a:gridCol w="1670040"/>
                <a:gridCol w="1162080"/>
                <a:gridCol w="1163880"/>
                <a:gridCol w="1525320"/>
                <a:gridCol w="1379880"/>
                <a:gridCol w="12348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ineering towards a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standing the re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ing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 Con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F2B9-E8E3-46E1-AC3A-0C5D8DF6F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ing and Monitoring Usage…………….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1987200"/>
            <a:ext cx="790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pat dilakukan secara informal baik di tempat kerja maupun di la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ngetahui bagaimana user dapat berinteraksi dengan sistem pada keadaan yang sesungguh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sanya pengamat menggunakan video untuk merek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ngkinan terjadi Howthorne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7211-3DC9-4FF1-82A5-71819420C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ing and Monitoring Usage…………….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al protocol (saat memakai prototype user diminta berkomentar atau diajak berdiskusi) akan membantu  menunjukkan apa yang dipikirkan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ing (desainer bertanya kepada user sehingga user bisa berkomen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285-5AA8-47E7-81CD-8127C323AB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ecting Users’ Opin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46000" y="1989000"/>
            <a:ext cx="79740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untuk user yang bany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mungkin dilakukan dengan mencoba langsung karena membutuhkan waktu l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pat dilakukan dengan ca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385-118F-4350-9C1C-A2813CE85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struktu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tanyaan sudah disiapkan dan disusun sedemikian rupa sehingga mudah dianali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anyaan yang bai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dak double barr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us ne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ktur pertanyaa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struktur : Piramid (open to close question) dan Funnel (close to open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dak terstruktur: diamond (gabungan piramid dan funnel) sehingga sulit untuk dianal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910-1A8C-4D6C-A34B-567BD7392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tanyaan harus jelas, jangan sampai membingungk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ngan terlalu bany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kan pilot study (dicoba untuk 10 orang dulu, jika baik coba lagi untuk 100 ora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1D7-1227-47E3-91B6-24DD4CA70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9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adalah suatu teknik yang digunakan untuk menilai suatu desain dan mencoba suatu sistem apakah telah bekerja seperti yang diharapkan serta sesuai dengan kebutuhan us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dapat dilakukan berulang kali karena lebih mudah dan lebih murah untuk mengubah desain pada saat awal dari pada saat desain hampir seles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8A8-5588-4A05-964E-F15E2A46E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s and Benchma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96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utuhkan hipotesis, variabel-variabel dan statis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gendalian variabel sangat sulit dilakukan  karena nilainya masih diperdebatkan, sehingga perlu dibuat patokan atau pendekatan (benchmark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3A4-27DA-46B7-873F-4419F723A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ive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mbantu desainer mengetahui bagaimana user menggunakan sistem pada lingkungan sesungguhnya dan bagaimana sistem berintegrasi dengan kegiatan l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untuk software yang dipakai oleh beberapa user sekaligus (groupwa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FC06-738E-49D3-835A-3ED2149D5E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1917720"/>
            <a:ext cx="797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nya untuk memperkirakan masalah yang akan dialami jika tanpa melakukan percobaan pada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k bila waktu dan budget terba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dilakukan oleh user tetapi dilakukan oleh review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31F-44EA-4346-81FC-899051ECA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516200"/>
        </p:xfrm>
        <a:graphic>
          <a:graphicData uri="http://schemas.openxmlformats.org/drawingml/2006/table">
            <a:tbl>
              <a:tblPr/>
              <a:tblGrid>
                <a:gridCol w="1781280"/>
                <a:gridCol w="3024000"/>
                <a:gridCol w="2967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ebi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kuran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si dan pengawas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pat diaplikasikan secara luas, berfokus pada kesulitan yang 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pat mempengaruhi kelakuan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dapat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dak membutuhkan biaya ting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mungkinan mendapat respon rend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perimen dan benchma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yediakan ukuran untuk mengarahkan des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utuhkan fasilitas yang ma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perlihatkan apa yang sebenarnya terjadi di lap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utuhkan keahlian sosiolo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banyakan form tidak membutuhkan sistem yang beker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berapa form mempunyai fokus lu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C3AC-5163-42D5-A07B-53CB3E116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ece, chapter 29,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FD3-99B9-4D27-8ABB-0AFE825539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si tahap aw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akukan untuk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amalkan usability prod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tahui apakan tim desain telah mengerti kebutuhan user dengan melihat bagaimana penggunaan sistem yang telah ada ditempat ker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coba ide-ide secara cepat dan in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C5CF-875A-42EE-885D-66F9DFBD80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si tahap akhi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akukan unt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tahui kesulitan user, sehingga produk dapat dimodifikasi sesuai dengan kebutuhan mere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ingkatkan kualitas produ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9F64-044E-4563-A1D0-8AAB121768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ali karakter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user sudah berpengalam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user tidak pernah memakai komput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karakteristik psikologiny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fisikny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sebagai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C8E-D1A4-49A8-9D86-0E0E0CF9C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nis aktifitas yang dilakukan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akah memerlukan aud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alnya, untuk penunjuk arah pada mobil sebaiknya menggunakan audio, karena saat menyetir, sopir sulit sekali untuk melihat ke moni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F46-E433-4B5A-8840-68060794AF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gkungan evalu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si bisa dilakukan di tempat kerja user atau di tempat kerja desainer (la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lau di tempat kerja user, bisa pelajari keadaan yang sebenarnya (real world), tetapi bisa memanipulasi faktor-faktor yang mempengaruhi us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lau di lab, tidak real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4A8A-E5A0-4CBD-8910-9F112BE14F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Factors………..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fat software yang akan dievalu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valuasi sketsa berbeda dengan mengevaluasi produk yang telah jad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evaluasi software supermarket berbeda dengan mengevaluasi software edukasi untuk anak T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484-2CE1-499C-9DF3-23FF162C9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evalu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si dilakukan untuk mengerti kebutuhan user dan masalah-masalah yang dihada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bila desainer mengerti kebutuhan user, maka desain yang dibuat akan lebih ba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2T18:43:34Z</dcterms:created>
  <dc:creator>Edwin Pramana</dc:creator>
  <dc:description>(c) EdP 2005</dc:description>
  <cp:keywords/>
  <dc:language>en-US</dc:language>
  <cp:lastModifiedBy>user</cp:lastModifiedBy>
  <cp:lastPrinted>2002-01-31T02:37:45Z</cp:lastPrinted>
  <dcterms:modified xsi:type="dcterms:W3CDTF">2011-01-22T14:11:35Z</dcterms:modified>
  <cp:revision>323</cp:revision>
  <dc:subject>Human Computer Interaction</dc:subject>
  <dc:title>Slide 08 - Evaluation</dc:title>
</cp:coreProperties>
</file>