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explode.wav" ContentType="audio/x-wav"/>
  <Override PartName="/ppt/media/image7.jpeg" ContentType="image/jpeg"/>
  <Override PartName="/ppt/media/camera.wav" ContentType="audio/x-wav"/>
  <Override PartName="/ppt/media/image17.gif" ContentType="image/gif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7AA-6767-4823-9E40-558B15C4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907-DC1A-4A4D-BDCF-D0DF3606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D88-A543-4B55-A516-C61A978D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BCF-18F1-412D-AE44-65A02461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1B0-1251-4EFF-906F-A6F8D06C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FBF-FC63-40A5-BC8B-88A81D11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213-A540-4A5C-A286-707BBB5E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E7B-B326-41AF-9EB2-BE37F33C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580-26D9-4F2F-B70B-254F47E4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EE0-AE5D-4B60-A386-4BF13949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BD5-32A1-42E4-A35D-451B0B5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A52-687C-47F8-884F-2B80240A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9782-5D96-4F13-AB30-539D3D06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800" y="4191120"/>
            <a:ext cx="678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as chicas Agu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76560" y="304920"/>
            <a:ext cx="4734000" cy="63244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463680"/>
            <a:ext cx="7925040" cy="593064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49200"/>
            <a:ext cx="8001000" cy="598824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406440"/>
            <a:ext cx="8076960" cy="604512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63680"/>
            <a:ext cx="7848720" cy="587376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406440"/>
            <a:ext cx="8076960" cy="604512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76560" y="304920"/>
            <a:ext cx="4734000" cy="63244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77840"/>
            <a:ext cx="8610480" cy="6445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pull dir="r"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40644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604692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6368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406440"/>
            <a:ext cx="8076960" cy="604512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406440"/>
            <a:ext cx="8153280" cy="610236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463680"/>
            <a:ext cx="7925040" cy="593064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40644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49200"/>
            <a:ext cx="8229600" cy="615960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8:45:21Z</dcterms:created>
  <dc:creator/>
  <dc:description/>
  <dc:language>en-US</dc:language>
  <cp:lastModifiedBy>Smets</cp:lastModifiedBy>
  <dcterms:modified xsi:type="dcterms:W3CDTF">2008-08-29T20:11:55Z</dcterms:modified>
  <cp:revision>4</cp:revision>
  <dc:subject/>
  <dc:title>No Slide Title</dc:title>
</cp:coreProperties>
</file>