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camera.wav" ContentType="audio/x-wav"/>
  <Override PartName="/ppt/media/image17.gif" ContentType="image/gif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CC1-BC58-426E-8E7C-71BB92CD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2FF-97E3-4DA8-BE7D-AE342FA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16D-032A-4A38-85AC-5319F215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279-A774-4596-9C2D-F8331B85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990-BA77-43B4-AD19-742D8DF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547-4D34-42EB-AD20-171591AA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77A-9C3B-4CCD-91E0-CF7B40B4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D92-23CC-40DA-98B7-ECE2DCBC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BCD-1B40-4B56-9AB9-75A566E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D91-9E43-47DD-B89A-BD4DA6C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CE3-6571-44A7-A67F-5D813DA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82A-7DB3-4C21-95E8-D05EF27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FE1-F834-4E9F-9BBF-62070D23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800" y="4191120"/>
            <a:ext cx="67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as chicas Agu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6560" y="30492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925040" cy="59306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49200"/>
            <a:ext cx="8001000" cy="59882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63680"/>
            <a:ext cx="7848720" cy="587376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76560" y="30492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77840"/>
            <a:ext cx="8610480" cy="644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pull dir="r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0644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60469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6368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06440"/>
            <a:ext cx="8153280" cy="610236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925040" cy="59306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0644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49200"/>
            <a:ext cx="8229600" cy="61596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8:45:21Z</dcterms:created>
  <dc:creator/>
  <dc:description/>
  <dc:language>en-US</dc:language>
  <cp:lastModifiedBy>Smets</cp:lastModifiedBy>
  <dcterms:modified xsi:type="dcterms:W3CDTF">2008-08-29T20:11:55Z</dcterms:modified>
  <cp:revision>4</cp:revision>
  <dc:subject/>
  <dc:title>No Slide Title</dc:title>
</cp:coreProperties>
</file>