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783F-4F80-4032-8C4C-B24C7F5CF41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898-A094-4459-8CA0-FAB3D3FEA0E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91B-4249-44C1-AFE1-FB9A3E96362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2C2D-AD05-4D5B-B5E0-033FEF65A40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376-78AA-450D-9CFB-87D3F6E222D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5D7-835C-4ED9-AB6B-C5CBE4E1D19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3FB-09B9-4198-831B-83A7F661AFA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026-81CD-4EC8-A01C-D3CCFF1C43E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B5F-4357-4953-AAD9-9414B5E3ACD1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B360-DA3C-4F4A-936E-8396105B4FD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AC0-61E7-4D7B-B1AC-F3210297723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9DE9-CEE2-4A10-8368-9F9E2BF2D39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FCCE-AFE9-4EAC-B769-67A5D1547BE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084-CEDD-46DD-A1EC-3267832B400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28E1-6B4E-46FD-A084-3BDE23C5ABC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6B9F-B9FA-4A3C-9D5B-8B8CD2E5D3E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88C-4AD8-4C7B-A96A-A23D583DE3A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6D48-37DA-4CE7-803B-8FDE25CD864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812-FE41-4BDE-85D2-6CF35E74A50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094-9175-448B-8F10-FCB4BBB3FF3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FA4-15D2-468C-B59F-43C50ABF054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987-FA35-4C82-AC38-A7A07C0F129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BDA-91DE-45BE-991D-69D9B2990D4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F16-FF39-4AB1-B9D4-1CE7348B582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3FC-06E1-462E-917D-CDAC90690B1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F9BA-1C0A-4736-81DA-758F6F1BAE3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C54-1901-4A7B-9F39-245CADE3920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B52-F62E-4031-95ED-4BE7FCDBB50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D45-762A-4484-972F-20791A6DC97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711-3AE8-4E7E-BB8C-F9C603ED8BC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BF4-EEE1-423B-8663-59663ECEF8E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putlockers.network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Putlocker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e52"/>
                </a:solidFill>
                <a:latin typeface="Century Gothic"/>
              </a:rPr>
              <a:t>https://putlockers.network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2" descr=""/>
          <p:cNvPicPr/>
          <p:nvPr/>
        </p:nvPicPr>
        <p:blipFill>
          <a:blip r:embed="rId1"/>
          <a:srcRect l="0" t="17500" r="0" b="17500"/>
          <a:stretch/>
        </p:blipFill>
        <p:spPr>
          <a:xfrm>
            <a:off x="0" y="0"/>
            <a:ext cx="12192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538960" y="2563560"/>
            <a:ext cx="488448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 you enjoy watching high quality movies?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6" descr=""/>
          <p:cNvPicPr/>
          <p:nvPr/>
        </p:nvPicPr>
        <p:blipFill>
          <a:blip r:embed="rId1"/>
          <a:stretch/>
        </p:blipFill>
        <p:spPr>
          <a:xfrm>
            <a:off x="1566720" y="1467000"/>
            <a:ext cx="3078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69600" y="2570040"/>
            <a:ext cx="517068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Only on our site find the newest movi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79F-0EF8-4312-BB00-5B5EF7D619C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7769160" y="1293840"/>
            <a:ext cx="3178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1" descr=""/>
          <p:cNvPicPr/>
          <p:nvPr/>
        </p:nvPicPr>
        <p:blipFill>
          <a:blip r:embed="rId1"/>
          <a:stretch/>
        </p:blipFill>
        <p:spPr>
          <a:xfrm>
            <a:off x="1714680" y="1554120"/>
            <a:ext cx="2565360" cy="3335400"/>
          </a:xfrm>
          <a:prstGeom prst="rect">
            <a:avLst/>
          </a:prstGeom>
          <a:ln w="0">
            <a:noFill/>
          </a:ln>
        </p:spPr>
      </p:pic>
      <p:sp>
        <p:nvSpPr>
          <p:cNvPr id="898" name="Title 9"/>
          <p:cNvSpPr/>
          <p:nvPr/>
        </p:nvSpPr>
        <p:spPr>
          <a:xfrm>
            <a:off x="5280120" y="2676600"/>
            <a:ext cx="5170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est HD and Full HD qual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1" descr=""/>
          <p:cNvPicPr/>
          <p:nvPr/>
        </p:nvPicPr>
        <p:blipFill>
          <a:blip r:embed="rId1"/>
          <a:stretch/>
        </p:blipFill>
        <p:spPr>
          <a:xfrm>
            <a:off x="7550280" y="1363680"/>
            <a:ext cx="2673360" cy="3473280"/>
          </a:xfrm>
          <a:prstGeom prst="rect">
            <a:avLst/>
          </a:prstGeom>
          <a:ln w="0">
            <a:noFill/>
          </a:ln>
        </p:spPr>
      </p:pic>
      <p:sp>
        <p:nvSpPr>
          <p:cNvPr id="900" name="Title 9"/>
          <p:cNvSpPr/>
          <p:nvPr/>
        </p:nvSpPr>
        <p:spPr>
          <a:xfrm>
            <a:off x="1727280" y="2244600"/>
            <a:ext cx="5170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e offer an enormous library that will enjoy you on boring evening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1920960" y="1523880"/>
            <a:ext cx="2658960" cy="3456000"/>
          </a:xfrm>
          <a:prstGeom prst="rect">
            <a:avLst/>
          </a:prstGeom>
          <a:ln w="0">
            <a:noFill/>
          </a:ln>
        </p:spPr>
      </p:pic>
      <p:sp>
        <p:nvSpPr>
          <p:cNvPr id="902" name="Title 9"/>
          <p:cNvSpPr/>
          <p:nvPr/>
        </p:nvSpPr>
        <p:spPr>
          <a:xfrm>
            <a:off x="5450040" y="2517840"/>
            <a:ext cx="5170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o to our site and watch for free the new movi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or more details visit site: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4" name="TextBox 7">
            <a:hlinkClick r:id="rId1"/>
          </p:cNvPr>
          <p:cNvSpPr/>
          <p:nvPr/>
        </p:nvSpPr>
        <p:spPr>
          <a:xfrm>
            <a:off x="1547640" y="2459160"/>
            <a:ext cx="9096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1c6fd"/>
                </a:solidFill>
                <a:uFillTx/>
                <a:latin typeface="Century Gothic"/>
                <a:hlinkClick r:id="rId2"/>
              </a:rPr>
              <a:t>https://putlockers.network/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6T20:14:45Z</dcterms:created>
  <dc:creator/>
  <dc:description/>
  <dc:language>en-US</dc:language>
  <cp:lastModifiedBy/>
  <dcterms:modified xsi:type="dcterms:W3CDTF">2019-05-02T13:31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