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9963-D39F-4826-BE33-DF827E05CB2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1A1-50C0-4537-9378-E6BB3D96767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FFD-BFE3-4468-879A-581EBCC95CA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39E-3190-49EB-A107-228C602F120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FE0-18DB-4EA2-9089-45C21CB9681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92C-156C-4FDB-8DCF-1C5654FED62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4E7E-1C32-4D5B-B776-28A14C5E7BA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756-127E-4592-AE1B-F3EE1E40E90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C5E-D453-45FF-81E0-D36D90CB76CE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9A1-24EE-421A-B4E2-DD9A6D3568C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3C6-5FEB-40C3-B9AE-4AC77B3DC5F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197-3338-4E69-9263-74F893F3C7F2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4CD-E7BD-40BB-A2E0-2BD978764B7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191-396A-44E1-85E3-EA7FA9F9290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26AB-F4E5-4831-BA2C-FA1438BE045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2A28-B429-4E73-ADDB-FD1197843AE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5E5-352E-4CD0-8F35-D7AF1ADEA14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437-0B0B-4FBD-824C-D0E5926B425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2A8-7184-448A-A128-97443E6E8EB2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F7C-A27A-45FC-9772-FBA74FA4114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F6D-1727-4ED9-9B1E-132390196B1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BAFB-8047-474C-876D-F9BA9D54F20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8BC-832F-43B3-9DD6-C23B4231718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7EB-2C77-4584-A1B7-43502BE5BF1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62E-4369-41A0-BDAE-D32097EDAE91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051-9BC8-4F80-BFFD-09ED9E35587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4F56-4736-4571-BF8E-F22A4862F06A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570-F6FC-4AA5-8CCE-A92024EE6FC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FBA2-55E4-4507-A9C3-A40BDD5E84A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95C1-626B-4ECA-954D-6FC115B0E89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5" y="6738945"/>
                </a:lnTo>
                <a:lnTo>
                  <a:pt x="12072945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6B2-2868-4949-AA5C-1EC31FF252D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putlockers.network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Putlocker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e52"/>
                </a:solidFill>
                <a:latin typeface="Century Gothic"/>
              </a:rPr>
              <a:t>https://putlockers.network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2" descr=""/>
          <p:cNvPicPr/>
          <p:nvPr/>
        </p:nvPicPr>
        <p:blipFill>
          <a:blip r:embed="rId1"/>
          <a:srcRect l="0" t="17500" r="0" b="17500"/>
          <a:stretch/>
        </p:blipFill>
        <p:spPr>
          <a:xfrm>
            <a:off x="0" y="0"/>
            <a:ext cx="12192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538960" y="2563560"/>
            <a:ext cx="488448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 you enjoy watching high quality movies?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6" descr=""/>
          <p:cNvPicPr/>
          <p:nvPr/>
        </p:nvPicPr>
        <p:blipFill>
          <a:blip r:embed="rId1"/>
          <a:stretch/>
        </p:blipFill>
        <p:spPr>
          <a:xfrm>
            <a:off x="1566720" y="1467000"/>
            <a:ext cx="3078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69600" y="2570040"/>
            <a:ext cx="517068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Only on our site find the newest movi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7864-91D7-4DA2-82D7-2F70CB8F772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6" name="Picture 2" descr=""/>
          <p:cNvPicPr/>
          <p:nvPr/>
        </p:nvPicPr>
        <p:blipFill>
          <a:blip r:embed="rId1"/>
          <a:stretch/>
        </p:blipFill>
        <p:spPr>
          <a:xfrm>
            <a:off x="7769160" y="1293840"/>
            <a:ext cx="3178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1" descr=""/>
          <p:cNvPicPr/>
          <p:nvPr/>
        </p:nvPicPr>
        <p:blipFill>
          <a:blip r:embed="rId1"/>
          <a:stretch/>
        </p:blipFill>
        <p:spPr>
          <a:xfrm>
            <a:off x="1714680" y="1554120"/>
            <a:ext cx="2565360" cy="3335400"/>
          </a:xfrm>
          <a:prstGeom prst="rect">
            <a:avLst/>
          </a:prstGeom>
          <a:ln w="0">
            <a:noFill/>
          </a:ln>
        </p:spPr>
      </p:pic>
      <p:sp>
        <p:nvSpPr>
          <p:cNvPr id="898" name="Title 9"/>
          <p:cNvSpPr/>
          <p:nvPr/>
        </p:nvSpPr>
        <p:spPr>
          <a:xfrm>
            <a:off x="5280120" y="2676600"/>
            <a:ext cx="5170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est HD and Full HD qual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1" descr=""/>
          <p:cNvPicPr/>
          <p:nvPr/>
        </p:nvPicPr>
        <p:blipFill>
          <a:blip r:embed="rId1"/>
          <a:stretch/>
        </p:blipFill>
        <p:spPr>
          <a:xfrm>
            <a:off x="7550280" y="1363680"/>
            <a:ext cx="2673360" cy="3473280"/>
          </a:xfrm>
          <a:prstGeom prst="rect">
            <a:avLst/>
          </a:prstGeom>
          <a:ln w="0">
            <a:noFill/>
          </a:ln>
        </p:spPr>
      </p:pic>
      <p:sp>
        <p:nvSpPr>
          <p:cNvPr id="900" name="Title 9"/>
          <p:cNvSpPr/>
          <p:nvPr/>
        </p:nvSpPr>
        <p:spPr>
          <a:xfrm>
            <a:off x="1727280" y="2244600"/>
            <a:ext cx="5170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e offer an enormous library that will enjoy you on boring evening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1920960" y="1523880"/>
            <a:ext cx="2658960" cy="3456000"/>
          </a:xfrm>
          <a:prstGeom prst="rect">
            <a:avLst/>
          </a:prstGeom>
          <a:ln w="0">
            <a:noFill/>
          </a:ln>
        </p:spPr>
      </p:pic>
      <p:sp>
        <p:nvSpPr>
          <p:cNvPr id="902" name="Title 9"/>
          <p:cNvSpPr/>
          <p:nvPr/>
        </p:nvSpPr>
        <p:spPr>
          <a:xfrm>
            <a:off x="5450040" y="2517840"/>
            <a:ext cx="5170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Go to our site and watch for free the new movi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or more details visit site: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4" name="TextBox 7">
            <a:hlinkClick r:id="rId1"/>
          </p:cNvPr>
          <p:cNvSpPr/>
          <p:nvPr/>
        </p:nvSpPr>
        <p:spPr>
          <a:xfrm>
            <a:off x="1547640" y="2459160"/>
            <a:ext cx="9096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1c6fd"/>
                </a:solidFill>
                <a:uFillTx/>
                <a:latin typeface="Century Gothic"/>
                <a:hlinkClick r:id="rId2"/>
              </a:rPr>
              <a:t>https://putlockers.network/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6T20:14:45Z</dcterms:created>
  <dc:creator/>
  <dc:description/>
  <dc:language>en-US</dc:language>
  <cp:lastModifiedBy/>
  <dcterms:modified xsi:type="dcterms:W3CDTF">2019-05-02T13:31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