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FEF-F8D8-41AE-9A7B-6B95E6DA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F73-60FD-418B-9864-71874911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0E0-D32D-4728-AF55-7080ACAC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19D-62CE-4B85-8EEF-BB580CF7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2A9-7369-4AA1-A1E4-B20F0071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0B9-2306-453E-9EBE-5F1CD0F2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B952-7F45-4239-96B9-5DCDADE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05E-673D-4EF9-A069-BFBB0A7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0D0D-47B3-4F80-8885-1DDDC6DF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173B-83F8-4267-9A3B-5A9D4353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FDAE-10E5-4808-93D5-D6D2D65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DAD-E85D-4964-A367-AA98AE19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8C19-5C77-4DC2-AFF4-1B7E267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8257-32DD-4F89-9836-14F21AC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C94-76B6-425F-A9FB-A3142E87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974-7F8F-44EE-8A1B-D7E5BCCD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0E00-7454-4839-A0CF-1923E07D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A06-6833-4F56-BCD5-C0FFE848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985-837C-40FC-8EF9-D7DD4AEC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7517-CBC8-4417-ACE4-F51CC2CD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209-0FDF-40EB-8912-85EC99B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B8B-E1D4-4667-B11E-B07E5EF4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0B7-A265-4B84-AF46-42FDE74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9FE-EE37-46CC-B2A6-D983ACB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670-2628-4F1C-9FE8-B894E27B9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71D-A116-45FE-9313-D19EAA04E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famusement.com/prodimg/circuit_integre_uln2803_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dfamusement.com/prodimg/circuit_integre_uln2803_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2960" y="189000"/>
            <a:ext cx="4326120" cy="299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39880" y="18900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805280" y="3357720"/>
            <a:ext cx="4303800" cy="335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4920" y="3284640"/>
            <a:ext cx="4762440" cy="3409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0" y="18900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04000" y="260280"/>
            <a:ext cx="2160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كارن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56000" y="1557360"/>
          <a:ext cx="392724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172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1258920" y="541440"/>
            <a:ext cx="6121440" cy="2536200"/>
            <a:chOff x="1258920" y="541440"/>
            <a:chExt cx="6121440" cy="2536200"/>
          </a:xfrm>
        </p:grpSpPr>
        <p:grpSp>
          <p:nvGrpSpPr>
            <p:cNvPr id="218" name=""/>
            <p:cNvGrpSpPr/>
            <p:nvPr/>
          </p:nvGrpSpPr>
          <p:grpSpPr>
            <a:xfrm>
              <a:off x="1619280" y="541440"/>
              <a:ext cx="5761080" cy="1008000"/>
              <a:chOff x="1619280" y="541440"/>
              <a:chExt cx="5761080" cy="1008000"/>
            </a:xfrm>
          </p:grpSpPr>
          <p:sp>
            <p:nvSpPr>
              <p:cNvPr id="219" name=""/>
              <p:cNvSpPr/>
              <p:nvPr/>
            </p:nvSpPr>
            <p:spPr>
              <a:xfrm flipH="1" flipV="1">
                <a:off x="1619280" y="104472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443640" y="13334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32720" y="82872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S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556000" y="97308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20720" y="54144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58920" y="1117440"/>
              <a:ext cx="1081080" cy="1960200"/>
              <a:chOff x="1258920" y="1117440"/>
              <a:chExt cx="1081080" cy="1960200"/>
            </a:xfrm>
          </p:grpSpPr>
          <p:sp>
            <p:nvSpPr>
              <p:cNvPr id="225" name=""/>
              <p:cNvSpPr/>
              <p:nvPr/>
            </p:nvSpPr>
            <p:spPr>
              <a:xfrm>
                <a:off x="1258920" y="1117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92360" y="1908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2664000" y="2336760"/>
            <a:ext cx="720720" cy="600120"/>
          </a:xfrm>
          <a:custGeom>
            <a:avLst/>
            <a:gdLst/>
            <a:ahLst/>
            <a:rect l="l" t="t" r="r" b="b"/>
            <a:pathLst>
              <a:path w="454" h="378">
                <a:moveTo>
                  <a:pt x="204" y="370"/>
                </a:moveTo>
                <a:cubicBezTo>
                  <a:pt x="136" y="362"/>
                  <a:pt x="0" y="204"/>
                  <a:pt x="23" y="144"/>
                </a:cubicBezTo>
                <a:cubicBezTo>
                  <a:pt x="46" y="84"/>
                  <a:pt x="272" y="0"/>
                  <a:pt x="340" y="8"/>
                </a:cubicBezTo>
                <a:cubicBezTo>
                  <a:pt x="408" y="16"/>
                  <a:pt x="454" y="129"/>
                  <a:pt x="431" y="189"/>
                </a:cubicBezTo>
                <a:cubicBezTo>
                  <a:pt x="408" y="249"/>
                  <a:pt x="272" y="378"/>
                  <a:pt x="204" y="37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13320" y="1557360"/>
            <a:ext cx="755640" cy="574560"/>
          </a:xfrm>
          <a:custGeom>
            <a:avLst/>
            <a:gdLst/>
            <a:ahLst/>
            <a:rect l="l" t="t" r="r" b="b"/>
            <a:pathLst>
              <a:path w="476" h="362">
                <a:moveTo>
                  <a:pt x="60" y="317"/>
                </a:moveTo>
                <a:cubicBezTo>
                  <a:pt x="7" y="272"/>
                  <a:pt x="0" y="90"/>
                  <a:pt x="60" y="45"/>
                </a:cubicBezTo>
                <a:cubicBezTo>
                  <a:pt x="120" y="0"/>
                  <a:pt x="370" y="0"/>
                  <a:pt x="423" y="45"/>
                </a:cubicBezTo>
                <a:cubicBezTo>
                  <a:pt x="476" y="90"/>
                  <a:pt x="445" y="272"/>
                  <a:pt x="377" y="317"/>
                </a:cubicBezTo>
                <a:cubicBezTo>
                  <a:pt x="309" y="362"/>
                  <a:pt x="113" y="362"/>
                  <a:pt x="60" y="317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28924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57680" y="155736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386064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50920" y="3860640"/>
            <a:ext cx="1441080" cy="579600"/>
            <a:chOff x="2050920" y="3860640"/>
            <a:chExt cx="1441080" cy="579600"/>
          </a:xfrm>
        </p:grpSpPr>
        <p:sp>
          <p:nvSpPr>
            <p:cNvPr id="233" name=""/>
            <p:cNvSpPr/>
            <p:nvPr/>
          </p:nvSpPr>
          <p:spPr>
            <a:xfrm>
              <a:off x="2050920" y="3860640"/>
              <a:ext cx="1441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06880" y="3933720"/>
              <a:ext cx="254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45640" y="3933720"/>
              <a:ext cx="253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27672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924360" y="3860640"/>
            <a:ext cx="1655640" cy="579600"/>
            <a:chOff x="3924360" y="3860640"/>
            <a:chExt cx="1655640" cy="579600"/>
          </a:xfrm>
        </p:grpSpPr>
        <p:sp>
          <p:nvSpPr>
            <p:cNvPr id="238" name=""/>
            <p:cNvSpPr/>
            <p:nvPr/>
          </p:nvSpPr>
          <p:spPr>
            <a:xfrm>
              <a:off x="3924360" y="3860640"/>
              <a:ext cx="165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5600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636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00364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3860640"/>
            <a:ext cx="144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.b.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8800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18200" y="3860640"/>
            <a:ext cx="1441440" cy="579600"/>
            <a:chOff x="7018200" y="3860640"/>
            <a:chExt cx="1441440" cy="579600"/>
          </a:xfrm>
        </p:grpSpPr>
        <p:sp>
          <p:nvSpPr>
            <p:cNvPr id="245" name=""/>
            <p:cNvSpPr/>
            <p:nvPr/>
          </p:nvSpPr>
          <p:spPr>
            <a:xfrm>
              <a:off x="7018200" y="3860640"/>
              <a:ext cx="1441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73800" y="3933720"/>
              <a:ext cx="255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18560" y="3933720"/>
              <a:ext cx="253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>
            <a:off x="2771640" y="2924280"/>
            <a:ext cx="21600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1989000"/>
            <a:ext cx="504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6720" y="2637000"/>
            <a:ext cx="863640" cy="122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2000" y="1916280"/>
            <a:ext cx="1584360" cy="18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771640" y="1773360"/>
          <a:ext cx="392760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208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1474920" y="757080"/>
            <a:ext cx="6121440" cy="2536560"/>
            <a:chOff x="1474920" y="757080"/>
            <a:chExt cx="6121440" cy="2536560"/>
          </a:xfrm>
        </p:grpSpPr>
        <p:grpSp>
          <p:nvGrpSpPr>
            <p:cNvPr id="254" name=""/>
            <p:cNvGrpSpPr/>
            <p:nvPr/>
          </p:nvGrpSpPr>
          <p:grpSpPr>
            <a:xfrm>
              <a:off x="1835280" y="757080"/>
              <a:ext cx="5761080" cy="1008000"/>
              <a:chOff x="1835280" y="757080"/>
              <a:chExt cx="5761080" cy="1008000"/>
            </a:xfrm>
          </p:grpSpPr>
          <p:sp>
            <p:nvSpPr>
              <p:cNvPr id="255" name=""/>
              <p:cNvSpPr/>
              <p:nvPr/>
            </p:nvSpPr>
            <p:spPr>
              <a:xfrm flipH="1" flipV="1">
                <a:off x="1835280" y="126036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6659640" y="154908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48720" y="104436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72000" y="118872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36720" y="75708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474920" y="1333440"/>
              <a:ext cx="1081080" cy="1960200"/>
              <a:chOff x="1474920" y="1333440"/>
              <a:chExt cx="1081080" cy="1960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474920" y="1333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08360" y="2124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4824360" y="1749600"/>
            <a:ext cx="1763640" cy="684000"/>
          </a:xfrm>
          <a:custGeom>
            <a:avLst/>
            <a:gdLst/>
            <a:ahLst/>
            <a:rect l="l" t="t" r="r" b="b"/>
            <a:pathLst>
              <a:path w="1111" h="431">
                <a:moveTo>
                  <a:pt x="1020" y="105"/>
                </a:moveTo>
                <a:cubicBezTo>
                  <a:pt x="960" y="45"/>
                  <a:pt x="771" y="22"/>
                  <a:pt x="612" y="15"/>
                </a:cubicBezTo>
                <a:cubicBezTo>
                  <a:pt x="453" y="8"/>
                  <a:pt x="136" y="0"/>
                  <a:pt x="68" y="60"/>
                </a:cubicBezTo>
                <a:cubicBezTo>
                  <a:pt x="0" y="120"/>
                  <a:pt x="53" y="325"/>
                  <a:pt x="204" y="378"/>
                </a:cubicBezTo>
                <a:cubicBezTo>
                  <a:pt x="355" y="431"/>
                  <a:pt x="839" y="423"/>
                  <a:pt x="975" y="378"/>
                </a:cubicBezTo>
                <a:cubicBezTo>
                  <a:pt x="1111" y="333"/>
                  <a:pt x="1080" y="165"/>
                  <a:pt x="1020" y="105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51280" y="2457360"/>
            <a:ext cx="1763640" cy="684360"/>
          </a:xfrm>
          <a:custGeom>
            <a:avLst/>
            <a:gdLst/>
            <a:ahLst/>
            <a:rect l="l" t="t" r="r" b="b"/>
            <a:pathLst>
              <a:path w="1111" h="431">
                <a:moveTo>
                  <a:pt x="1020" y="105"/>
                </a:moveTo>
                <a:cubicBezTo>
                  <a:pt x="960" y="45"/>
                  <a:pt x="771" y="22"/>
                  <a:pt x="612" y="15"/>
                </a:cubicBezTo>
                <a:cubicBezTo>
                  <a:pt x="453" y="8"/>
                  <a:pt x="136" y="0"/>
                  <a:pt x="68" y="60"/>
                </a:cubicBezTo>
                <a:cubicBezTo>
                  <a:pt x="0" y="120"/>
                  <a:pt x="53" y="325"/>
                  <a:pt x="204" y="378"/>
                </a:cubicBezTo>
                <a:cubicBezTo>
                  <a:pt x="355" y="431"/>
                  <a:pt x="839" y="423"/>
                  <a:pt x="975" y="378"/>
                </a:cubicBezTo>
                <a:cubicBezTo>
                  <a:pt x="1111" y="333"/>
                  <a:pt x="1080" y="165"/>
                  <a:pt x="1020" y="105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47640" y="3860640"/>
            <a:ext cx="5904000" cy="648720"/>
            <a:chOff x="1547640" y="3860640"/>
            <a:chExt cx="5904000" cy="648720"/>
          </a:xfrm>
        </p:grpSpPr>
        <p:sp>
          <p:nvSpPr>
            <p:cNvPr id="266" name=""/>
            <p:cNvSpPr/>
            <p:nvPr/>
          </p:nvSpPr>
          <p:spPr>
            <a:xfrm>
              <a:off x="1547640" y="3860640"/>
              <a:ext cx="590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r</a:t>
              </a:r>
              <a:r>
                <a:rPr b="1" lang="fr-FR" sz="3200" spc="-1" strike="noStrike" baseline="-25000">
                  <a:solidFill>
                    <a:srgbClr val="ff3300"/>
                  </a:solidFill>
                  <a:latin typeface="Arial"/>
                </a:rPr>
                <a:t>n </a:t>
              </a: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b.r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+ a.r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67280" y="4005360"/>
              <a:ext cx="21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588000" y="260280"/>
            <a:ext cx="2376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التصميم المنط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0920" y="1557360"/>
            <a:ext cx="8640720" cy="3166920"/>
            <a:chOff x="250920" y="1557360"/>
            <a:chExt cx="8640720" cy="3166920"/>
          </a:xfrm>
        </p:grpSpPr>
        <p:grpSp>
          <p:nvGrpSpPr>
            <p:cNvPr id="270" name=""/>
            <p:cNvGrpSpPr/>
            <p:nvPr/>
          </p:nvGrpSpPr>
          <p:grpSpPr>
            <a:xfrm>
              <a:off x="1042920" y="2779560"/>
              <a:ext cx="3168360" cy="865080"/>
              <a:chOff x="1042920" y="2779560"/>
              <a:chExt cx="3168360" cy="865080"/>
            </a:xfrm>
          </p:grpSpPr>
          <p:sp>
            <p:nvSpPr>
              <p:cNvPr id="271" name=""/>
              <p:cNvSpPr/>
              <p:nvPr/>
            </p:nvSpPr>
            <p:spPr>
              <a:xfrm>
                <a:off x="1042920" y="2923920"/>
                <a:ext cx="1296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042920" y="3500280"/>
                <a:ext cx="1296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66920" y="2779560"/>
                <a:ext cx="241200" cy="865080"/>
              </a:xfrm>
              <a:custGeom>
                <a:avLst/>
                <a:gdLst/>
                <a:ahLst/>
                <a:rect l="l" t="t" r="r" b="b"/>
                <a:pathLst>
                  <a:path w="152" h="545">
                    <a:moveTo>
                      <a:pt x="0" y="0"/>
                    </a:moveTo>
                    <a:cubicBezTo>
                      <a:pt x="61" y="61"/>
                      <a:pt x="122" y="122"/>
                      <a:pt x="137" y="182"/>
                    </a:cubicBezTo>
                    <a:cubicBezTo>
                      <a:pt x="152" y="242"/>
                      <a:pt x="114" y="302"/>
                      <a:pt x="91" y="363"/>
                    </a:cubicBezTo>
                    <a:cubicBezTo>
                      <a:pt x="68" y="424"/>
                      <a:pt x="34" y="484"/>
                      <a:pt x="0" y="545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2469600" y="2809080"/>
                <a:ext cx="733320" cy="792360"/>
              </a:xfrm>
              <a:prstGeom prst="flowChartOnlineStorage">
                <a:avLst/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03280" y="3212640"/>
                <a:ext cx="100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557440" y="4076640"/>
              <a:ext cx="647640" cy="647640"/>
            </a:xfrm>
            <a:prstGeom prst="flowChartDelay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765440" y="422100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765440" y="2924280"/>
              <a:ext cx="0" cy="129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549440" y="450864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549440" y="3499920"/>
              <a:ext cx="0" cy="100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05080" y="4363920"/>
              <a:ext cx="345456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8360" y="263700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8360" y="3284640"/>
              <a:ext cx="57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71640" y="1844640"/>
              <a:ext cx="5329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1640" y="2421000"/>
              <a:ext cx="2089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27640" y="1700280"/>
              <a:ext cx="241560" cy="865080"/>
            </a:xfrm>
            <a:custGeom>
              <a:avLst/>
              <a:gdLst/>
              <a:ahLst/>
              <a:rect l="l" t="t" r="r" b="b"/>
              <a:pathLst>
                <a:path w="152" h="545">
                  <a:moveTo>
                    <a:pt x="0" y="0"/>
                  </a:moveTo>
                  <a:cubicBezTo>
                    <a:pt x="61" y="61"/>
                    <a:pt x="122" y="122"/>
                    <a:pt x="137" y="182"/>
                  </a:cubicBezTo>
                  <a:cubicBezTo>
                    <a:pt x="152" y="242"/>
                    <a:pt x="114" y="302"/>
                    <a:pt x="91" y="363"/>
                  </a:cubicBezTo>
                  <a:cubicBezTo>
                    <a:pt x="68" y="424"/>
                    <a:pt x="34" y="484"/>
                    <a:pt x="0" y="54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800000">
              <a:off x="6430680" y="1730520"/>
              <a:ext cx="733320" cy="79200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64360" y="2133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211640" y="1844280"/>
              <a:ext cx="2808360" cy="1800720"/>
              <a:chOff x="4211640" y="1844280"/>
              <a:chExt cx="2808360" cy="1800720"/>
            </a:xfrm>
          </p:grpSpPr>
          <p:sp>
            <p:nvSpPr>
              <p:cNvPr id="290" name=""/>
              <p:cNvSpPr/>
              <p:nvPr/>
            </p:nvSpPr>
            <p:spPr>
              <a:xfrm>
                <a:off x="5219640" y="2997000"/>
                <a:ext cx="648000" cy="648000"/>
              </a:xfrm>
              <a:prstGeom prst="flowChartDelay">
                <a:avLst/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4427640" y="3141720"/>
                <a:ext cx="79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27640" y="1844280"/>
                <a:ext cx="0" cy="1297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211640" y="3429000"/>
                <a:ext cx="100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211640" y="242100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284640"/>
                <a:ext cx="1152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50920" y="1557360"/>
              <a:ext cx="86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17080" y="191628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45440" y="306864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fr-FR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0800000">
              <a:off x="6948360" y="3141360"/>
              <a:ext cx="720720" cy="718920"/>
            </a:xfrm>
            <a:prstGeom prst="flowChartOnlineStorag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659640" y="3716280"/>
              <a:ext cx="0" cy="649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59640" y="371628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67640" y="3500280"/>
              <a:ext cx="649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588000" y="260280"/>
            <a:ext cx="2376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مثال تطبي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125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أنجز دارة تقوم بجمع عددين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+B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في النظام الثنائي كل عدد مكون من 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71640" y="2133720"/>
            <a:ext cx="40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(  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a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47640" y="285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327024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 (  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b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4149720"/>
            <a:ext cx="511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00360" y="501336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(  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r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429264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(  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3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2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1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s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0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374840" y="1973160"/>
            <a:ext cx="6942240" cy="22478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619280" y="1052640"/>
            <a:ext cx="6265800" cy="2736720"/>
            <a:chOff x="1619280" y="1052640"/>
            <a:chExt cx="6265800" cy="2736720"/>
          </a:xfrm>
        </p:grpSpPr>
        <p:sp>
          <p:nvSpPr>
            <p:cNvPr id="313" name=""/>
            <p:cNvSpPr/>
            <p:nvPr/>
          </p:nvSpPr>
          <p:spPr>
            <a:xfrm>
              <a:off x="6372360" y="1052640"/>
              <a:ext cx="1512720" cy="45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ffff"/>
                  </a:solidFill>
                  <a:latin typeface="Arial"/>
                </a:rPr>
                <a:t>احتفا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372000" y="1484280"/>
              <a:ext cx="360360" cy="13683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643280" y="1484280"/>
              <a:ext cx="2089440" cy="1297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843280" y="1484280"/>
              <a:ext cx="3889440" cy="12240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619280" y="1484280"/>
              <a:ext cx="5113440" cy="2305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148360" y="404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نصف طارح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emi So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40000" y="1413000"/>
            <a:ext cx="4464000" cy="1439640"/>
            <a:chOff x="2340000" y="1413000"/>
            <a:chExt cx="4464000" cy="1439640"/>
          </a:xfrm>
        </p:grpSpPr>
        <p:sp>
          <p:nvSpPr>
            <p:cNvPr id="320" name=""/>
            <p:cNvSpPr/>
            <p:nvPr/>
          </p:nvSpPr>
          <p:spPr>
            <a:xfrm>
              <a:off x="3564000" y="1413000"/>
              <a:ext cx="2160360" cy="1439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200" spc="-1" strike="noStrike">
                  <a:solidFill>
                    <a:srgbClr val="ffffff"/>
                  </a:solidFill>
                  <a:latin typeface="Arial"/>
                </a:rPr>
                <a:t>نصف طارح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SS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11280" y="162864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40000" y="256536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24360" y="162864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24360" y="256536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476360" y="1341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76360" y="2324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13413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77080" y="22780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732720" y="26028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067280" y="260280"/>
          <a:ext cx="2560680" cy="3529080"/>
        </p:xfrm>
        <a:graphic>
          <a:graphicData uri="http://schemas.openxmlformats.org/drawingml/2006/table">
            <a:tbl>
              <a:tblPr/>
              <a:tblGrid>
                <a:gridCol w="640080"/>
                <a:gridCol w="640080"/>
                <a:gridCol w="640080"/>
                <a:gridCol w="64044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682560" y="620640"/>
            <a:ext cx="2952720" cy="520560"/>
            <a:chOff x="682560" y="620640"/>
            <a:chExt cx="2952720" cy="520560"/>
          </a:xfrm>
        </p:grpSpPr>
        <p:sp>
          <p:nvSpPr>
            <p:cNvPr id="332" name=""/>
            <p:cNvSpPr/>
            <p:nvPr/>
          </p:nvSpPr>
          <p:spPr>
            <a:xfrm>
              <a:off x="682560" y="620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Q = a.b  + a.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03280" y="663480"/>
              <a:ext cx="28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98560" y="663480"/>
              <a:ext cx="21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5364000" y="246240"/>
          <a:ext cx="576360" cy="3528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6" name=""/>
          <p:cNvGrpSpPr/>
          <p:nvPr/>
        </p:nvGrpSpPr>
        <p:grpSpPr>
          <a:xfrm>
            <a:off x="6012000" y="981000"/>
            <a:ext cx="576000" cy="2809800"/>
            <a:chOff x="6012000" y="981000"/>
            <a:chExt cx="576000" cy="2809800"/>
          </a:xfrm>
        </p:grpSpPr>
        <p:sp>
          <p:nvSpPr>
            <p:cNvPr id="337" name=""/>
            <p:cNvSpPr/>
            <p:nvPr/>
          </p:nvSpPr>
          <p:spPr>
            <a:xfrm>
              <a:off x="6012000" y="981000"/>
              <a:ext cx="576000" cy="649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2000" y="170028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12000" y="242100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2000" y="314172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516720" y="3908520"/>
            <a:ext cx="2376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التصميم المنط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835280" y="4508640"/>
            <a:ext cx="3168360" cy="865080"/>
            <a:chOff x="1835280" y="4508640"/>
            <a:chExt cx="3168360" cy="865080"/>
          </a:xfrm>
        </p:grpSpPr>
        <p:sp>
          <p:nvSpPr>
            <p:cNvPr id="343" name=""/>
            <p:cNvSpPr/>
            <p:nvPr/>
          </p:nvSpPr>
          <p:spPr>
            <a:xfrm>
              <a:off x="1835280" y="465300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35280" y="522936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59280" y="4508640"/>
              <a:ext cx="241200" cy="865080"/>
            </a:xfrm>
            <a:custGeom>
              <a:avLst/>
              <a:gdLst/>
              <a:ahLst/>
              <a:rect l="l" t="t" r="r" b="b"/>
              <a:pathLst>
                <a:path w="152" h="545">
                  <a:moveTo>
                    <a:pt x="0" y="0"/>
                  </a:moveTo>
                  <a:cubicBezTo>
                    <a:pt x="61" y="61"/>
                    <a:pt x="122" y="122"/>
                    <a:pt x="137" y="182"/>
                  </a:cubicBezTo>
                  <a:cubicBezTo>
                    <a:pt x="152" y="242"/>
                    <a:pt x="114" y="302"/>
                    <a:pt x="91" y="363"/>
                  </a:cubicBezTo>
                  <a:cubicBezTo>
                    <a:pt x="68" y="424"/>
                    <a:pt x="34" y="484"/>
                    <a:pt x="0" y="54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0800000">
              <a:off x="3261960" y="4538160"/>
              <a:ext cx="733320" cy="79236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95640" y="4941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187280" y="4365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5013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4724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587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11280" y="1614600"/>
            <a:ext cx="2952720" cy="520560"/>
            <a:chOff x="611280" y="1614600"/>
            <a:chExt cx="2952720" cy="520560"/>
          </a:xfrm>
        </p:grpSpPr>
        <p:sp>
          <p:nvSpPr>
            <p:cNvPr id="353" name=""/>
            <p:cNvSpPr/>
            <p:nvPr/>
          </p:nvSpPr>
          <p:spPr>
            <a:xfrm>
              <a:off x="611280" y="1614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Q = a        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835280" y="1773360"/>
              <a:ext cx="216000" cy="215640"/>
              <a:chOff x="1835280" y="1773360"/>
              <a:chExt cx="216000" cy="21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835280" y="1773360"/>
                <a:ext cx="216000" cy="215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37160" y="1817280"/>
                <a:ext cx="0" cy="142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865520" y="188892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11280" y="2333520"/>
            <a:ext cx="2376360" cy="520560"/>
            <a:chOff x="611280" y="2333520"/>
            <a:chExt cx="2376360" cy="520560"/>
          </a:xfrm>
        </p:grpSpPr>
        <p:sp>
          <p:nvSpPr>
            <p:cNvPr id="359" name=""/>
            <p:cNvSpPr/>
            <p:nvPr/>
          </p:nvSpPr>
          <p:spPr>
            <a:xfrm>
              <a:off x="611280" y="233352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C = a . b</a:t>
              </a: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32000" y="2421000"/>
              <a:ext cx="28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124000" y="4652640"/>
            <a:ext cx="2808360" cy="1800720"/>
            <a:chOff x="2124000" y="4652640"/>
            <a:chExt cx="2808360" cy="1800720"/>
          </a:xfrm>
        </p:grpSpPr>
        <p:grpSp>
          <p:nvGrpSpPr>
            <p:cNvPr id="362" name=""/>
            <p:cNvGrpSpPr/>
            <p:nvPr/>
          </p:nvGrpSpPr>
          <p:grpSpPr>
            <a:xfrm>
              <a:off x="2124000" y="4652640"/>
              <a:ext cx="2808360" cy="1800720"/>
              <a:chOff x="2124000" y="4652640"/>
              <a:chExt cx="2808360" cy="1800720"/>
            </a:xfrm>
          </p:grpSpPr>
          <p:sp>
            <p:nvSpPr>
              <p:cNvPr id="363" name=""/>
              <p:cNvSpPr/>
              <p:nvPr/>
            </p:nvSpPr>
            <p:spPr>
              <a:xfrm>
                <a:off x="3132000" y="5805360"/>
                <a:ext cx="648000" cy="648000"/>
              </a:xfrm>
              <a:prstGeom prst="flowChartDelay">
                <a:avLst/>
              </a:prstGeom>
              <a:solidFill>
                <a:srgbClr val="99cc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2340000" y="5950080"/>
                <a:ext cx="79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340000" y="4652640"/>
                <a:ext cx="0" cy="1297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2124000" y="6237360"/>
                <a:ext cx="1008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124000" y="5229360"/>
                <a:ext cx="0" cy="1008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80000" y="6093000"/>
                <a:ext cx="1152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446200" y="5738760"/>
              <a:ext cx="512640" cy="379440"/>
              <a:chOff x="2446200" y="5738760"/>
              <a:chExt cx="512640" cy="379440"/>
            </a:xfrm>
          </p:grpSpPr>
          <p:sp>
            <p:nvSpPr>
              <p:cNvPr id="370" name=""/>
              <p:cNvSpPr/>
              <p:nvPr/>
            </p:nvSpPr>
            <p:spPr>
              <a:xfrm rot="5584200">
                <a:off x="2455200" y="5748120"/>
                <a:ext cx="360360" cy="360360"/>
              </a:xfrm>
              <a:prstGeom prst="triangle">
                <a:avLst>
                  <a:gd name="adj" fmla="val 50000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16280" y="5864400"/>
                <a:ext cx="142560" cy="1425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148360" y="1159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طارح كامل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ull So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36720" y="549360"/>
            <a:ext cx="4464000" cy="1439640"/>
            <a:chOff x="936720" y="549360"/>
            <a:chExt cx="4464000" cy="1439640"/>
          </a:xfrm>
        </p:grpSpPr>
        <p:grpSp>
          <p:nvGrpSpPr>
            <p:cNvPr id="374" name=""/>
            <p:cNvGrpSpPr/>
            <p:nvPr/>
          </p:nvGrpSpPr>
          <p:grpSpPr>
            <a:xfrm>
              <a:off x="936720" y="549360"/>
              <a:ext cx="4464000" cy="1439640"/>
              <a:chOff x="936720" y="549360"/>
              <a:chExt cx="4464000" cy="1439640"/>
            </a:xfrm>
          </p:grpSpPr>
          <p:sp>
            <p:nvSpPr>
              <p:cNvPr id="375" name=""/>
              <p:cNvSpPr/>
              <p:nvPr/>
            </p:nvSpPr>
            <p:spPr>
              <a:xfrm>
                <a:off x="2160720" y="549360"/>
                <a:ext cx="2160360" cy="1439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3200" spc="-1" strike="noStrike">
                    <a:solidFill>
                      <a:srgbClr val="ffffff"/>
                    </a:solidFill>
                    <a:latin typeface="Arial"/>
                  </a:rPr>
                  <a:t>طارح كامل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FS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08000" y="765000"/>
                <a:ext cx="115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36720" y="1701720"/>
                <a:ext cx="122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21080" y="76500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21080" y="170172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1008000" y="119664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3080" y="523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08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73800" y="54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3800" y="14860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1484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32720" y="275580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71640" y="2127240"/>
          <a:ext cx="3927600" cy="4657680"/>
        </p:xfrm>
        <a:graphic>
          <a:graphicData uri="http://schemas.openxmlformats.org/drawingml/2006/table">
            <a:tbl>
              <a:tblPr/>
              <a:tblGrid>
                <a:gridCol w="785880"/>
                <a:gridCol w="784440"/>
                <a:gridCol w="787320"/>
                <a:gridCol w="784080"/>
                <a:gridCol w="7858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5162400" y="2638440"/>
          <a:ext cx="720360" cy="4190760"/>
        </p:xfrm>
        <a:graphic>
          <a:graphicData uri="http://schemas.openxmlformats.org/drawingml/2006/table">
            <a:tbl>
              <a:tblPr/>
              <a:tblGrid>
                <a:gridCol w="7203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9" name=""/>
          <p:cNvGrpSpPr/>
          <p:nvPr/>
        </p:nvGrpSpPr>
        <p:grpSpPr>
          <a:xfrm>
            <a:off x="5940360" y="2637000"/>
            <a:ext cx="719280" cy="4162320"/>
            <a:chOff x="5940360" y="2637000"/>
            <a:chExt cx="719280" cy="4162320"/>
          </a:xfrm>
        </p:grpSpPr>
        <p:sp>
          <p:nvSpPr>
            <p:cNvPr id="390" name=""/>
            <p:cNvSpPr/>
            <p:nvPr/>
          </p:nvSpPr>
          <p:spPr>
            <a:xfrm>
              <a:off x="5940360" y="26370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40360" y="313992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360" y="36734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40360" y="42195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40360" y="472428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0360" y="52293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40360" y="57326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40360" y="62946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8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04000" y="260280"/>
            <a:ext cx="216072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كارن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556000" y="1557360"/>
          <a:ext cx="392724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172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0" name=""/>
          <p:cNvGrpSpPr/>
          <p:nvPr/>
        </p:nvGrpSpPr>
        <p:grpSpPr>
          <a:xfrm>
            <a:off x="1258920" y="541440"/>
            <a:ext cx="6121440" cy="2536200"/>
            <a:chOff x="1258920" y="541440"/>
            <a:chExt cx="6121440" cy="2536200"/>
          </a:xfrm>
        </p:grpSpPr>
        <p:grpSp>
          <p:nvGrpSpPr>
            <p:cNvPr id="401" name=""/>
            <p:cNvGrpSpPr/>
            <p:nvPr/>
          </p:nvGrpSpPr>
          <p:grpSpPr>
            <a:xfrm>
              <a:off x="1619280" y="541440"/>
              <a:ext cx="5761080" cy="1008000"/>
              <a:chOff x="1619280" y="541440"/>
              <a:chExt cx="5761080" cy="1008000"/>
            </a:xfrm>
          </p:grpSpPr>
          <p:sp>
            <p:nvSpPr>
              <p:cNvPr id="402" name=""/>
              <p:cNvSpPr/>
              <p:nvPr/>
            </p:nvSpPr>
            <p:spPr>
              <a:xfrm flipH="1" flipV="1">
                <a:off x="1619280" y="104472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6443640" y="133344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32720" y="82872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Q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56000" y="97308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20720" y="54144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258920" y="1117440"/>
              <a:ext cx="1081080" cy="1960200"/>
              <a:chOff x="1258920" y="1117440"/>
              <a:chExt cx="1081080" cy="1960200"/>
            </a:xfrm>
          </p:grpSpPr>
          <p:sp>
            <p:nvSpPr>
              <p:cNvPr id="408" name=""/>
              <p:cNvSpPr/>
              <p:nvPr/>
            </p:nvSpPr>
            <p:spPr>
              <a:xfrm>
                <a:off x="1258920" y="1117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92360" y="1908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2664000" y="2336760"/>
            <a:ext cx="720720" cy="600120"/>
          </a:xfrm>
          <a:custGeom>
            <a:avLst/>
            <a:gdLst/>
            <a:ahLst/>
            <a:rect l="l" t="t" r="r" b="b"/>
            <a:pathLst>
              <a:path w="454" h="378">
                <a:moveTo>
                  <a:pt x="204" y="370"/>
                </a:moveTo>
                <a:cubicBezTo>
                  <a:pt x="136" y="362"/>
                  <a:pt x="0" y="204"/>
                  <a:pt x="23" y="144"/>
                </a:cubicBezTo>
                <a:cubicBezTo>
                  <a:pt x="46" y="84"/>
                  <a:pt x="272" y="0"/>
                  <a:pt x="340" y="8"/>
                </a:cubicBezTo>
                <a:cubicBezTo>
                  <a:pt x="408" y="16"/>
                  <a:pt x="454" y="129"/>
                  <a:pt x="431" y="189"/>
                </a:cubicBezTo>
                <a:cubicBezTo>
                  <a:pt x="408" y="249"/>
                  <a:pt x="272" y="378"/>
                  <a:pt x="204" y="37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613320" y="1557360"/>
            <a:ext cx="755640" cy="574560"/>
          </a:xfrm>
          <a:custGeom>
            <a:avLst/>
            <a:gdLst/>
            <a:ahLst/>
            <a:rect l="l" t="t" r="r" b="b"/>
            <a:pathLst>
              <a:path w="476" h="362">
                <a:moveTo>
                  <a:pt x="60" y="317"/>
                </a:moveTo>
                <a:cubicBezTo>
                  <a:pt x="7" y="272"/>
                  <a:pt x="0" y="90"/>
                  <a:pt x="60" y="45"/>
                </a:cubicBezTo>
                <a:cubicBezTo>
                  <a:pt x="120" y="0"/>
                  <a:pt x="370" y="0"/>
                  <a:pt x="423" y="45"/>
                </a:cubicBezTo>
                <a:cubicBezTo>
                  <a:pt x="476" y="90"/>
                  <a:pt x="445" y="272"/>
                  <a:pt x="377" y="317"/>
                </a:cubicBezTo>
                <a:cubicBezTo>
                  <a:pt x="309" y="362"/>
                  <a:pt x="113" y="362"/>
                  <a:pt x="60" y="317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28924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57680" y="1557360"/>
            <a:ext cx="743040" cy="647640"/>
          </a:xfrm>
          <a:custGeom>
            <a:avLst/>
            <a:gdLst/>
            <a:ahLst/>
            <a:rect l="l" t="t" r="r" b="b"/>
            <a:pathLst>
              <a:path w="468" h="408">
                <a:moveTo>
                  <a:pt x="318" y="400"/>
                </a:moveTo>
                <a:cubicBezTo>
                  <a:pt x="273" y="407"/>
                  <a:pt x="182" y="408"/>
                  <a:pt x="136" y="355"/>
                </a:cubicBezTo>
                <a:cubicBezTo>
                  <a:pt x="90" y="302"/>
                  <a:pt x="0" y="136"/>
                  <a:pt x="45" y="83"/>
                </a:cubicBezTo>
                <a:cubicBezTo>
                  <a:pt x="90" y="30"/>
                  <a:pt x="348" y="0"/>
                  <a:pt x="408" y="38"/>
                </a:cubicBezTo>
                <a:cubicBezTo>
                  <a:pt x="468" y="76"/>
                  <a:pt x="423" y="250"/>
                  <a:pt x="408" y="310"/>
                </a:cubicBezTo>
                <a:cubicBezTo>
                  <a:pt x="393" y="370"/>
                  <a:pt x="363" y="393"/>
                  <a:pt x="318" y="400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32000" y="3860640"/>
            <a:ext cx="100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fr-FR" sz="32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33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50920" y="3860640"/>
            <a:ext cx="1729080" cy="579600"/>
            <a:chOff x="2050920" y="3860640"/>
            <a:chExt cx="1729080" cy="579600"/>
          </a:xfrm>
        </p:grpSpPr>
        <p:sp>
          <p:nvSpPr>
            <p:cNvPr id="416" name=""/>
            <p:cNvSpPr/>
            <p:nvPr/>
          </p:nvSpPr>
          <p:spPr>
            <a:xfrm>
              <a:off x="2050920" y="3860640"/>
              <a:ext cx="1729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95640" y="3933720"/>
              <a:ext cx="304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27280" y="3933720"/>
              <a:ext cx="30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27672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924360" y="3860640"/>
            <a:ext cx="1655640" cy="579600"/>
            <a:chOff x="3924360" y="3860640"/>
            <a:chExt cx="1655640" cy="579600"/>
          </a:xfrm>
        </p:grpSpPr>
        <p:sp>
          <p:nvSpPr>
            <p:cNvPr id="421" name=""/>
            <p:cNvSpPr/>
            <p:nvPr/>
          </p:nvSpPr>
          <p:spPr>
            <a:xfrm>
              <a:off x="3924360" y="3860640"/>
              <a:ext cx="1655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600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16360" y="393372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500364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5640" y="386064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.b.c</a:t>
            </a:r>
            <a:r>
              <a:rPr b="1" lang="fr-FR" sz="28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588000" y="3860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7018200" y="3860640"/>
            <a:ext cx="1586160" cy="579600"/>
            <a:chOff x="7018200" y="3860640"/>
            <a:chExt cx="1586160" cy="579600"/>
          </a:xfrm>
        </p:grpSpPr>
        <p:sp>
          <p:nvSpPr>
            <p:cNvPr id="428" name=""/>
            <p:cNvSpPr/>
            <p:nvPr/>
          </p:nvSpPr>
          <p:spPr>
            <a:xfrm>
              <a:off x="7018200" y="3860640"/>
              <a:ext cx="158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a.b.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64360" y="3933720"/>
              <a:ext cx="281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85080" y="3933720"/>
              <a:ext cx="27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 flipH="1">
            <a:off x="2771640" y="2924280"/>
            <a:ext cx="21600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67280" y="1989000"/>
            <a:ext cx="504720" cy="180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76720" y="2637000"/>
            <a:ext cx="863640" cy="1223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12000" y="1916280"/>
            <a:ext cx="1584360" cy="187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187280" y="4508640"/>
            <a:ext cx="3384720" cy="579600"/>
            <a:chOff x="1187280" y="4508640"/>
            <a:chExt cx="3384720" cy="579600"/>
          </a:xfrm>
        </p:grpSpPr>
        <p:sp>
          <p:nvSpPr>
            <p:cNvPr id="436" name=""/>
            <p:cNvSpPr/>
            <p:nvPr/>
          </p:nvSpPr>
          <p:spPr>
            <a:xfrm>
              <a:off x="1187280" y="4508640"/>
              <a:ext cx="338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Q = a        b       c</a:t>
              </a:r>
              <a:r>
                <a:rPr b="1" lang="fr-FR" sz="28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411280" y="4667400"/>
              <a:ext cx="216000" cy="215640"/>
              <a:chOff x="2411280" y="4667400"/>
              <a:chExt cx="216000" cy="21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2411280" y="4667400"/>
                <a:ext cx="216000" cy="215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13160" y="4711320"/>
                <a:ext cx="0" cy="142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41520" y="478296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419640" y="4695840"/>
              <a:ext cx="215640" cy="216000"/>
              <a:chOff x="3419640" y="4695840"/>
              <a:chExt cx="215640" cy="21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3419640" y="4695840"/>
                <a:ext cx="215640" cy="2160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21160" y="4740120"/>
                <a:ext cx="0" cy="142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49520" y="4811760"/>
                <a:ext cx="142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8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2771640" y="1773360"/>
          <a:ext cx="3927600" cy="1511280"/>
        </p:xfrm>
        <a:graphic>
          <a:graphicData uri="http://schemas.openxmlformats.org/drawingml/2006/table">
            <a:tbl>
              <a:tblPr/>
              <a:tblGrid>
                <a:gridCol w="981720"/>
                <a:gridCol w="982080"/>
                <a:gridCol w="981720"/>
                <a:gridCol w="9820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6" name=""/>
          <p:cNvGrpSpPr/>
          <p:nvPr/>
        </p:nvGrpSpPr>
        <p:grpSpPr>
          <a:xfrm>
            <a:off x="1474920" y="757080"/>
            <a:ext cx="6121440" cy="2536560"/>
            <a:chOff x="1474920" y="757080"/>
            <a:chExt cx="6121440" cy="2536560"/>
          </a:xfrm>
        </p:grpSpPr>
        <p:grpSp>
          <p:nvGrpSpPr>
            <p:cNvPr id="447" name=""/>
            <p:cNvGrpSpPr/>
            <p:nvPr/>
          </p:nvGrpSpPr>
          <p:grpSpPr>
            <a:xfrm>
              <a:off x="1835280" y="757080"/>
              <a:ext cx="5761080" cy="1008000"/>
              <a:chOff x="1835280" y="757080"/>
              <a:chExt cx="5761080" cy="1008000"/>
            </a:xfrm>
          </p:grpSpPr>
          <p:sp>
            <p:nvSpPr>
              <p:cNvPr id="448" name=""/>
              <p:cNvSpPr/>
              <p:nvPr/>
            </p:nvSpPr>
            <p:spPr>
              <a:xfrm flipH="1" flipV="1">
                <a:off x="1835280" y="1260360"/>
                <a:ext cx="936720" cy="504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659640" y="1549080"/>
                <a:ext cx="289080" cy="21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948720" y="1044360"/>
                <a:ext cx="647640" cy="72072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r>
                  <a:rPr b="1" lang="fr-FR" sz="3200" spc="-1" strike="noStrike" baseline="-25000">
                    <a:solidFill>
                      <a:srgbClr val="ff3300"/>
                    </a:solidFill>
                    <a:latin typeface="Arial"/>
                  </a:rPr>
                  <a:t>n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772000" y="1188720"/>
                <a:ext cx="396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     </a:t>
                </a: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</a:rPr>
                  <a:t>0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36720" y="757080"/>
                <a:ext cx="107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a   b</a:t>
                </a: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474920" y="1333440"/>
              <a:ext cx="1081080" cy="1960200"/>
              <a:chOff x="1474920" y="1333440"/>
              <a:chExt cx="1081080" cy="1960200"/>
            </a:xfrm>
          </p:grpSpPr>
          <p:sp>
            <p:nvSpPr>
              <p:cNvPr id="454" name=""/>
              <p:cNvSpPr/>
              <p:nvPr/>
            </p:nvSpPr>
            <p:spPr>
              <a:xfrm>
                <a:off x="1474920" y="1333440"/>
                <a:ext cx="1079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1" lang="fr-FR" sz="3200" spc="-1" strike="noStrike" baseline="-25000">
                    <a:solidFill>
                      <a:srgbClr val="ffffff"/>
                    </a:solidFill>
                    <a:latin typeface="Arial"/>
                  </a:rPr>
                  <a:t>n-1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8360" y="2124360"/>
                <a:ext cx="64764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4859280" y="2492280"/>
            <a:ext cx="1763640" cy="684360"/>
          </a:xfrm>
          <a:custGeom>
            <a:avLst/>
            <a:gdLst/>
            <a:ahLst/>
            <a:rect l="l" t="t" r="r" b="b"/>
            <a:pathLst>
              <a:path w="1111" h="431">
                <a:moveTo>
                  <a:pt x="1020" y="105"/>
                </a:moveTo>
                <a:cubicBezTo>
                  <a:pt x="960" y="45"/>
                  <a:pt x="771" y="22"/>
                  <a:pt x="612" y="15"/>
                </a:cubicBezTo>
                <a:cubicBezTo>
                  <a:pt x="453" y="8"/>
                  <a:pt x="136" y="0"/>
                  <a:pt x="68" y="60"/>
                </a:cubicBezTo>
                <a:cubicBezTo>
                  <a:pt x="0" y="120"/>
                  <a:pt x="53" y="325"/>
                  <a:pt x="204" y="378"/>
                </a:cubicBezTo>
                <a:cubicBezTo>
                  <a:pt x="355" y="431"/>
                  <a:pt x="839" y="423"/>
                  <a:pt x="975" y="378"/>
                </a:cubicBezTo>
                <a:cubicBezTo>
                  <a:pt x="1111" y="333"/>
                  <a:pt x="1080" y="165"/>
                  <a:pt x="1020" y="105"/>
                </a:cubicBezTo>
                <a:close/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48480" y="1762200"/>
            <a:ext cx="779400" cy="1582560"/>
          </a:xfrm>
          <a:custGeom>
            <a:avLst/>
            <a:gdLst/>
            <a:ahLst/>
            <a:rect l="l" t="t" r="r" b="b"/>
            <a:pathLst>
              <a:path w="491" h="997">
                <a:moveTo>
                  <a:pt x="121" y="914"/>
                </a:moveTo>
                <a:cubicBezTo>
                  <a:pt x="53" y="831"/>
                  <a:pt x="0" y="475"/>
                  <a:pt x="30" y="324"/>
                </a:cubicBezTo>
                <a:cubicBezTo>
                  <a:pt x="60" y="173"/>
                  <a:pt x="234" y="14"/>
                  <a:pt x="302" y="7"/>
                </a:cubicBezTo>
                <a:cubicBezTo>
                  <a:pt x="370" y="0"/>
                  <a:pt x="415" y="143"/>
                  <a:pt x="438" y="279"/>
                </a:cubicBezTo>
                <a:cubicBezTo>
                  <a:pt x="461" y="415"/>
                  <a:pt x="491" y="717"/>
                  <a:pt x="438" y="823"/>
                </a:cubicBezTo>
                <a:cubicBezTo>
                  <a:pt x="385" y="929"/>
                  <a:pt x="189" y="997"/>
                  <a:pt x="121" y="914"/>
                </a:cubicBezTo>
                <a:close/>
              </a:path>
            </a:pathLst>
          </a:custGeom>
          <a:noFill/>
          <a:ln w="28440">
            <a:solidFill>
              <a:srgbClr val="ffff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56120" y="2517840"/>
            <a:ext cx="1092240" cy="695160"/>
          </a:xfrm>
          <a:custGeom>
            <a:avLst/>
            <a:gdLst/>
            <a:ahLst/>
            <a:rect l="l" t="t" r="r" b="b"/>
            <a:pathLst>
              <a:path w="688" h="438">
                <a:moveTo>
                  <a:pt x="688" y="75"/>
                </a:moveTo>
                <a:cubicBezTo>
                  <a:pt x="442" y="37"/>
                  <a:pt x="196" y="0"/>
                  <a:pt x="98" y="30"/>
                </a:cubicBezTo>
                <a:cubicBezTo>
                  <a:pt x="0" y="60"/>
                  <a:pt x="7" y="188"/>
                  <a:pt x="98" y="256"/>
                </a:cubicBezTo>
                <a:cubicBezTo>
                  <a:pt x="189" y="324"/>
                  <a:pt x="545" y="408"/>
                  <a:pt x="643" y="438"/>
                </a:cubicBezTo>
              </a:path>
            </a:pathLst>
          </a:custGeom>
          <a:noFill/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4360" y="2529000"/>
            <a:ext cx="1187640" cy="612720"/>
          </a:xfrm>
          <a:custGeom>
            <a:avLst/>
            <a:gdLst/>
            <a:ahLst/>
            <a:rect l="l" t="t" r="r" b="b"/>
            <a:pathLst>
              <a:path w="748" h="386">
                <a:moveTo>
                  <a:pt x="0" y="68"/>
                </a:moveTo>
                <a:cubicBezTo>
                  <a:pt x="170" y="34"/>
                  <a:pt x="340" y="0"/>
                  <a:pt x="453" y="23"/>
                </a:cubicBezTo>
                <a:cubicBezTo>
                  <a:pt x="566" y="46"/>
                  <a:pt x="748" y="143"/>
                  <a:pt x="680" y="204"/>
                </a:cubicBezTo>
                <a:cubicBezTo>
                  <a:pt x="612" y="265"/>
                  <a:pt x="328" y="325"/>
                  <a:pt x="45" y="386"/>
                </a:cubicBezTo>
              </a:path>
            </a:pathLst>
          </a:custGeom>
          <a:noFill/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403280" y="3860640"/>
            <a:ext cx="5904000" cy="648720"/>
            <a:chOff x="1403280" y="3860640"/>
            <a:chExt cx="5904000" cy="648720"/>
          </a:xfrm>
        </p:grpSpPr>
        <p:sp>
          <p:nvSpPr>
            <p:cNvPr id="461" name=""/>
            <p:cNvSpPr/>
            <p:nvPr/>
          </p:nvSpPr>
          <p:spPr>
            <a:xfrm>
              <a:off x="1403280" y="3860640"/>
              <a:ext cx="5904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r</a:t>
              </a:r>
              <a:r>
                <a:rPr b="1" lang="fr-FR" sz="3200" spc="-1" strike="noStrike" baseline="-25000">
                  <a:solidFill>
                    <a:srgbClr val="ff3300"/>
                  </a:solidFill>
                  <a:latin typeface="Arial"/>
                </a:rPr>
                <a:t>n </a:t>
              </a:r>
              <a:r>
                <a:rPr b="1" lang="fr-FR" sz="32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a.b + b.c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+ a.c</a:t>
              </a:r>
              <a:r>
                <a:rPr b="1" lang="fr-FR" sz="3200" spc="-1" strike="noStrike" baseline="-25000">
                  <a:solidFill>
                    <a:srgbClr val="ffffff"/>
                  </a:solidFill>
                  <a:latin typeface="Arial"/>
                </a:rPr>
                <a:t>n-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59280" y="4005360"/>
              <a:ext cx="21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35640" y="4005360"/>
              <a:ext cx="216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60280"/>
            <a:ext cx="8785440" cy="106884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ar-DZ" sz="3200" spc="-1" strike="noStrike">
                <a:solidFill>
                  <a:srgbClr val="ffffff"/>
                </a:solidFill>
                <a:latin typeface="Arial"/>
              </a:rPr>
              <a:t> - العناصر المنطقية على شكل دارة مندم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12536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الدارة المندمجة  هي عبارة عن صفيحة صغيرة شبه ناقلة تضم مجموعة من عناصر إلكتروني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مقاحل،مقاومات،ثنائيات،مكثفات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637000"/>
            <a:ext cx="4326120" cy="2998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732720" y="227664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796000" y="2205000"/>
            <a:ext cx="2879640" cy="1584360"/>
            <a:chOff x="5796000" y="2205000"/>
            <a:chExt cx="2879640" cy="1584360"/>
          </a:xfrm>
        </p:grpSpPr>
        <p:sp>
          <p:nvSpPr>
            <p:cNvPr id="108" name=""/>
            <p:cNvSpPr/>
            <p:nvPr/>
          </p:nvSpPr>
          <p:spPr>
            <a:xfrm>
              <a:off x="6804000" y="2205000"/>
              <a:ext cx="1871640" cy="792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علبة بلاستيك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796000" y="2997360"/>
              <a:ext cx="1008000" cy="79200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116000" y="1989000"/>
            <a:ext cx="3743280" cy="1656000"/>
            <a:chOff x="1116000" y="1989000"/>
            <a:chExt cx="3743280" cy="1656000"/>
          </a:xfrm>
        </p:grpSpPr>
        <p:sp>
          <p:nvSpPr>
            <p:cNvPr id="111" name=""/>
            <p:cNvSpPr/>
            <p:nvPr/>
          </p:nvSpPr>
          <p:spPr>
            <a:xfrm>
              <a:off x="1116000" y="1989000"/>
              <a:ext cx="2160720" cy="93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رمز ونوع الدار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48000" y="2708280"/>
              <a:ext cx="1511280" cy="93672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003640" y="4869000"/>
            <a:ext cx="2448000" cy="1439640"/>
            <a:chOff x="5003640" y="4869000"/>
            <a:chExt cx="2448000" cy="1439640"/>
          </a:xfrm>
        </p:grpSpPr>
        <p:sp>
          <p:nvSpPr>
            <p:cNvPr id="114" name=""/>
            <p:cNvSpPr/>
            <p:nvPr/>
          </p:nvSpPr>
          <p:spPr>
            <a:xfrm>
              <a:off x="5508720" y="5373720"/>
              <a:ext cx="1942920" cy="93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أطراف أو أقطاب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2400" spc="-1" strike="noStrike">
                  <a:solidFill>
                    <a:srgbClr val="ff3300"/>
                  </a:solidFill>
                  <a:latin typeface="Arial"/>
                </a:rPr>
                <a:t>الدارة المندمج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5003640" y="4869000"/>
              <a:ext cx="432000" cy="50472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89000"/>
            <a:ext cx="856908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مميزات و سلبيات إستخدام الدارات المندمج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836640"/>
          <a:ext cx="8388360" cy="5540400"/>
        </p:xfrm>
        <a:graphic>
          <a:graphicData uri="http://schemas.openxmlformats.org/drawingml/2006/table">
            <a:tbl>
              <a:tblPr/>
              <a:tblGrid>
                <a:gridCol w="4194000"/>
                <a:gridCol w="4194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سلبي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جابي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لا تعمل بتيار عال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لا يمكن تصنيع بعض العناصر بداخلها مثل الوشيعة أو مقاومات كبيرة أو مكثفات ذات سعة كبي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لا يمكن إصلاح الدارات المندمجة عند إتلاف أي جزء منها مما يلزم إستبدالها كليا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الحجم صغ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استهلاك ضعيف للطاق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تكلفة أق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الحرارة الناتجة عنها بسيطة لا تحتاج إلى تبريد  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كس المقحل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تعمل بسرعة عالية حيث أن الإشارة تأخذ 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عدد المكونات الداخلية أق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توصيلات أقل و منه زمن التصنيع أق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00360" y="404640"/>
            <a:ext cx="3384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خصائص الدرات المندم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170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توتر التغذ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5080" y="23954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الإستطاعة الممتص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5080" y="3116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سرعة التبد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383544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* وقت انتشار الإشارة بين المدخل و المخر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1197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تتميز ب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87640" y="189000"/>
            <a:ext cx="302436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توتر التغذ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125360"/>
            <a:ext cx="9144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هناك مستويين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المستوى المنطقي الأعلى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igh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DZ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وجود توتر محصور بين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fr-FR" sz="2400" spc="-1" strike="noStrike" baseline="-25000">
                <a:solidFill>
                  <a:srgbClr val="ff3300"/>
                </a:solidFill>
                <a:latin typeface="Arial"/>
              </a:rPr>
              <a:t>cc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و قيمة أقل من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المستوى المنطقي الأدنى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ow 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DZ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 غياب التوتر  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71800"/>
            <a:ext cx="41054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عائلات الدارات المندم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480" y="3792600"/>
            <a:ext cx="8893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هناك عدة عائلات أهمها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عائل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TL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ansistor Transistor Logic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مستعملة بكثرة تغذى بـ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V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و يرمز لعائل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TL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بسلسلة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74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أو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عائلة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mplementary Metal Oxyde Semiconducteur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تستهلك استطاعة ضعيفة و يرمز لعائل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MOS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بسلس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40xx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او ما يكافئها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74xx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توتر تغذية بين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3V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و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15V</a:t>
            </a: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9440" y="2628000"/>
            <a:ext cx="33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663640" cy="1486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19640" y="0"/>
            <a:ext cx="262872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564000" y="1773360"/>
            <a:ext cx="240012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443640" y="1700280"/>
            <a:ext cx="2514600" cy="1892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24000" y="191628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39640" y="4149720"/>
            <a:ext cx="2260800" cy="191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3492360" y="4221000"/>
            <a:ext cx="257976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300720" y="4076640"/>
            <a:ext cx="26290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00360" y="404640"/>
            <a:ext cx="3384360" cy="520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الدارات الحسا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13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هي عبارة عن دارات متمثلة في بوابات من خلالها نقوم بعمليات كالجمع ، الطر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227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نصف جامع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emi  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340000" y="3284640"/>
            <a:ext cx="4464000" cy="1439640"/>
            <a:chOff x="2340000" y="3284640"/>
            <a:chExt cx="4464000" cy="1439640"/>
          </a:xfrm>
        </p:grpSpPr>
        <p:sp>
          <p:nvSpPr>
            <p:cNvPr id="143" name=""/>
            <p:cNvSpPr/>
            <p:nvPr/>
          </p:nvSpPr>
          <p:spPr>
            <a:xfrm>
              <a:off x="3564000" y="3284640"/>
              <a:ext cx="2160360" cy="1439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3200" spc="-1" strike="noStrike">
                  <a:solidFill>
                    <a:srgbClr val="ffffff"/>
                  </a:solidFill>
                  <a:latin typeface="Arial"/>
                </a:rPr>
                <a:t>نصف جام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1280" y="350028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443700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50028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437000"/>
              <a:ext cx="10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476360" y="321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4195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77080" y="321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77080" y="4149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732720" y="26028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067280" y="260280"/>
          <a:ext cx="2560680" cy="3529080"/>
        </p:xfrm>
        <a:graphic>
          <a:graphicData uri="http://schemas.openxmlformats.org/drawingml/2006/table">
            <a:tbl>
              <a:tblPr/>
              <a:tblGrid>
                <a:gridCol w="640080"/>
                <a:gridCol w="640080"/>
                <a:gridCol w="640080"/>
                <a:gridCol w="64044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682560" y="620640"/>
            <a:ext cx="2952720" cy="520560"/>
            <a:chOff x="682560" y="620640"/>
            <a:chExt cx="2952720" cy="520560"/>
          </a:xfrm>
        </p:grpSpPr>
        <p:sp>
          <p:nvSpPr>
            <p:cNvPr id="155" name=""/>
            <p:cNvSpPr/>
            <p:nvPr/>
          </p:nvSpPr>
          <p:spPr>
            <a:xfrm>
              <a:off x="682560" y="620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S = a.b  + a.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3280" y="663480"/>
              <a:ext cx="28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8560" y="663480"/>
              <a:ext cx="216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898560" y="1614600"/>
            <a:ext cx="2952720" cy="520560"/>
            <a:chOff x="898560" y="1614600"/>
            <a:chExt cx="2952720" cy="520560"/>
          </a:xfrm>
        </p:grpSpPr>
        <p:sp>
          <p:nvSpPr>
            <p:cNvPr id="159" name=""/>
            <p:cNvSpPr/>
            <p:nvPr/>
          </p:nvSpPr>
          <p:spPr>
            <a:xfrm>
              <a:off x="898560" y="1614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Arial"/>
                </a:rPr>
                <a:t>S = a        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22560" y="1773360"/>
              <a:ext cx="216000" cy="215640"/>
              <a:chOff x="2122560" y="1773360"/>
              <a:chExt cx="216000" cy="21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2560" y="1773360"/>
                <a:ext cx="216000" cy="215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24440" y="1817280"/>
                <a:ext cx="0" cy="142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52800" y="188892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4" name=""/>
          <p:cNvGraphicFramePr/>
          <p:nvPr/>
        </p:nvGraphicFramePr>
        <p:xfrm>
          <a:off x="5378400" y="274680"/>
          <a:ext cx="576360" cy="352872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12000" y="981000"/>
            <a:ext cx="576000" cy="2809800"/>
            <a:chOff x="6012000" y="981000"/>
            <a:chExt cx="576000" cy="2809800"/>
          </a:xfrm>
        </p:grpSpPr>
        <p:sp>
          <p:nvSpPr>
            <p:cNvPr id="166" name=""/>
            <p:cNvSpPr/>
            <p:nvPr/>
          </p:nvSpPr>
          <p:spPr>
            <a:xfrm>
              <a:off x="6012000" y="981000"/>
              <a:ext cx="576000" cy="649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2000" y="170028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2000" y="242100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2000" y="3141720"/>
              <a:ext cx="576000" cy="649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6720" y="3908520"/>
            <a:ext cx="2376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التصميم المنطق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835280" y="4508640"/>
            <a:ext cx="3168360" cy="865080"/>
            <a:chOff x="1835280" y="4508640"/>
            <a:chExt cx="3168360" cy="865080"/>
          </a:xfrm>
        </p:grpSpPr>
        <p:sp>
          <p:nvSpPr>
            <p:cNvPr id="172" name=""/>
            <p:cNvSpPr/>
            <p:nvPr/>
          </p:nvSpPr>
          <p:spPr>
            <a:xfrm>
              <a:off x="1835280" y="465300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35280" y="5229360"/>
              <a:ext cx="1296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9280" y="4508640"/>
              <a:ext cx="241200" cy="865080"/>
            </a:xfrm>
            <a:custGeom>
              <a:avLst/>
              <a:gdLst/>
              <a:ahLst/>
              <a:rect l="l" t="t" r="r" b="b"/>
              <a:pathLst>
                <a:path w="152" h="545">
                  <a:moveTo>
                    <a:pt x="0" y="0"/>
                  </a:moveTo>
                  <a:cubicBezTo>
                    <a:pt x="61" y="61"/>
                    <a:pt x="122" y="122"/>
                    <a:pt x="137" y="182"/>
                  </a:cubicBezTo>
                  <a:cubicBezTo>
                    <a:pt x="152" y="242"/>
                    <a:pt x="114" y="302"/>
                    <a:pt x="91" y="363"/>
                  </a:cubicBezTo>
                  <a:cubicBezTo>
                    <a:pt x="68" y="424"/>
                    <a:pt x="34" y="484"/>
                    <a:pt x="0" y="545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3261960" y="4538160"/>
              <a:ext cx="733320" cy="792360"/>
            </a:xfrm>
            <a:prstGeom prst="flowChartOnlineStorage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95640" y="494172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124000" y="4652640"/>
            <a:ext cx="2808360" cy="1800720"/>
            <a:chOff x="2124000" y="4652640"/>
            <a:chExt cx="2808360" cy="1800720"/>
          </a:xfrm>
        </p:grpSpPr>
        <p:sp>
          <p:nvSpPr>
            <p:cNvPr id="178" name=""/>
            <p:cNvSpPr/>
            <p:nvPr/>
          </p:nvSpPr>
          <p:spPr>
            <a:xfrm>
              <a:off x="3132000" y="5805360"/>
              <a:ext cx="648000" cy="648000"/>
            </a:xfrm>
            <a:prstGeom prst="flowChartDelay">
              <a:avLst/>
            </a:prstGeom>
            <a:solidFill>
              <a:srgbClr val="99cc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340000" y="5950080"/>
              <a:ext cx="79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40000" y="4652640"/>
              <a:ext cx="0" cy="129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124000" y="6237360"/>
              <a:ext cx="1008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24000" y="5229360"/>
              <a:ext cx="0" cy="100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80000" y="6093000"/>
              <a:ext cx="11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187280" y="4365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013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724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5877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42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 = a .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148360" y="11592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ffff"/>
                </a:solidFill>
                <a:latin typeface="Arial"/>
              </a:rPr>
              <a:t>  - جامع كامل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ull Ad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936720" y="549360"/>
            <a:ext cx="4464000" cy="1439640"/>
            <a:chOff x="936720" y="549360"/>
            <a:chExt cx="4464000" cy="1439640"/>
          </a:xfrm>
        </p:grpSpPr>
        <p:grpSp>
          <p:nvGrpSpPr>
            <p:cNvPr id="191" name=""/>
            <p:cNvGrpSpPr/>
            <p:nvPr/>
          </p:nvGrpSpPr>
          <p:grpSpPr>
            <a:xfrm>
              <a:off x="936720" y="549360"/>
              <a:ext cx="4464000" cy="1439640"/>
              <a:chOff x="936720" y="549360"/>
              <a:chExt cx="4464000" cy="1439640"/>
            </a:xfrm>
          </p:grpSpPr>
          <p:sp>
            <p:nvSpPr>
              <p:cNvPr id="192" name=""/>
              <p:cNvSpPr/>
              <p:nvPr/>
            </p:nvSpPr>
            <p:spPr>
              <a:xfrm>
                <a:off x="2160720" y="549360"/>
                <a:ext cx="2160360" cy="14396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DZ" sz="3200" spc="-1" strike="noStrike">
                    <a:solidFill>
                      <a:srgbClr val="ffffff"/>
                    </a:solidFill>
                    <a:latin typeface="Arial"/>
                  </a:rPr>
                  <a:t>جامع كامل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ffff"/>
                    </a:solidFill>
                    <a:latin typeface="Arial"/>
                  </a:rPr>
                  <a:t>F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08000" y="765000"/>
                <a:ext cx="115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36720" y="1701720"/>
                <a:ext cx="122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21080" y="76500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21080" y="1701720"/>
                <a:ext cx="107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08000" y="1196640"/>
              <a:ext cx="115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3080" y="5238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8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73800" y="54936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3800" y="1486080"/>
            <a:ext cx="57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484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32720" y="2755800"/>
            <a:ext cx="216036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ffff"/>
                </a:solidFill>
                <a:latin typeface="Arial"/>
              </a:rPr>
              <a:t>- جدول الح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771640" y="2127240"/>
          <a:ext cx="3927600" cy="4657680"/>
        </p:xfrm>
        <a:graphic>
          <a:graphicData uri="http://schemas.openxmlformats.org/drawingml/2006/table">
            <a:tbl>
              <a:tblPr/>
              <a:tblGrid>
                <a:gridCol w="785880"/>
                <a:gridCol w="784440"/>
                <a:gridCol w="787320"/>
                <a:gridCol w="784080"/>
                <a:gridCol w="7858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1" lang="fr-FR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162400" y="2638440"/>
          <a:ext cx="720360" cy="4190760"/>
        </p:xfrm>
        <a:graphic>
          <a:graphicData uri="http://schemas.openxmlformats.org/drawingml/2006/table">
            <a:tbl>
              <a:tblPr/>
              <a:tblGrid>
                <a:gridCol w="72036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5940360" y="2637000"/>
            <a:ext cx="719280" cy="4162320"/>
            <a:chOff x="5940360" y="2637000"/>
            <a:chExt cx="719280" cy="4162320"/>
          </a:xfrm>
        </p:grpSpPr>
        <p:sp>
          <p:nvSpPr>
            <p:cNvPr id="207" name=""/>
            <p:cNvSpPr/>
            <p:nvPr/>
          </p:nvSpPr>
          <p:spPr>
            <a:xfrm>
              <a:off x="5940360" y="26370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0360" y="313992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0360" y="36734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0360" y="42195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40360" y="4724280"/>
              <a:ext cx="719280" cy="505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40360" y="522936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40360" y="573264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40360" y="6294600"/>
              <a:ext cx="71928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24:27Z</dcterms:created>
  <dc:creator>Alilou</dc:creator>
  <dc:description/>
  <dc:language>en-US</dc:language>
  <cp:lastModifiedBy>AA</cp:lastModifiedBy>
  <dcterms:modified xsi:type="dcterms:W3CDTF">2011-11-15T20:49:24Z</dcterms:modified>
  <cp:revision>22</cp:revision>
  <dc:subject/>
  <dc:title>Diapositive 1</dc:title>
</cp:coreProperties>
</file>