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9CAA-63EB-4760-9148-CF91935F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38C2-505D-4132-BBBD-AA006D67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9E98-985C-4C3E-B6BB-2F846639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C7FB-23C9-48D7-9A22-6DAA2989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286A-93D4-436F-BBCE-7BAC3DDC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6435-E454-4AF8-B28C-D10E7243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BE9D-434D-42E3-A0EA-41B2B5B2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3C2A-7E90-4CE3-B515-8D0B39D6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71C6-72BB-4205-BB80-C3D1CC3D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A72B-E274-4A03-A1E9-DB2570E5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05DE-7A07-44B6-9393-CF649692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3126-0D67-4AB7-89D9-1878E525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89F4-D5BF-4D5C-9256-B567D0A1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0548-F367-4460-B4AB-A9D8C013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4569-BD73-4D60-BA15-DB992282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4867-EABC-486A-ADFC-D8987AB8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9FC9-F984-434D-A3BE-A19B1D35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A889-8D13-480D-B3E1-C25B5865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149E-4151-4216-897A-50171018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6BBA-0F75-4940-9C69-2AFBA57F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68EF-6BC7-44AE-A962-BD6676F6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7C68-4226-48FC-88EA-8908749D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E09F-4B26-4C64-8161-96AC3FCB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5578-1E1C-4DC3-BB83-76E33D5E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272F-78D4-42A6-B330-A387CBF90D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BBC1-F15F-40BF-93B4-8DEBDFE6E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dfamusement.com/prodimg/circuit_integre_uln2803_0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dfamusement.com/prodimg/circuit_integre_uln2803_0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2960" y="189000"/>
            <a:ext cx="4326120" cy="2998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739880" y="18900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805280" y="3357720"/>
            <a:ext cx="4303800" cy="3357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34920" y="3284640"/>
            <a:ext cx="4762440" cy="3409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0" y="189000"/>
            <a:ext cx="2238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04000" y="260280"/>
            <a:ext cx="2160720" cy="947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Arial"/>
              </a:rPr>
              <a:t>- جدول كارن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556000" y="1557360"/>
          <a:ext cx="3927240" cy="1511280"/>
        </p:xfrm>
        <a:graphic>
          <a:graphicData uri="http://schemas.openxmlformats.org/drawingml/2006/table">
            <a:tbl>
              <a:tblPr/>
              <a:tblGrid>
                <a:gridCol w="981720"/>
                <a:gridCol w="981720"/>
                <a:gridCol w="981720"/>
                <a:gridCol w="98208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7" name=""/>
          <p:cNvGrpSpPr/>
          <p:nvPr/>
        </p:nvGrpSpPr>
        <p:grpSpPr>
          <a:xfrm>
            <a:off x="1258920" y="541440"/>
            <a:ext cx="6121440" cy="2536200"/>
            <a:chOff x="1258920" y="541440"/>
            <a:chExt cx="6121440" cy="2536200"/>
          </a:xfrm>
        </p:grpSpPr>
        <p:grpSp>
          <p:nvGrpSpPr>
            <p:cNvPr id="218" name=""/>
            <p:cNvGrpSpPr/>
            <p:nvPr/>
          </p:nvGrpSpPr>
          <p:grpSpPr>
            <a:xfrm>
              <a:off x="1619280" y="541440"/>
              <a:ext cx="5761080" cy="1008000"/>
              <a:chOff x="1619280" y="541440"/>
              <a:chExt cx="5761080" cy="1008000"/>
            </a:xfrm>
          </p:grpSpPr>
          <p:sp>
            <p:nvSpPr>
              <p:cNvPr id="219" name=""/>
              <p:cNvSpPr/>
              <p:nvPr/>
            </p:nvSpPr>
            <p:spPr>
              <a:xfrm flipH="1" flipV="1">
                <a:off x="1619280" y="1044720"/>
                <a:ext cx="936720" cy="504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6443640" y="1333440"/>
                <a:ext cx="289080" cy="216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32720" y="828720"/>
                <a:ext cx="647640" cy="72072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ff3300"/>
                    </a:solidFill>
                    <a:latin typeface="Arial"/>
                  </a:rPr>
                  <a:t>S</a:t>
                </a:r>
                <a:r>
                  <a:rPr b="1" lang="fr-FR" sz="3200" spc="-1" strike="noStrike" baseline="-25000">
                    <a:solidFill>
                      <a:srgbClr val="ff3300"/>
                    </a:solidFill>
                    <a:latin typeface="Arial"/>
                  </a:rPr>
                  <a:t>n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556000" y="973080"/>
                <a:ext cx="396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DZ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     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     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0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20720" y="541440"/>
                <a:ext cx="107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ffff"/>
                    </a:solidFill>
                    <a:latin typeface="Arial"/>
                  </a:rPr>
                  <a:t>a   b</a:t>
                </a:r>
                <a:r>
                  <a:rPr b="1" lang="fr-FR" sz="28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1258920" y="1117440"/>
              <a:ext cx="1081080" cy="1960200"/>
              <a:chOff x="1258920" y="1117440"/>
              <a:chExt cx="1081080" cy="1960200"/>
            </a:xfrm>
          </p:grpSpPr>
          <p:sp>
            <p:nvSpPr>
              <p:cNvPr id="225" name=""/>
              <p:cNvSpPr/>
              <p:nvPr/>
            </p:nvSpPr>
            <p:spPr>
              <a:xfrm>
                <a:off x="1258920" y="1117440"/>
                <a:ext cx="1079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32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r>
                  <a:rPr b="1" lang="fr-FR" sz="3200" spc="-1" strike="noStrike" baseline="-25000">
                    <a:solidFill>
                      <a:srgbClr val="ffffff"/>
                    </a:solidFill>
                    <a:latin typeface="Arial"/>
                  </a:rPr>
                  <a:t>n-1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92360" y="1908360"/>
                <a:ext cx="64764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7" name=""/>
          <p:cNvSpPr/>
          <p:nvPr/>
        </p:nvSpPr>
        <p:spPr>
          <a:xfrm>
            <a:off x="2664000" y="2336760"/>
            <a:ext cx="720720" cy="600120"/>
          </a:xfrm>
          <a:custGeom>
            <a:avLst/>
            <a:gdLst/>
            <a:ahLst/>
            <a:rect l="l" t="t" r="r" b="b"/>
            <a:pathLst>
              <a:path w="454" h="378">
                <a:moveTo>
                  <a:pt x="204" y="370"/>
                </a:moveTo>
                <a:cubicBezTo>
                  <a:pt x="136" y="362"/>
                  <a:pt x="0" y="204"/>
                  <a:pt x="23" y="144"/>
                </a:cubicBezTo>
                <a:cubicBezTo>
                  <a:pt x="46" y="84"/>
                  <a:pt x="272" y="0"/>
                  <a:pt x="340" y="8"/>
                </a:cubicBezTo>
                <a:cubicBezTo>
                  <a:pt x="408" y="16"/>
                  <a:pt x="454" y="129"/>
                  <a:pt x="431" y="189"/>
                </a:cubicBezTo>
                <a:cubicBezTo>
                  <a:pt x="408" y="249"/>
                  <a:pt x="272" y="378"/>
                  <a:pt x="204" y="370"/>
                </a:cubicBezTo>
                <a:close/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13320" y="1557360"/>
            <a:ext cx="755640" cy="574560"/>
          </a:xfrm>
          <a:custGeom>
            <a:avLst/>
            <a:gdLst/>
            <a:ahLst/>
            <a:rect l="l" t="t" r="r" b="b"/>
            <a:pathLst>
              <a:path w="476" h="362">
                <a:moveTo>
                  <a:pt x="60" y="317"/>
                </a:moveTo>
                <a:cubicBezTo>
                  <a:pt x="7" y="272"/>
                  <a:pt x="0" y="90"/>
                  <a:pt x="60" y="45"/>
                </a:cubicBezTo>
                <a:cubicBezTo>
                  <a:pt x="120" y="0"/>
                  <a:pt x="370" y="0"/>
                  <a:pt x="423" y="45"/>
                </a:cubicBezTo>
                <a:cubicBezTo>
                  <a:pt x="476" y="90"/>
                  <a:pt x="445" y="272"/>
                  <a:pt x="377" y="317"/>
                </a:cubicBezTo>
                <a:cubicBezTo>
                  <a:pt x="309" y="362"/>
                  <a:pt x="113" y="362"/>
                  <a:pt x="60" y="317"/>
                </a:cubicBezTo>
                <a:close/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2289240"/>
            <a:ext cx="743040" cy="647640"/>
          </a:xfrm>
          <a:custGeom>
            <a:avLst/>
            <a:gdLst/>
            <a:ahLst/>
            <a:rect l="l" t="t" r="r" b="b"/>
            <a:pathLst>
              <a:path w="468" h="408">
                <a:moveTo>
                  <a:pt x="318" y="400"/>
                </a:moveTo>
                <a:cubicBezTo>
                  <a:pt x="273" y="407"/>
                  <a:pt x="182" y="408"/>
                  <a:pt x="136" y="355"/>
                </a:cubicBezTo>
                <a:cubicBezTo>
                  <a:pt x="90" y="302"/>
                  <a:pt x="0" y="136"/>
                  <a:pt x="45" y="83"/>
                </a:cubicBezTo>
                <a:cubicBezTo>
                  <a:pt x="90" y="30"/>
                  <a:pt x="348" y="0"/>
                  <a:pt x="408" y="38"/>
                </a:cubicBezTo>
                <a:cubicBezTo>
                  <a:pt x="468" y="76"/>
                  <a:pt x="423" y="250"/>
                  <a:pt x="408" y="310"/>
                </a:cubicBezTo>
                <a:cubicBezTo>
                  <a:pt x="393" y="370"/>
                  <a:pt x="363" y="393"/>
                  <a:pt x="318" y="400"/>
                </a:cubicBezTo>
                <a:close/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57680" y="1557360"/>
            <a:ext cx="743040" cy="647640"/>
          </a:xfrm>
          <a:custGeom>
            <a:avLst/>
            <a:gdLst/>
            <a:ahLst/>
            <a:rect l="l" t="t" r="r" b="b"/>
            <a:pathLst>
              <a:path w="468" h="408">
                <a:moveTo>
                  <a:pt x="318" y="400"/>
                </a:moveTo>
                <a:cubicBezTo>
                  <a:pt x="273" y="407"/>
                  <a:pt x="182" y="408"/>
                  <a:pt x="136" y="355"/>
                </a:cubicBezTo>
                <a:cubicBezTo>
                  <a:pt x="90" y="302"/>
                  <a:pt x="0" y="136"/>
                  <a:pt x="45" y="83"/>
                </a:cubicBezTo>
                <a:cubicBezTo>
                  <a:pt x="90" y="30"/>
                  <a:pt x="348" y="0"/>
                  <a:pt x="408" y="38"/>
                </a:cubicBezTo>
                <a:cubicBezTo>
                  <a:pt x="468" y="76"/>
                  <a:pt x="423" y="250"/>
                  <a:pt x="408" y="310"/>
                </a:cubicBezTo>
                <a:cubicBezTo>
                  <a:pt x="393" y="370"/>
                  <a:pt x="363" y="393"/>
                  <a:pt x="318" y="400"/>
                </a:cubicBezTo>
                <a:close/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32000" y="3860640"/>
            <a:ext cx="100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fr-FR" sz="3200" spc="-1" strike="noStrike" baseline="-25000">
                <a:solidFill>
                  <a:srgbClr val="ff3300"/>
                </a:solidFill>
                <a:latin typeface="Arial"/>
              </a:rPr>
              <a:t>n</a:t>
            </a:r>
            <a:r>
              <a:rPr b="1" lang="fr-FR" sz="3200" spc="-1" strike="noStrike" baseline="-25000">
                <a:solidFill>
                  <a:srgbClr val="ff33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ff33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050920" y="3860640"/>
            <a:ext cx="1441080" cy="579600"/>
            <a:chOff x="2050920" y="3860640"/>
            <a:chExt cx="1441080" cy="579600"/>
          </a:xfrm>
        </p:grpSpPr>
        <p:sp>
          <p:nvSpPr>
            <p:cNvPr id="233" name=""/>
            <p:cNvSpPr/>
            <p:nvPr/>
          </p:nvSpPr>
          <p:spPr>
            <a:xfrm>
              <a:off x="2050920" y="3860640"/>
              <a:ext cx="1441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a.b.r</a:t>
              </a:r>
              <a:r>
                <a:rPr b="1" lang="fr-FR" sz="2800" spc="-1" strike="noStrike" baseline="-25000">
                  <a:solidFill>
                    <a:srgbClr val="ffffff"/>
                  </a:solidFill>
                  <a:latin typeface="Arial"/>
                </a:rPr>
                <a:t>n-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06880" y="3933720"/>
              <a:ext cx="254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45640" y="3933720"/>
              <a:ext cx="2538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276720" y="3860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924360" y="3860640"/>
            <a:ext cx="1655640" cy="579600"/>
            <a:chOff x="3924360" y="3860640"/>
            <a:chExt cx="1655640" cy="579600"/>
          </a:xfrm>
        </p:grpSpPr>
        <p:sp>
          <p:nvSpPr>
            <p:cNvPr id="238" name=""/>
            <p:cNvSpPr/>
            <p:nvPr/>
          </p:nvSpPr>
          <p:spPr>
            <a:xfrm>
              <a:off x="3924360" y="3860640"/>
              <a:ext cx="1655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a.b.r</a:t>
              </a:r>
              <a:r>
                <a:rPr b="1" lang="fr-FR" sz="2800" spc="-1" strike="noStrike" baseline="-25000">
                  <a:solidFill>
                    <a:srgbClr val="ffffff"/>
                  </a:solidFill>
                  <a:latin typeface="Arial"/>
                </a:rPr>
                <a:t>n-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356000" y="3933720"/>
              <a:ext cx="216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16360" y="3933720"/>
              <a:ext cx="216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003640" y="3860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35640" y="3860640"/>
            <a:ext cx="144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.b.r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n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88000" y="3860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7018200" y="3860640"/>
            <a:ext cx="1441440" cy="579600"/>
            <a:chOff x="7018200" y="3860640"/>
            <a:chExt cx="1441440" cy="579600"/>
          </a:xfrm>
        </p:grpSpPr>
        <p:sp>
          <p:nvSpPr>
            <p:cNvPr id="245" name=""/>
            <p:cNvSpPr/>
            <p:nvPr/>
          </p:nvSpPr>
          <p:spPr>
            <a:xfrm>
              <a:off x="7018200" y="3860640"/>
              <a:ext cx="1441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a.b.r</a:t>
              </a:r>
              <a:r>
                <a:rPr b="1" lang="fr-FR" sz="2800" spc="-1" strike="noStrike" baseline="-25000">
                  <a:solidFill>
                    <a:srgbClr val="ffffff"/>
                  </a:solidFill>
                  <a:latin typeface="Arial"/>
                </a:rPr>
                <a:t>n-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73800" y="3933720"/>
              <a:ext cx="255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18560" y="3933720"/>
              <a:ext cx="2538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 flipH="1">
            <a:off x="2771640" y="2924280"/>
            <a:ext cx="216000" cy="865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67280" y="1989000"/>
            <a:ext cx="504720" cy="180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76720" y="2637000"/>
            <a:ext cx="863640" cy="1223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12000" y="1916280"/>
            <a:ext cx="1584360" cy="1873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2771640" y="1773360"/>
          <a:ext cx="3927600" cy="1511280"/>
        </p:xfrm>
        <a:graphic>
          <a:graphicData uri="http://schemas.openxmlformats.org/drawingml/2006/table">
            <a:tbl>
              <a:tblPr/>
              <a:tblGrid>
                <a:gridCol w="981720"/>
                <a:gridCol w="982080"/>
                <a:gridCol w="981720"/>
                <a:gridCol w="98208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3" name=""/>
          <p:cNvGrpSpPr/>
          <p:nvPr/>
        </p:nvGrpSpPr>
        <p:grpSpPr>
          <a:xfrm>
            <a:off x="1474920" y="757080"/>
            <a:ext cx="6121440" cy="2536560"/>
            <a:chOff x="1474920" y="757080"/>
            <a:chExt cx="6121440" cy="2536560"/>
          </a:xfrm>
        </p:grpSpPr>
        <p:grpSp>
          <p:nvGrpSpPr>
            <p:cNvPr id="254" name=""/>
            <p:cNvGrpSpPr/>
            <p:nvPr/>
          </p:nvGrpSpPr>
          <p:grpSpPr>
            <a:xfrm>
              <a:off x="1835280" y="757080"/>
              <a:ext cx="5761080" cy="1008000"/>
              <a:chOff x="1835280" y="757080"/>
              <a:chExt cx="5761080" cy="1008000"/>
            </a:xfrm>
          </p:grpSpPr>
          <p:sp>
            <p:nvSpPr>
              <p:cNvPr id="255" name=""/>
              <p:cNvSpPr/>
              <p:nvPr/>
            </p:nvSpPr>
            <p:spPr>
              <a:xfrm flipH="1" flipV="1">
                <a:off x="1835280" y="1260360"/>
                <a:ext cx="936720" cy="504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6659640" y="1549080"/>
                <a:ext cx="289080" cy="216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948720" y="1044360"/>
                <a:ext cx="647640" cy="72072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ff3300"/>
                    </a:solidFill>
                    <a:latin typeface="Arial"/>
                  </a:rPr>
                  <a:t>r</a:t>
                </a:r>
                <a:r>
                  <a:rPr b="1" lang="fr-FR" sz="3200" spc="-1" strike="noStrike" baseline="-25000">
                    <a:solidFill>
                      <a:srgbClr val="ff3300"/>
                    </a:solidFill>
                    <a:latin typeface="Arial"/>
                  </a:rPr>
                  <a:t>n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772000" y="1188720"/>
                <a:ext cx="396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DZ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     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     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0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836720" y="757080"/>
                <a:ext cx="107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ffff"/>
                    </a:solidFill>
                    <a:latin typeface="Arial"/>
                  </a:rPr>
                  <a:t>a   b</a:t>
                </a:r>
                <a:r>
                  <a:rPr b="1" lang="fr-FR" sz="28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1474920" y="1333440"/>
              <a:ext cx="1081080" cy="1960200"/>
              <a:chOff x="1474920" y="1333440"/>
              <a:chExt cx="1081080" cy="1960200"/>
            </a:xfrm>
          </p:grpSpPr>
          <p:sp>
            <p:nvSpPr>
              <p:cNvPr id="261" name=""/>
              <p:cNvSpPr/>
              <p:nvPr/>
            </p:nvSpPr>
            <p:spPr>
              <a:xfrm>
                <a:off x="1474920" y="1333440"/>
                <a:ext cx="1079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32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r>
                  <a:rPr b="1" lang="fr-FR" sz="3200" spc="-1" strike="noStrike" baseline="-25000">
                    <a:solidFill>
                      <a:srgbClr val="ffffff"/>
                    </a:solidFill>
                    <a:latin typeface="Arial"/>
                  </a:rPr>
                  <a:t>n-1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908360" y="2124360"/>
                <a:ext cx="64764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"/>
          <p:cNvSpPr/>
          <p:nvPr/>
        </p:nvSpPr>
        <p:spPr>
          <a:xfrm>
            <a:off x="4824360" y="1749600"/>
            <a:ext cx="1763640" cy="684000"/>
          </a:xfrm>
          <a:custGeom>
            <a:avLst/>
            <a:gdLst/>
            <a:ahLst/>
            <a:rect l="l" t="t" r="r" b="b"/>
            <a:pathLst>
              <a:path w="1111" h="431">
                <a:moveTo>
                  <a:pt x="1020" y="105"/>
                </a:moveTo>
                <a:cubicBezTo>
                  <a:pt x="960" y="45"/>
                  <a:pt x="771" y="22"/>
                  <a:pt x="612" y="15"/>
                </a:cubicBezTo>
                <a:cubicBezTo>
                  <a:pt x="453" y="8"/>
                  <a:pt x="136" y="0"/>
                  <a:pt x="68" y="60"/>
                </a:cubicBezTo>
                <a:cubicBezTo>
                  <a:pt x="0" y="120"/>
                  <a:pt x="53" y="325"/>
                  <a:pt x="204" y="378"/>
                </a:cubicBezTo>
                <a:cubicBezTo>
                  <a:pt x="355" y="431"/>
                  <a:pt x="839" y="423"/>
                  <a:pt x="975" y="378"/>
                </a:cubicBezTo>
                <a:cubicBezTo>
                  <a:pt x="1111" y="333"/>
                  <a:pt x="1080" y="165"/>
                  <a:pt x="1020" y="105"/>
                </a:cubicBezTo>
                <a:close/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51280" y="2457360"/>
            <a:ext cx="1763640" cy="684360"/>
          </a:xfrm>
          <a:custGeom>
            <a:avLst/>
            <a:gdLst/>
            <a:ahLst/>
            <a:rect l="l" t="t" r="r" b="b"/>
            <a:pathLst>
              <a:path w="1111" h="431">
                <a:moveTo>
                  <a:pt x="1020" y="105"/>
                </a:moveTo>
                <a:cubicBezTo>
                  <a:pt x="960" y="45"/>
                  <a:pt x="771" y="22"/>
                  <a:pt x="612" y="15"/>
                </a:cubicBezTo>
                <a:cubicBezTo>
                  <a:pt x="453" y="8"/>
                  <a:pt x="136" y="0"/>
                  <a:pt x="68" y="60"/>
                </a:cubicBezTo>
                <a:cubicBezTo>
                  <a:pt x="0" y="120"/>
                  <a:pt x="53" y="325"/>
                  <a:pt x="204" y="378"/>
                </a:cubicBezTo>
                <a:cubicBezTo>
                  <a:pt x="355" y="431"/>
                  <a:pt x="839" y="423"/>
                  <a:pt x="975" y="378"/>
                </a:cubicBezTo>
                <a:cubicBezTo>
                  <a:pt x="1111" y="333"/>
                  <a:pt x="1080" y="165"/>
                  <a:pt x="1020" y="105"/>
                </a:cubicBezTo>
                <a:close/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547640" y="3860640"/>
            <a:ext cx="5904000" cy="648720"/>
            <a:chOff x="1547640" y="3860640"/>
            <a:chExt cx="5904000" cy="648720"/>
          </a:xfrm>
        </p:grpSpPr>
        <p:sp>
          <p:nvSpPr>
            <p:cNvPr id="266" name=""/>
            <p:cNvSpPr/>
            <p:nvPr/>
          </p:nvSpPr>
          <p:spPr>
            <a:xfrm>
              <a:off x="1547640" y="3860640"/>
              <a:ext cx="5904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3300"/>
                  </a:solidFill>
                  <a:latin typeface="Arial"/>
                </a:rPr>
                <a:t>r</a:t>
              </a:r>
              <a:r>
                <a:rPr b="1" lang="fr-FR" sz="3200" spc="-1" strike="noStrike" baseline="-25000">
                  <a:solidFill>
                    <a:srgbClr val="ff3300"/>
                  </a:solidFill>
                  <a:latin typeface="Arial"/>
                </a:rPr>
                <a:t>n </a:t>
              </a:r>
              <a:r>
                <a:rPr b="1" lang="fr-FR" sz="3200" spc="-1" strike="noStrike">
                  <a:solidFill>
                    <a:srgbClr val="ff3300"/>
                  </a:solidFill>
                  <a:latin typeface="Arial"/>
                </a:rPr>
                <a:t>= </a:t>
              </a: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b.r</a:t>
              </a:r>
              <a:r>
                <a:rPr b="1" lang="fr-FR" sz="3200" spc="-1" strike="noStrike" baseline="-25000">
                  <a:solidFill>
                    <a:srgbClr val="ffffff"/>
                  </a:solidFill>
                  <a:latin typeface="Arial"/>
                </a:rPr>
                <a:t>n-1</a:t>
              </a: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+ a.r</a:t>
              </a:r>
              <a:r>
                <a:rPr b="1" lang="fr-FR" sz="3200" spc="-1" strike="noStrike" baseline="-25000">
                  <a:solidFill>
                    <a:srgbClr val="ffffff"/>
                  </a:solidFill>
                  <a:latin typeface="Arial"/>
                </a:rPr>
                <a:t>n-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67280" y="4005360"/>
              <a:ext cx="2156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588000" y="260280"/>
            <a:ext cx="2376720" cy="947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Arial"/>
              </a:rPr>
              <a:t>- التصميم المنطق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50920" y="1557360"/>
            <a:ext cx="8640720" cy="3166920"/>
            <a:chOff x="250920" y="1557360"/>
            <a:chExt cx="8640720" cy="3166920"/>
          </a:xfrm>
        </p:grpSpPr>
        <p:grpSp>
          <p:nvGrpSpPr>
            <p:cNvPr id="270" name=""/>
            <p:cNvGrpSpPr/>
            <p:nvPr/>
          </p:nvGrpSpPr>
          <p:grpSpPr>
            <a:xfrm>
              <a:off x="1042920" y="2779560"/>
              <a:ext cx="3168360" cy="865080"/>
              <a:chOff x="1042920" y="2779560"/>
              <a:chExt cx="3168360" cy="865080"/>
            </a:xfrm>
          </p:grpSpPr>
          <p:sp>
            <p:nvSpPr>
              <p:cNvPr id="271" name=""/>
              <p:cNvSpPr/>
              <p:nvPr/>
            </p:nvSpPr>
            <p:spPr>
              <a:xfrm>
                <a:off x="1042920" y="2923920"/>
                <a:ext cx="1296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042920" y="3500280"/>
                <a:ext cx="1296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266920" y="2779560"/>
                <a:ext cx="241200" cy="865080"/>
              </a:xfrm>
              <a:custGeom>
                <a:avLst/>
                <a:gdLst/>
                <a:ahLst/>
                <a:rect l="l" t="t" r="r" b="b"/>
                <a:pathLst>
                  <a:path w="152" h="545">
                    <a:moveTo>
                      <a:pt x="0" y="0"/>
                    </a:moveTo>
                    <a:cubicBezTo>
                      <a:pt x="61" y="61"/>
                      <a:pt x="122" y="122"/>
                      <a:pt x="137" y="182"/>
                    </a:cubicBezTo>
                    <a:cubicBezTo>
                      <a:pt x="152" y="242"/>
                      <a:pt x="114" y="302"/>
                      <a:pt x="91" y="363"/>
                    </a:cubicBezTo>
                    <a:cubicBezTo>
                      <a:pt x="68" y="424"/>
                      <a:pt x="34" y="484"/>
                      <a:pt x="0" y="545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0800000">
                <a:off x="2469600" y="2809080"/>
                <a:ext cx="733320" cy="792360"/>
              </a:xfrm>
              <a:prstGeom prst="flowChartOnlineStorage">
                <a:avLst/>
              </a:prstGeom>
              <a:solidFill>
                <a:srgbClr val="99cc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03280" y="3212640"/>
                <a:ext cx="1008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2557440" y="4076640"/>
              <a:ext cx="647640" cy="647640"/>
            </a:xfrm>
            <a:prstGeom prst="flowChartDelay">
              <a:avLst/>
            </a:prstGeom>
            <a:solidFill>
              <a:srgbClr val="99cc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1765440" y="4221000"/>
              <a:ext cx="79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765440" y="2924280"/>
              <a:ext cx="0" cy="129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1549440" y="4508640"/>
              <a:ext cx="100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1549440" y="3499920"/>
              <a:ext cx="0" cy="1008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05080" y="4363920"/>
              <a:ext cx="345456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8360" y="2637000"/>
              <a:ext cx="57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8360" y="3284640"/>
              <a:ext cx="57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71640" y="1844640"/>
              <a:ext cx="5329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11640" y="2421000"/>
              <a:ext cx="2089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27640" y="1700280"/>
              <a:ext cx="241560" cy="865080"/>
            </a:xfrm>
            <a:custGeom>
              <a:avLst/>
              <a:gdLst/>
              <a:ahLst/>
              <a:rect l="l" t="t" r="r" b="b"/>
              <a:pathLst>
                <a:path w="152" h="545">
                  <a:moveTo>
                    <a:pt x="0" y="0"/>
                  </a:moveTo>
                  <a:cubicBezTo>
                    <a:pt x="61" y="61"/>
                    <a:pt x="122" y="122"/>
                    <a:pt x="137" y="182"/>
                  </a:cubicBezTo>
                  <a:cubicBezTo>
                    <a:pt x="152" y="242"/>
                    <a:pt x="114" y="302"/>
                    <a:pt x="91" y="363"/>
                  </a:cubicBezTo>
                  <a:cubicBezTo>
                    <a:pt x="68" y="424"/>
                    <a:pt x="34" y="484"/>
                    <a:pt x="0" y="545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0800000">
              <a:off x="6430680" y="1730520"/>
              <a:ext cx="733320" cy="792000"/>
            </a:xfrm>
            <a:prstGeom prst="flowChartOnlineStorage">
              <a:avLst/>
            </a:prstGeom>
            <a:solidFill>
              <a:srgbClr val="99cc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64360" y="2133720"/>
              <a:ext cx="100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4211640" y="1844280"/>
              <a:ext cx="2808360" cy="1800720"/>
              <a:chOff x="4211640" y="1844280"/>
              <a:chExt cx="2808360" cy="1800720"/>
            </a:xfrm>
          </p:grpSpPr>
          <p:sp>
            <p:nvSpPr>
              <p:cNvPr id="290" name=""/>
              <p:cNvSpPr/>
              <p:nvPr/>
            </p:nvSpPr>
            <p:spPr>
              <a:xfrm>
                <a:off x="5219640" y="2997000"/>
                <a:ext cx="648000" cy="648000"/>
              </a:xfrm>
              <a:prstGeom prst="flowChartDelay">
                <a:avLst/>
              </a:prstGeom>
              <a:solidFill>
                <a:srgbClr val="99cc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4427640" y="3141720"/>
                <a:ext cx="79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4427640" y="1844280"/>
                <a:ext cx="0" cy="1297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4211640" y="3429000"/>
                <a:ext cx="1008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4211640" y="2421000"/>
                <a:ext cx="0" cy="1008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867640" y="3284640"/>
                <a:ext cx="1152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250920" y="1557360"/>
              <a:ext cx="863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fr-FR" sz="2800" spc="-1" strike="noStrike" baseline="-25000">
                  <a:solidFill>
                    <a:srgbClr val="ffffff"/>
                  </a:solidFill>
                  <a:latin typeface="Arial"/>
                </a:rPr>
                <a:t>n-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317080" y="191628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245440" y="3068640"/>
              <a:ext cx="574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fr-FR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0800000">
              <a:off x="6948360" y="3141360"/>
              <a:ext cx="720720" cy="718920"/>
            </a:xfrm>
            <a:prstGeom prst="flowChartOnlineStorag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6659640" y="3716280"/>
              <a:ext cx="0" cy="649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59640" y="371628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67640" y="3500280"/>
              <a:ext cx="649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588000" y="260280"/>
            <a:ext cx="2376720" cy="947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Arial"/>
              </a:rPr>
              <a:t>- مثال تطبيق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1125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أنجز دارة تقوم بجمع عددين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+B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 في النظام الثنائي كل عدد مكون من </a:t>
            </a: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71640" y="2133720"/>
            <a:ext cx="403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 (    a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3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 a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2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 a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1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 a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0 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47640" y="28526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00360" y="3270240"/>
            <a:ext cx="410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B (    b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3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 b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2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 b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1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 b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0 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24000" y="4149720"/>
            <a:ext cx="511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00360" y="5013360"/>
            <a:ext cx="410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(    r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3 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 r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2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  r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1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  r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0 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700360" y="4292640"/>
            <a:ext cx="410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(    s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3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 s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2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 s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1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 s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0 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8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8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8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8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374840" y="1973160"/>
            <a:ext cx="6942240" cy="224784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1619280" y="1052640"/>
            <a:ext cx="6265800" cy="2736720"/>
            <a:chOff x="1619280" y="1052640"/>
            <a:chExt cx="6265800" cy="2736720"/>
          </a:xfrm>
        </p:grpSpPr>
        <p:sp>
          <p:nvSpPr>
            <p:cNvPr id="313" name=""/>
            <p:cNvSpPr/>
            <p:nvPr/>
          </p:nvSpPr>
          <p:spPr>
            <a:xfrm>
              <a:off x="6372360" y="1052640"/>
              <a:ext cx="1512720" cy="459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2400" spc="-1" strike="noStrike">
                  <a:solidFill>
                    <a:srgbClr val="ffffff"/>
                  </a:solidFill>
                  <a:latin typeface="Arial"/>
                </a:rPr>
                <a:t>احتفا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6372000" y="1484280"/>
              <a:ext cx="360360" cy="13683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4643280" y="1484280"/>
              <a:ext cx="2089440" cy="12970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2843280" y="1484280"/>
              <a:ext cx="3889440" cy="1224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1619280" y="1484280"/>
              <a:ext cx="5113440" cy="23050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5148360" y="404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ffffff"/>
                </a:solidFill>
                <a:latin typeface="Arial"/>
              </a:rPr>
              <a:t>  - نصف طارح 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emi So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340000" y="1413000"/>
            <a:ext cx="4464000" cy="1439640"/>
            <a:chOff x="2340000" y="1413000"/>
            <a:chExt cx="4464000" cy="1439640"/>
          </a:xfrm>
        </p:grpSpPr>
        <p:sp>
          <p:nvSpPr>
            <p:cNvPr id="320" name=""/>
            <p:cNvSpPr/>
            <p:nvPr/>
          </p:nvSpPr>
          <p:spPr>
            <a:xfrm>
              <a:off x="3564000" y="1413000"/>
              <a:ext cx="2160360" cy="1439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3200" spc="-1" strike="noStrike">
                  <a:solidFill>
                    <a:srgbClr val="ffffff"/>
                  </a:solidFill>
                  <a:latin typeface="Arial"/>
                </a:rPr>
                <a:t>نصف طارح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S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11280" y="1628640"/>
              <a:ext cx="115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40000" y="2565360"/>
              <a:ext cx="122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724360" y="1628640"/>
              <a:ext cx="107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24360" y="2565360"/>
              <a:ext cx="107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1476360" y="13413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476360" y="2324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77080" y="13413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77080" y="22780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8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8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8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8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8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8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8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732720" y="260280"/>
            <a:ext cx="2160360" cy="947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Arial"/>
              </a:rPr>
              <a:t>- جدول الحقي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067280" y="260280"/>
          <a:ext cx="2560680" cy="3529080"/>
        </p:xfrm>
        <a:graphic>
          <a:graphicData uri="http://schemas.openxmlformats.org/drawingml/2006/table">
            <a:tbl>
              <a:tblPr/>
              <a:tblGrid>
                <a:gridCol w="640080"/>
                <a:gridCol w="640080"/>
                <a:gridCol w="640080"/>
                <a:gridCol w="640440"/>
              </a:tblGrid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1" name=""/>
          <p:cNvGrpSpPr/>
          <p:nvPr/>
        </p:nvGrpSpPr>
        <p:grpSpPr>
          <a:xfrm>
            <a:off x="682560" y="620640"/>
            <a:ext cx="2952720" cy="520560"/>
            <a:chOff x="682560" y="620640"/>
            <a:chExt cx="2952720" cy="520560"/>
          </a:xfrm>
        </p:grpSpPr>
        <p:sp>
          <p:nvSpPr>
            <p:cNvPr id="332" name=""/>
            <p:cNvSpPr/>
            <p:nvPr/>
          </p:nvSpPr>
          <p:spPr>
            <a:xfrm>
              <a:off x="682560" y="6206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ffff"/>
                  </a:solidFill>
                  <a:latin typeface="Arial"/>
                </a:rPr>
                <a:t>Q = a.b  + a.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03280" y="663480"/>
              <a:ext cx="287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98560" y="663480"/>
              <a:ext cx="216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35" name=""/>
          <p:cNvGraphicFramePr/>
          <p:nvPr/>
        </p:nvGraphicFramePr>
        <p:xfrm>
          <a:off x="5364000" y="246240"/>
          <a:ext cx="576360" cy="3528360"/>
        </p:xfrm>
        <a:graphic>
          <a:graphicData uri="http://schemas.openxmlformats.org/drawingml/2006/table">
            <a:tbl>
              <a:tblPr/>
              <a:tblGrid>
                <a:gridCol w="576360"/>
              </a:tblGrid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6" name=""/>
          <p:cNvGrpSpPr/>
          <p:nvPr/>
        </p:nvGrpSpPr>
        <p:grpSpPr>
          <a:xfrm>
            <a:off x="6012000" y="981000"/>
            <a:ext cx="576000" cy="2809800"/>
            <a:chOff x="6012000" y="981000"/>
            <a:chExt cx="576000" cy="2809800"/>
          </a:xfrm>
        </p:grpSpPr>
        <p:sp>
          <p:nvSpPr>
            <p:cNvPr id="337" name=""/>
            <p:cNvSpPr/>
            <p:nvPr/>
          </p:nvSpPr>
          <p:spPr>
            <a:xfrm>
              <a:off x="6012000" y="981000"/>
              <a:ext cx="576000" cy="649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12000" y="1700280"/>
              <a:ext cx="576000" cy="649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12000" y="2421000"/>
              <a:ext cx="576000" cy="649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12000" y="3141720"/>
              <a:ext cx="576000" cy="649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6516720" y="3908520"/>
            <a:ext cx="2376360" cy="947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Arial"/>
              </a:rPr>
              <a:t>- التصميم المنطق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835280" y="4508640"/>
            <a:ext cx="3168360" cy="865080"/>
            <a:chOff x="1835280" y="4508640"/>
            <a:chExt cx="3168360" cy="865080"/>
          </a:xfrm>
        </p:grpSpPr>
        <p:sp>
          <p:nvSpPr>
            <p:cNvPr id="343" name=""/>
            <p:cNvSpPr/>
            <p:nvPr/>
          </p:nvSpPr>
          <p:spPr>
            <a:xfrm>
              <a:off x="1835280" y="4653000"/>
              <a:ext cx="1296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835280" y="5229360"/>
              <a:ext cx="1296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59280" y="4508640"/>
              <a:ext cx="241200" cy="865080"/>
            </a:xfrm>
            <a:custGeom>
              <a:avLst/>
              <a:gdLst/>
              <a:ahLst/>
              <a:rect l="l" t="t" r="r" b="b"/>
              <a:pathLst>
                <a:path w="152" h="545">
                  <a:moveTo>
                    <a:pt x="0" y="0"/>
                  </a:moveTo>
                  <a:cubicBezTo>
                    <a:pt x="61" y="61"/>
                    <a:pt x="122" y="122"/>
                    <a:pt x="137" y="182"/>
                  </a:cubicBezTo>
                  <a:cubicBezTo>
                    <a:pt x="152" y="242"/>
                    <a:pt x="114" y="302"/>
                    <a:pt x="91" y="363"/>
                  </a:cubicBezTo>
                  <a:cubicBezTo>
                    <a:pt x="68" y="424"/>
                    <a:pt x="34" y="484"/>
                    <a:pt x="0" y="545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10800000">
              <a:off x="3261960" y="4538160"/>
              <a:ext cx="733320" cy="792360"/>
            </a:xfrm>
            <a:prstGeom prst="flowChartOnlineStorage">
              <a:avLst/>
            </a:prstGeom>
            <a:solidFill>
              <a:srgbClr val="99cc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95640" y="4941720"/>
              <a:ext cx="100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1187280" y="43657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87280" y="501336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148360" y="47242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076720" y="5877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611280" y="1614600"/>
            <a:ext cx="2952720" cy="520560"/>
            <a:chOff x="611280" y="1614600"/>
            <a:chExt cx="2952720" cy="520560"/>
          </a:xfrm>
        </p:grpSpPr>
        <p:sp>
          <p:nvSpPr>
            <p:cNvPr id="353" name=""/>
            <p:cNvSpPr/>
            <p:nvPr/>
          </p:nvSpPr>
          <p:spPr>
            <a:xfrm>
              <a:off x="611280" y="161460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ffff"/>
                  </a:solidFill>
                  <a:latin typeface="Arial"/>
                </a:rPr>
                <a:t>Q = a        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1835280" y="1773360"/>
              <a:ext cx="216000" cy="215640"/>
              <a:chOff x="1835280" y="1773360"/>
              <a:chExt cx="216000" cy="215640"/>
            </a:xfrm>
          </p:grpSpPr>
          <p:sp>
            <p:nvSpPr>
              <p:cNvPr id="355" name=""/>
              <p:cNvSpPr/>
              <p:nvPr/>
            </p:nvSpPr>
            <p:spPr>
              <a:xfrm>
                <a:off x="1835280" y="1773360"/>
                <a:ext cx="216000" cy="21564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37160" y="1817280"/>
                <a:ext cx="0" cy="142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865520" y="1888920"/>
                <a:ext cx="142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611280" y="2333520"/>
            <a:ext cx="2376360" cy="520560"/>
            <a:chOff x="611280" y="2333520"/>
            <a:chExt cx="2376360" cy="520560"/>
          </a:xfrm>
        </p:grpSpPr>
        <p:sp>
          <p:nvSpPr>
            <p:cNvPr id="359" name=""/>
            <p:cNvSpPr/>
            <p:nvPr/>
          </p:nvSpPr>
          <p:spPr>
            <a:xfrm>
              <a:off x="611280" y="2333520"/>
              <a:ext cx="23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ffff"/>
                  </a:solidFill>
                  <a:latin typeface="Arial"/>
                </a:rPr>
                <a:t>C = a . b</a:t>
              </a:r>
              <a:r>
                <a:rPr b="0" lang="fr-FR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32000" y="2421000"/>
              <a:ext cx="287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124000" y="4652640"/>
            <a:ext cx="2808360" cy="1800720"/>
            <a:chOff x="2124000" y="4652640"/>
            <a:chExt cx="2808360" cy="1800720"/>
          </a:xfrm>
        </p:grpSpPr>
        <p:grpSp>
          <p:nvGrpSpPr>
            <p:cNvPr id="362" name=""/>
            <p:cNvGrpSpPr/>
            <p:nvPr/>
          </p:nvGrpSpPr>
          <p:grpSpPr>
            <a:xfrm>
              <a:off x="2124000" y="4652640"/>
              <a:ext cx="2808360" cy="1800720"/>
              <a:chOff x="2124000" y="4652640"/>
              <a:chExt cx="2808360" cy="1800720"/>
            </a:xfrm>
          </p:grpSpPr>
          <p:sp>
            <p:nvSpPr>
              <p:cNvPr id="363" name=""/>
              <p:cNvSpPr/>
              <p:nvPr/>
            </p:nvSpPr>
            <p:spPr>
              <a:xfrm>
                <a:off x="3132000" y="5805360"/>
                <a:ext cx="648000" cy="648000"/>
              </a:xfrm>
              <a:prstGeom prst="flowChartDelay">
                <a:avLst/>
              </a:prstGeom>
              <a:solidFill>
                <a:srgbClr val="99cc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2340000" y="5950080"/>
                <a:ext cx="79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2340000" y="4652640"/>
                <a:ext cx="0" cy="1297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2124000" y="6237360"/>
                <a:ext cx="1008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2124000" y="5229360"/>
                <a:ext cx="0" cy="1008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780000" y="6093000"/>
                <a:ext cx="1152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2446200" y="5738760"/>
              <a:ext cx="512640" cy="379440"/>
              <a:chOff x="2446200" y="5738760"/>
              <a:chExt cx="512640" cy="379440"/>
            </a:xfrm>
          </p:grpSpPr>
          <p:sp>
            <p:nvSpPr>
              <p:cNvPr id="370" name=""/>
              <p:cNvSpPr/>
              <p:nvPr/>
            </p:nvSpPr>
            <p:spPr>
              <a:xfrm rot="5584200">
                <a:off x="2455200" y="5748120"/>
                <a:ext cx="360360" cy="36036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816280" y="5864400"/>
                <a:ext cx="142560" cy="1425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8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8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8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8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8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5148360" y="11592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ffffff"/>
                </a:solidFill>
                <a:latin typeface="Arial"/>
              </a:rPr>
              <a:t>  - طارح كامل  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Full So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936720" y="549360"/>
            <a:ext cx="4464000" cy="1439640"/>
            <a:chOff x="936720" y="549360"/>
            <a:chExt cx="4464000" cy="1439640"/>
          </a:xfrm>
        </p:grpSpPr>
        <p:grpSp>
          <p:nvGrpSpPr>
            <p:cNvPr id="374" name=""/>
            <p:cNvGrpSpPr/>
            <p:nvPr/>
          </p:nvGrpSpPr>
          <p:grpSpPr>
            <a:xfrm>
              <a:off x="936720" y="549360"/>
              <a:ext cx="4464000" cy="1439640"/>
              <a:chOff x="936720" y="549360"/>
              <a:chExt cx="4464000" cy="1439640"/>
            </a:xfrm>
          </p:grpSpPr>
          <p:sp>
            <p:nvSpPr>
              <p:cNvPr id="375" name=""/>
              <p:cNvSpPr/>
              <p:nvPr/>
            </p:nvSpPr>
            <p:spPr>
              <a:xfrm>
                <a:off x="2160720" y="549360"/>
                <a:ext cx="2160360" cy="14396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DZ" sz="3200" spc="-1" strike="noStrike">
                    <a:solidFill>
                      <a:srgbClr val="ffffff"/>
                    </a:solidFill>
                    <a:latin typeface="Arial"/>
                  </a:rPr>
                  <a:t>طارح كامل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ffffff"/>
                    </a:solidFill>
                    <a:latin typeface="Arial"/>
                  </a:rPr>
                  <a:t>FS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008000" y="765000"/>
                <a:ext cx="1152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936720" y="1701720"/>
                <a:ext cx="122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321080" y="765000"/>
                <a:ext cx="1079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321080" y="1701720"/>
                <a:ext cx="1079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1008000" y="1196640"/>
              <a:ext cx="115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73080" y="5238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308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73800" y="54936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fr-FR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473800" y="148608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fr-FR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148428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fr-FR" sz="2400" spc="-1" strike="noStrike" baseline="-25000">
                <a:solidFill>
                  <a:srgbClr val="ffffff"/>
                </a:solidFill>
                <a:latin typeface="Arial"/>
              </a:rPr>
              <a:t>n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32720" y="2755800"/>
            <a:ext cx="2160360" cy="947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Arial"/>
              </a:rPr>
              <a:t>- جدول الحقي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2771640" y="2127240"/>
          <a:ext cx="3927600" cy="4657680"/>
        </p:xfrm>
        <a:graphic>
          <a:graphicData uri="http://schemas.openxmlformats.org/drawingml/2006/table">
            <a:tbl>
              <a:tblPr/>
              <a:tblGrid>
                <a:gridCol w="785880"/>
                <a:gridCol w="784440"/>
                <a:gridCol w="787320"/>
                <a:gridCol w="784080"/>
                <a:gridCol w="78588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r>
                        <a:rPr b="1" lang="fr-FR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n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r>
                        <a:rPr b="1" lang="fr-FR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r>
                        <a:rPr b="1" lang="fr-FR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5162400" y="2638440"/>
          <a:ext cx="720360" cy="4190760"/>
        </p:xfrm>
        <a:graphic>
          <a:graphicData uri="http://schemas.openxmlformats.org/drawingml/2006/table">
            <a:tbl>
              <a:tblPr/>
              <a:tblGrid>
                <a:gridCol w="720360"/>
              </a:tblGrid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89" name=""/>
          <p:cNvGrpSpPr/>
          <p:nvPr/>
        </p:nvGrpSpPr>
        <p:grpSpPr>
          <a:xfrm>
            <a:off x="5940360" y="2637000"/>
            <a:ext cx="719280" cy="4162320"/>
            <a:chOff x="5940360" y="2637000"/>
            <a:chExt cx="719280" cy="4162320"/>
          </a:xfrm>
        </p:grpSpPr>
        <p:sp>
          <p:nvSpPr>
            <p:cNvPr id="390" name=""/>
            <p:cNvSpPr/>
            <p:nvPr/>
          </p:nvSpPr>
          <p:spPr>
            <a:xfrm>
              <a:off x="5940360" y="2637000"/>
              <a:ext cx="719280" cy="504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40360" y="3139920"/>
              <a:ext cx="719280" cy="505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360" y="3673440"/>
              <a:ext cx="719280" cy="504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40360" y="4219560"/>
              <a:ext cx="719280" cy="504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40360" y="4724280"/>
              <a:ext cx="719280" cy="505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40360" y="5229360"/>
              <a:ext cx="719280" cy="504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40360" y="5732640"/>
              <a:ext cx="719280" cy="504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940360" y="6294600"/>
              <a:ext cx="719280" cy="504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8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8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8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8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8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8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8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8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8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8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8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8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8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6804000" y="260280"/>
            <a:ext cx="2160720" cy="947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Arial"/>
              </a:rPr>
              <a:t>- جدول كارن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556000" y="1557360"/>
          <a:ext cx="3927240" cy="1511280"/>
        </p:xfrm>
        <a:graphic>
          <a:graphicData uri="http://schemas.openxmlformats.org/drawingml/2006/table">
            <a:tbl>
              <a:tblPr/>
              <a:tblGrid>
                <a:gridCol w="981720"/>
                <a:gridCol w="981720"/>
                <a:gridCol w="981720"/>
                <a:gridCol w="98208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00" name=""/>
          <p:cNvGrpSpPr/>
          <p:nvPr/>
        </p:nvGrpSpPr>
        <p:grpSpPr>
          <a:xfrm>
            <a:off x="1258920" y="541440"/>
            <a:ext cx="6121440" cy="2536200"/>
            <a:chOff x="1258920" y="541440"/>
            <a:chExt cx="6121440" cy="2536200"/>
          </a:xfrm>
        </p:grpSpPr>
        <p:grpSp>
          <p:nvGrpSpPr>
            <p:cNvPr id="401" name=""/>
            <p:cNvGrpSpPr/>
            <p:nvPr/>
          </p:nvGrpSpPr>
          <p:grpSpPr>
            <a:xfrm>
              <a:off x="1619280" y="541440"/>
              <a:ext cx="5761080" cy="1008000"/>
              <a:chOff x="1619280" y="541440"/>
              <a:chExt cx="5761080" cy="1008000"/>
            </a:xfrm>
          </p:grpSpPr>
          <p:sp>
            <p:nvSpPr>
              <p:cNvPr id="402" name=""/>
              <p:cNvSpPr/>
              <p:nvPr/>
            </p:nvSpPr>
            <p:spPr>
              <a:xfrm flipH="1" flipV="1">
                <a:off x="1619280" y="1044720"/>
                <a:ext cx="936720" cy="504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6443640" y="1333440"/>
                <a:ext cx="289080" cy="216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732720" y="828720"/>
                <a:ext cx="647640" cy="72072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ff3300"/>
                    </a:solidFill>
                    <a:latin typeface="Arial"/>
                  </a:rPr>
                  <a:t>Q</a:t>
                </a:r>
                <a:r>
                  <a:rPr b="1" lang="fr-FR" sz="3200" spc="-1" strike="noStrike" baseline="-25000">
                    <a:solidFill>
                      <a:srgbClr val="ff3300"/>
                    </a:solidFill>
                    <a:latin typeface="Arial"/>
                  </a:rPr>
                  <a:t>n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556000" y="973080"/>
                <a:ext cx="396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DZ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     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     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0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620720" y="541440"/>
                <a:ext cx="107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ffff"/>
                    </a:solidFill>
                    <a:latin typeface="Arial"/>
                  </a:rPr>
                  <a:t>a   b</a:t>
                </a:r>
                <a:r>
                  <a:rPr b="1" lang="fr-FR" sz="28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1258920" y="1117440"/>
              <a:ext cx="1081080" cy="1960200"/>
              <a:chOff x="1258920" y="1117440"/>
              <a:chExt cx="1081080" cy="1960200"/>
            </a:xfrm>
          </p:grpSpPr>
          <p:sp>
            <p:nvSpPr>
              <p:cNvPr id="408" name=""/>
              <p:cNvSpPr/>
              <p:nvPr/>
            </p:nvSpPr>
            <p:spPr>
              <a:xfrm>
                <a:off x="1258920" y="1117440"/>
                <a:ext cx="1079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32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1" lang="fr-FR" sz="3200" spc="-1" strike="noStrike" baseline="-25000">
                    <a:solidFill>
                      <a:srgbClr val="ffffff"/>
                    </a:solidFill>
                    <a:latin typeface="Arial"/>
                  </a:rPr>
                  <a:t>n-1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692360" y="1908360"/>
                <a:ext cx="64764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0" name=""/>
          <p:cNvSpPr/>
          <p:nvPr/>
        </p:nvSpPr>
        <p:spPr>
          <a:xfrm>
            <a:off x="2664000" y="2336760"/>
            <a:ext cx="720720" cy="600120"/>
          </a:xfrm>
          <a:custGeom>
            <a:avLst/>
            <a:gdLst/>
            <a:ahLst/>
            <a:rect l="l" t="t" r="r" b="b"/>
            <a:pathLst>
              <a:path w="454" h="378">
                <a:moveTo>
                  <a:pt x="204" y="370"/>
                </a:moveTo>
                <a:cubicBezTo>
                  <a:pt x="136" y="362"/>
                  <a:pt x="0" y="204"/>
                  <a:pt x="23" y="144"/>
                </a:cubicBezTo>
                <a:cubicBezTo>
                  <a:pt x="46" y="84"/>
                  <a:pt x="272" y="0"/>
                  <a:pt x="340" y="8"/>
                </a:cubicBezTo>
                <a:cubicBezTo>
                  <a:pt x="408" y="16"/>
                  <a:pt x="454" y="129"/>
                  <a:pt x="431" y="189"/>
                </a:cubicBezTo>
                <a:cubicBezTo>
                  <a:pt x="408" y="249"/>
                  <a:pt x="272" y="378"/>
                  <a:pt x="204" y="370"/>
                </a:cubicBezTo>
                <a:close/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613320" y="1557360"/>
            <a:ext cx="755640" cy="574560"/>
          </a:xfrm>
          <a:custGeom>
            <a:avLst/>
            <a:gdLst/>
            <a:ahLst/>
            <a:rect l="l" t="t" r="r" b="b"/>
            <a:pathLst>
              <a:path w="476" h="362">
                <a:moveTo>
                  <a:pt x="60" y="317"/>
                </a:moveTo>
                <a:cubicBezTo>
                  <a:pt x="7" y="272"/>
                  <a:pt x="0" y="90"/>
                  <a:pt x="60" y="45"/>
                </a:cubicBezTo>
                <a:cubicBezTo>
                  <a:pt x="120" y="0"/>
                  <a:pt x="370" y="0"/>
                  <a:pt x="423" y="45"/>
                </a:cubicBezTo>
                <a:cubicBezTo>
                  <a:pt x="476" y="90"/>
                  <a:pt x="445" y="272"/>
                  <a:pt x="377" y="317"/>
                </a:cubicBezTo>
                <a:cubicBezTo>
                  <a:pt x="309" y="362"/>
                  <a:pt x="113" y="362"/>
                  <a:pt x="60" y="317"/>
                </a:cubicBezTo>
                <a:close/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2289240"/>
            <a:ext cx="743040" cy="647640"/>
          </a:xfrm>
          <a:custGeom>
            <a:avLst/>
            <a:gdLst/>
            <a:ahLst/>
            <a:rect l="l" t="t" r="r" b="b"/>
            <a:pathLst>
              <a:path w="468" h="408">
                <a:moveTo>
                  <a:pt x="318" y="400"/>
                </a:moveTo>
                <a:cubicBezTo>
                  <a:pt x="273" y="407"/>
                  <a:pt x="182" y="408"/>
                  <a:pt x="136" y="355"/>
                </a:cubicBezTo>
                <a:cubicBezTo>
                  <a:pt x="90" y="302"/>
                  <a:pt x="0" y="136"/>
                  <a:pt x="45" y="83"/>
                </a:cubicBezTo>
                <a:cubicBezTo>
                  <a:pt x="90" y="30"/>
                  <a:pt x="348" y="0"/>
                  <a:pt x="408" y="38"/>
                </a:cubicBezTo>
                <a:cubicBezTo>
                  <a:pt x="468" y="76"/>
                  <a:pt x="423" y="250"/>
                  <a:pt x="408" y="310"/>
                </a:cubicBezTo>
                <a:cubicBezTo>
                  <a:pt x="393" y="370"/>
                  <a:pt x="363" y="393"/>
                  <a:pt x="318" y="400"/>
                </a:cubicBezTo>
                <a:close/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557680" y="1557360"/>
            <a:ext cx="743040" cy="647640"/>
          </a:xfrm>
          <a:custGeom>
            <a:avLst/>
            <a:gdLst/>
            <a:ahLst/>
            <a:rect l="l" t="t" r="r" b="b"/>
            <a:pathLst>
              <a:path w="468" h="408">
                <a:moveTo>
                  <a:pt x="318" y="400"/>
                </a:moveTo>
                <a:cubicBezTo>
                  <a:pt x="273" y="407"/>
                  <a:pt x="182" y="408"/>
                  <a:pt x="136" y="355"/>
                </a:cubicBezTo>
                <a:cubicBezTo>
                  <a:pt x="90" y="302"/>
                  <a:pt x="0" y="136"/>
                  <a:pt x="45" y="83"/>
                </a:cubicBezTo>
                <a:cubicBezTo>
                  <a:pt x="90" y="30"/>
                  <a:pt x="348" y="0"/>
                  <a:pt x="408" y="38"/>
                </a:cubicBezTo>
                <a:cubicBezTo>
                  <a:pt x="468" y="76"/>
                  <a:pt x="423" y="250"/>
                  <a:pt x="408" y="310"/>
                </a:cubicBezTo>
                <a:cubicBezTo>
                  <a:pt x="393" y="370"/>
                  <a:pt x="363" y="393"/>
                  <a:pt x="318" y="400"/>
                </a:cubicBezTo>
                <a:close/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332000" y="3860640"/>
            <a:ext cx="100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fr-FR" sz="3200" spc="-1" strike="noStrike" baseline="-25000">
                <a:solidFill>
                  <a:srgbClr val="ff3300"/>
                </a:solidFill>
                <a:latin typeface="Arial"/>
              </a:rPr>
              <a:t>n</a:t>
            </a:r>
            <a:r>
              <a:rPr b="1" lang="fr-FR" sz="3200" spc="-1" strike="noStrike" baseline="-25000">
                <a:solidFill>
                  <a:srgbClr val="ff33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ff33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050920" y="3860640"/>
            <a:ext cx="1729080" cy="579600"/>
            <a:chOff x="2050920" y="3860640"/>
            <a:chExt cx="1729080" cy="579600"/>
          </a:xfrm>
        </p:grpSpPr>
        <p:sp>
          <p:nvSpPr>
            <p:cNvPr id="416" name=""/>
            <p:cNvSpPr/>
            <p:nvPr/>
          </p:nvSpPr>
          <p:spPr>
            <a:xfrm>
              <a:off x="2050920" y="3860640"/>
              <a:ext cx="1729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a.b.c</a:t>
              </a:r>
              <a:r>
                <a:rPr b="1" lang="fr-FR" sz="2800" spc="-1" strike="noStrike" baseline="-25000">
                  <a:solidFill>
                    <a:srgbClr val="ffffff"/>
                  </a:solidFill>
                  <a:latin typeface="Arial"/>
                </a:rPr>
                <a:t>n-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95640" y="3933720"/>
              <a:ext cx="304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27280" y="3933720"/>
              <a:ext cx="304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276720" y="3860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3924360" y="3860640"/>
            <a:ext cx="1655640" cy="579600"/>
            <a:chOff x="3924360" y="3860640"/>
            <a:chExt cx="1655640" cy="579600"/>
          </a:xfrm>
        </p:grpSpPr>
        <p:sp>
          <p:nvSpPr>
            <p:cNvPr id="421" name=""/>
            <p:cNvSpPr/>
            <p:nvPr/>
          </p:nvSpPr>
          <p:spPr>
            <a:xfrm>
              <a:off x="3924360" y="3860640"/>
              <a:ext cx="1655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a.b.c</a:t>
              </a:r>
              <a:r>
                <a:rPr b="1" lang="fr-FR" sz="2800" spc="-1" strike="noStrike" baseline="-25000">
                  <a:solidFill>
                    <a:srgbClr val="ffffff"/>
                  </a:solidFill>
                  <a:latin typeface="Arial"/>
                </a:rPr>
                <a:t>n-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56000" y="3933720"/>
              <a:ext cx="216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716360" y="3933720"/>
              <a:ext cx="216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5003640" y="3860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435640" y="3860640"/>
            <a:ext cx="158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.b.c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n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588000" y="3860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7018200" y="3860640"/>
            <a:ext cx="1586160" cy="579600"/>
            <a:chOff x="7018200" y="3860640"/>
            <a:chExt cx="1586160" cy="579600"/>
          </a:xfrm>
        </p:grpSpPr>
        <p:sp>
          <p:nvSpPr>
            <p:cNvPr id="428" name=""/>
            <p:cNvSpPr/>
            <p:nvPr/>
          </p:nvSpPr>
          <p:spPr>
            <a:xfrm>
              <a:off x="7018200" y="3860640"/>
              <a:ext cx="158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a.b.c</a:t>
              </a:r>
              <a:r>
                <a:rPr b="1" lang="fr-FR" sz="2800" spc="-1" strike="noStrike" baseline="-25000">
                  <a:solidFill>
                    <a:srgbClr val="ffffff"/>
                  </a:solidFill>
                  <a:latin typeface="Arial"/>
                </a:rPr>
                <a:t>n-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164360" y="3933720"/>
              <a:ext cx="281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85080" y="3933720"/>
              <a:ext cx="27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 flipH="1">
            <a:off x="2771640" y="2924280"/>
            <a:ext cx="216000" cy="865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067280" y="1989000"/>
            <a:ext cx="504720" cy="180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076720" y="2637000"/>
            <a:ext cx="863640" cy="1223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12000" y="1916280"/>
            <a:ext cx="1584360" cy="1873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187280" y="4508640"/>
            <a:ext cx="3384720" cy="579600"/>
            <a:chOff x="1187280" y="4508640"/>
            <a:chExt cx="3384720" cy="579600"/>
          </a:xfrm>
        </p:grpSpPr>
        <p:sp>
          <p:nvSpPr>
            <p:cNvPr id="436" name=""/>
            <p:cNvSpPr/>
            <p:nvPr/>
          </p:nvSpPr>
          <p:spPr>
            <a:xfrm>
              <a:off x="1187280" y="4508640"/>
              <a:ext cx="3384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Q = a        b       c</a:t>
              </a:r>
              <a:r>
                <a:rPr b="1" lang="fr-FR" sz="2800" spc="-1" strike="noStrike" baseline="-25000">
                  <a:solidFill>
                    <a:srgbClr val="ffffff"/>
                  </a:solidFill>
                  <a:latin typeface="Arial"/>
                </a:rPr>
                <a:t>n-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2411280" y="4667400"/>
              <a:ext cx="216000" cy="215640"/>
              <a:chOff x="2411280" y="4667400"/>
              <a:chExt cx="216000" cy="215640"/>
            </a:xfrm>
          </p:grpSpPr>
          <p:sp>
            <p:nvSpPr>
              <p:cNvPr id="438" name=""/>
              <p:cNvSpPr/>
              <p:nvPr/>
            </p:nvSpPr>
            <p:spPr>
              <a:xfrm>
                <a:off x="2411280" y="4667400"/>
                <a:ext cx="216000" cy="21564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13160" y="4711320"/>
                <a:ext cx="0" cy="142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441520" y="4782960"/>
                <a:ext cx="142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3419640" y="4695840"/>
              <a:ext cx="215640" cy="216000"/>
              <a:chOff x="3419640" y="4695840"/>
              <a:chExt cx="215640" cy="216000"/>
            </a:xfrm>
          </p:grpSpPr>
          <p:sp>
            <p:nvSpPr>
              <p:cNvPr id="442" name=""/>
              <p:cNvSpPr/>
              <p:nvPr/>
            </p:nvSpPr>
            <p:spPr>
              <a:xfrm>
                <a:off x="3419640" y="4695840"/>
                <a:ext cx="215640" cy="21600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521160" y="4740120"/>
                <a:ext cx="0" cy="142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449520" y="4811760"/>
                <a:ext cx="142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8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8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8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8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5" name=""/>
          <p:cNvGraphicFramePr/>
          <p:nvPr/>
        </p:nvGraphicFramePr>
        <p:xfrm>
          <a:off x="2771640" y="1773360"/>
          <a:ext cx="3927600" cy="1511280"/>
        </p:xfrm>
        <a:graphic>
          <a:graphicData uri="http://schemas.openxmlformats.org/drawingml/2006/table">
            <a:tbl>
              <a:tblPr/>
              <a:tblGrid>
                <a:gridCol w="981720"/>
                <a:gridCol w="982080"/>
                <a:gridCol w="981720"/>
                <a:gridCol w="98208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46" name=""/>
          <p:cNvGrpSpPr/>
          <p:nvPr/>
        </p:nvGrpSpPr>
        <p:grpSpPr>
          <a:xfrm>
            <a:off x="1474920" y="757080"/>
            <a:ext cx="6121440" cy="2536560"/>
            <a:chOff x="1474920" y="757080"/>
            <a:chExt cx="6121440" cy="2536560"/>
          </a:xfrm>
        </p:grpSpPr>
        <p:grpSp>
          <p:nvGrpSpPr>
            <p:cNvPr id="447" name=""/>
            <p:cNvGrpSpPr/>
            <p:nvPr/>
          </p:nvGrpSpPr>
          <p:grpSpPr>
            <a:xfrm>
              <a:off x="1835280" y="757080"/>
              <a:ext cx="5761080" cy="1008000"/>
              <a:chOff x="1835280" y="757080"/>
              <a:chExt cx="5761080" cy="1008000"/>
            </a:xfrm>
          </p:grpSpPr>
          <p:sp>
            <p:nvSpPr>
              <p:cNvPr id="448" name=""/>
              <p:cNvSpPr/>
              <p:nvPr/>
            </p:nvSpPr>
            <p:spPr>
              <a:xfrm flipH="1" flipV="1">
                <a:off x="1835280" y="1260360"/>
                <a:ext cx="936720" cy="504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6659640" y="1549080"/>
                <a:ext cx="289080" cy="216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948720" y="1044360"/>
                <a:ext cx="647640" cy="72072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ff3300"/>
                    </a:solidFill>
                    <a:latin typeface="Arial"/>
                  </a:rPr>
                  <a:t>c</a:t>
                </a:r>
                <a:r>
                  <a:rPr b="1" lang="fr-FR" sz="3200" spc="-1" strike="noStrike" baseline="-25000">
                    <a:solidFill>
                      <a:srgbClr val="ff3300"/>
                    </a:solidFill>
                    <a:latin typeface="Arial"/>
                  </a:rPr>
                  <a:t>n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772000" y="1188720"/>
                <a:ext cx="396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DZ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     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     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0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836720" y="757080"/>
                <a:ext cx="107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ffff"/>
                    </a:solidFill>
                    <a:latin typeface="Arial"/>
                  </a:rPr>
                  <a:t>a   b</a:t>
                </a:r>
                <a:r>
                  <a:rPr b="1" lang="fr-FR" sz="28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1474920" y="1333440"/>
              <a:ext cx="1081080" cy="1960200"/>
              <a:chOff x="1474920" y="1333440"/>
              <a:chExt cx="1081080" cy="1960200"/>
            </a:xfrm>
          </p:grpSpPr>
          <p:sp>
            <p:nvSpPr>
              <p:cNvPr id="454" name=""/>
              <p:cNvSpPr/>
              <p:nvPr/>
            </p:nvSpPr>
            <p:spPr>
              <a:xfrm>
                <a:off x="1474920" y="1333440"/>
                <a:ext cx="1079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32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1" lang="fr-FR" sz="3200" spc="-1" strike="noStrike" baseline="-25000">
                    <a:solidFill>
                      <a:srgbClr val="ffffff"/>
                    </a:solidFill>
                    <a:latin typeface="Arial"/>
                  </a:rPr>
                  <a:t>n-1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908360" y="2124360"/>
                <a:ext cx="64764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6" name=""/>
          <p:cNvSpPr/>
          <p:nvPr/>
        </p:nvSpPr>
        <p:spPr>
          <a:xfrm>
            <a:off x="4859280" y="2492280"/>
            <a:ext cx="1763640" cy="684360"/>
          </a:xfrm>
          <a:custGeom>
            <a:avLst/>
            <a:gdLst/>
            <a:ahLst/>
            <a:rect l="l" t="t" r="r" b="b"/>
            <a:pathLst>
              <a:path w="1111" h="431">
                <a:moveTo>
                  <a:pt x="1020" y="105"/>
                </a:moveTo>
                <a:cubicBezTo>
                  <a:pt x="960" y="45"/>
                  <a:pt x="771" y="22"/>
                  <a:pt x="612" y="15"/>
                </a:cubicBezTo>
                <a:cubicBezTo>
                  <a:pt x="453" y="8"/>
                  <a:pt x="136" y="0"/>
                  <a:pt x="68" y="60"/>
                </a:cubicBezTo>
                <a:cubicBezTo>
                  <a:pt x="0" y="120"/>
                  <a:pt x="53" y="325"/>
                  <a:pt x="204" y="378"/>
                </a:cubicBezTo>
                <a:cubicBezTo>
                  <a:pt x="355" y="431"/>
                  <a:pt x="839" y="423"/>
                  <a:pt x="975" y="378"/>
                </a:cubicBezTo>
                <a:cubicBezTo>
                  <a:pt x="1111" y="333"/>
                  <a:pt x="1080" y="165"/>
                  <a:pt x="1020" y="105"/>
                </a:cubicBezTo>
                <a:close/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748480" y="1762200"/>
            <a:ext cx="779400" cy="1582560"/>
          </a:xfrm>
          <a:custGeom>
            <a:avLst/>
            <a:gdLst/>
            <a:ahLst/>
            <a:rect l="l" t="t" r="r" b="b"/>
            <a:pathLst>
              <a:path w="491" h="997">
                <a:moveTo>
                  <a:pt x="121" y="914"/>
                </a:moveTo>
                <a:cubicBezTo>
                  <a:pt x="53" y="831"/>
                  <a:pt x="0" y="475"/>
                  <a:pt x="30" y="324"/>
                </a:cubicBezTo>
                <a:cubicBezTo>
                  <a:pt x="60" y="173"/>
                  <a:pt x="234" y="14"/>
                  <a:pt x="302" y="7"/>
                </a:cubicBezTo>
                <a:cubicBezTo>
                  <a:pt x="370" y="0"/>
                  <a:pt x="415" y="143"/>
                  <a:pt x="438" y="279"/>
                </a:cubicBezTo>
                <a:cubicBezTo>
                  <a:pt x="461" y="415"/>
                  <a:pt x="491" y="717"/>
                  <a:pt x="438" y="823"/>
                </a:cubicBezTo>
                <a:cubicBezTo>
                  <a:pt x="385" y="929"/>
                  <a:pt x="189" y="997"/>
                  <a:pt x="121" y="914"/>
                </a:cubicBezTo>
                <a:close/>
              </a:path>
            </a:pathLst>
          </a:custGeom>
          <a:noFill/>
          <a:ln w="28440">
            <a:solidFill>
              <a:srgbClr val="ffff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856120" y="2517840"/>
            <a:ext cx="1092240" cy="695160"/>
          </a:xfrm>
          <a:custGeom>
            <a:avLst/>
            <a:gdLst/>
            <a:ahLst/>
            <a:rect l="l" t="t" r="r" b="b"/>
            <a:pathLst>
              <a:path w="688" h="438">
                <a:moveTo>
                  <a:pt x="688" y="75"/>
                </a:moveTo>
                <a:cubicBezTo>
                  <a:pt x="442" y="37"/>
                  <a:pt x="196" y="0"/>
                  <a:pt x="98" y="30"/>
                </a:cubicBezTo>
                <a:cubicBezTo>
                  <a:pt x="0" y="60"/>
                  <a:pt x="7" y="188"/>
                  <a:pt x="98" y="256"/>
                </a:cubicBezTo>
                <a:cubicBezTo>
                  <a:pt x="189" y="324"/>
                  <a:pt x="545" y="408"/>
                  <a:pt x="643" y="438"/>
                </a:cubicBezTo>
              </a:path>
            </a:pathLst>
          </a:custGeom>
          <a:noFill/>
          <a:ln w="284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484360" y="2529000"/>
            <a:ext cx="1187640" cy="612720"/>
          </a:xfrm>
          <a:custGeom>
            <a:avLst/>
            <a:gdLst/>
            <a:ahLst/>
            <a:rect l="l" t="t" r="r" b="b"/>
            <a:pathLst>
              <a:path w="748" h="386">
                <a:moveTo>
                  <a:pt x="0" y="68"/>
                </a:moveTo>
                <a:cubicBezTo>
                  <a:pt x="170" y="34"/>
                  <a:pt x="340" y="0"/>
                  <a:pt x="453" y="23"/>
                </a:cubicBezTo>
                <a:cubicBezTo>
                  <a:pt x="566" y="46"/>
                  <a:pt x="748" y="143"/>
                  <a:pt x="680" y="204"/>
                </a:cubicBezTo>
                <a:cubicBezTo>
                  <a:pt x="612" y="265"/>
                  <a:pt x="328" y="325"/>
                  <a:pt x="45" y="386"/>
                </a:cubicBezTo>
              </a:path>
            </a:pathLst>
          </a:custGeom>
          <a:noFill/>
          <a:ln w="284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403280" y="3860640"/>
            <a:ext cx="5904000" cy="648720"/>
            <a:chOff x="1403280" y="3860640"/>
            <a:chExt cx="5904000" cy="648720"/>
          </a:xfrm>
        </p:grpSpPr>
        <p:sp>
          <p:nvSpPr>
            <p:cNvPr id="461" name=""/>
            <p:cNvSpPr/>
            <p:nvPr/>
          </p:nvSpPr>
          <p:spPr>
            <a:xfrm>
              <a:off x="1403280" y="3860640"/>
              <a:ext cx="5904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3300"/>
                  </a:solidFill>
                  <a:latin typeface="Arial"/>
                </a:rPr>
                <a:t>r</a:t>
              </a:r>
              <a:r>
                <a:rPr b="1" lang="fr-FR" sz="3200" spc="-1" strike="noStrike" baseline="-25000">
                  <a:solidFill>
                    <a:srgbClr val="ff3300"/>
                  </a:solidFill>
                  <a:latin typeface="Arial"/>
                </a:rPr>
                <a:t>n </a:t>
              </a:r>
              <a:r>
                <a:rPr b="1" lang="fr-FR" sz="3200" spc="-1" strike="noStrike">
                  <a:solidFill>
                    <a:srgbClr val="ff3300"/>
                  </a:solidFill>
                  <a:latin typeface="Arial"/>
                </a:rPr>
                <a:t>= </a:t>
              </a: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a.b + b.c</a:t>
              </a:r>
              <a:r>
                <a:rPr b="1" lang="fr-FR" sz="3200" spc="-1" strike="noStrike" baseline="-25000">
                  <a:solidFill>
                    <a:srgbClr val="ffffff"/>
                  </a:solidFill>
                  <a:latin typeface="Arial"/>
                </a:rPr>
                <a:t>n-1</a:t>
              </a: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+ a.c</a:t>
              </a:r>
              <a:r>
                <a:rPr b="1" lang="fr-FR" sz="3200" spc="-1" strike="noStrike" baseline="-25000">
                  <a:solidFill>
                    <a:srgbClr val="ffffff"/>
                  </a:solidFill>
                  <a:latin typeface="Arial"/>
                </a:rPr>
                <a:t>n-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59280" y="4005360"/>
              <a:ext cx="2156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35640" y="4005360"/>
              <a:ext cx="216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9280" y="260280"/>
            <a:ext cx="8785440" cy="1068840"/>
          </a:xfrm>
          <a:prstGeom prst="rect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ar-DZ" sz="3200" spc="-1" strike="noStrike">
                <a:solidFill>
                  <a:srgbClr val="ffffff"/>
                </a:solidFill>
                <a:latin typeface="Arial"/>
              </a:rPr>
              <a:t> - العناصر المنطقية على شكل دارة مندم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112536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الدارة المندمجة  هي عبارة عن صفيحة صغيرة شبه ناقلة تضم مجموعة من عناصر إلكترونية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مقاحل،مقاومات،ثنائيات،مكثفات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2637000"/>
            <a:ext cx="4326120" cy="2998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732720" y="227664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796000" y="2205000"/>
            <a:ext cx="2879640" cy="1584360"/>
            <a:chOff x="5796000" y="2205000"/>
            <a:chExt cx="2879640" cy="1584360"/>
          </a:xfrm>
        </p:grpSpPr>
        <p:sp>
          <p:nvSpPr>
            <p:cNvPr id="108" name=""/>
            <p:cNvSpPr/>
            <p:nvPr/>
          </p:nvSpPr>
          <p:spPr>
            <a:xfrm>
              <a:off x="6804000" y="2205000"/>
              <a:ext cx="1871640" cy="792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2400" spc="-1" strike="noStrike">
                  <a:solidFill>
                    <a:srgbClr val="ff3300"/>
                  </a:solidFill>
                  <a:latin typeface="Arial"/>
                </a:rPr>
                <a:t>علبة بلاستيك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5796000" y="2997360"/>
              <a:ext cx="1008000" cy="79200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116000" y="1989000"/>
            <a:ext cx="3743280" cy="1656000"/>
            <a:chOff x="1116000" y="1989000"/>
            <a:chExt cx="3743280" cy="1656000"/>
          </a:xfrm>
        </p:grpSpPr>
        <p:sp>
          <p:nvSpPr>
            <p:cNvPr id="111" name=""/>
            <p:cNvSpPr/>
            <p:nvPr/>
          </p:nvSpPr>
          <p:spPr>
            <a:xfrm>
              <a:off x="1116000" y="1989000"/>
              <a:ext cx="2160720" cy="935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2400" spc="-1" strike="noStrike">
                  <a:solidFill>
                    <a:srgbClr val="ff3300"/>
                  </a:solidFill>
                  <a:latin typeface="Arial"/>
                </a:rPr>
                <a:t>رمز ونوع الدار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48000" y="2708280"/>
              <a:ext cx="1511280" cy="93672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003640" y="4869000"/>
            <a:ext cx="2448000" cy="1439640"/>
            <a:chOff x="5003640" y="4869000"/>
            <a:chExt cx="2448000" cy="1439640"/>
          </a:xfrm>
        </p:grpSpPr>
        <p:sp>
          <p:nvSpPr>
            <p:cNvPr id="114" name=""/>
            <p:cNvSpPr/>
            <p:nvPr/>
          </p:nvSpPr>
          <p:spPr>
            <a:xfrm>
              <a:off x="5508720" y="5373720"/>
              <a:ext cx="1942920" cy="93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2400" spc="-1" strike="noStrike">
                  <a:solidFill>
                    <a:srgbClr val="ff3300"/>
                  </a:solidFill>
                  <a:latin typeface="Arial"/>
                </a:rPr>
                <a:t>أطراف أو أقطاب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2400" spc="-1" strike="noStrike">
                  <a:solidFill>
                    <a:srgbClr val="ff3300"/>
                  </a:solidFill>
                  <a:latin typeface="Arial"/>
                </a:rPr>
                <a:t>الدارة المندمج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5003640" y="4869000"/>
              <a:ext cx="432000" cy="50472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904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189000"/>
            <a:ext cx="8569080" cy="5205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Arial"/>
              </a:rPr>
              <a:t>مميزات و سلبيات إستخدام الدارات المندمج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836640"/>
          <a:ext cx="8388360" cy="5540400"/>
        </p:xfrm>
        <a:graphic>
          <a:graphicData uri="http://schemas.openxmlformats.org/drawingml/2006/table">
            <a:tbl>
              <a:tblPr/>
              <a:tblGrid>
                <a:gridCol w="4194000"/>
                <a:gridCol w="41943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سلبيا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إجابيا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لا تعمل بتيار عال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لا يمكن تصنيع بعض العناصر بداخلها مثل الوشيعة أو مقاومات كبيرة أو مكثفات ذات سعة كبير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لا يمكن إصلاح الدارات المندمجة عند إتلاف أي جزء منها مما يلزم إستبدالها كليا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الحجم صغي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استهلاك ضعيف للطاق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تكلفة أق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الحرارة الناتجة عنها بسيطة لا تحتاج إلى تبريد  </a:t>
                      </a: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</a:t>
                      </a:r>
                      <a:r>
                        <a:rPr b="0" lang="ar-D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عكس المقحل</a:t>
                      </a: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0" lang="ar-D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تعمل بسرعة عالية حيث أن الإشارة تأخذ 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عدد المكونات الداخلية أق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توصيلات أقل و منه زمن التصنيع أق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700360" y="404640"/>
            <a:ext cx="3384360" cy="947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Arial"/>
              </a:rPr>
              <a:t>خصائص الدرات المندمج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3640" y="17002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ffffff"/>
                </a:solidFill>
                <a:latin typeface="Arial"/>
              </a:rPr>
              <a:t>* توتر التغذ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05080" y="239544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ffffff"/>
                </a:solidFill>
                <a:latin typeface="Arial"/>
              </a:rPr>
              <a:t>* الإستطاعة الممتص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5080" y="31161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ffffff"/>
                </a:solidFill>
                <a:latin typeface="Arial"/>
              </a:rPr>
              <a:t>* سرعة التبدي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3640" y="3835440"/>
            <a:ext cx="27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ffffff"/>
                </a:solidFill>
                <a:latin typeface="Arial"/>
              </a:rPr>
              <a:t>* وقت انتشار الإشارة بين المدخل و المخر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16720" y="1197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تتميز ب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987640" y="189000"/>
            <a:ext cx="3024360" cy="5205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Arial"/>
              </a:rPr>
              <a:t>توتر التغذ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125360"/>
            <a:ext cx="9144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هناك مستويين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المستوى المنطقي الأعلى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High  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DZ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 وجود توتر محصور بين 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fr-FR" sz="2400" spc="-1" strike="noStrike" baseline="-25000">
                <a:solidFill>
                  <a:srgbClr val="ff3300"/>
                </a:solidFill>
                <a:latin typeface="Arial"/>
              </a:rPr>
              <a:t>cc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و قيمة أقل من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المستوى المنطقي الأدنى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ow   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DZ" sz="24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 غياب التوتر   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2971800"/>
            <a:ext cx="4105440" cy="947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Arial"/>
              </a:rPr>
              <a:t>عائلات الدارات المندمج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480" y="3792600"/>
            <a:ext cx="88930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هناك عدة عائلات أهمها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عائلة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TL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ransistor Transistor Logic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مستعملة بكثرة تغذى بـ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5V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و يرمز لعائلة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TL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بسلسلة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74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أو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عائلة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MOS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mplementary Metal Oxyde Semiconducteur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تستهلك استطاعة ضعيفة و يرمز لعائلة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MOS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بسلسة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40xx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او ما يكافئها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74xx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توتر تغذية بين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3V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و 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5V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9440" y="2628000"/>
            <a:ext cx="33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1600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2663640" cy="1486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19640" y="0"/>
            <a:ext cx="2628720" cy="1600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564000" y="1773360"/>
            <a:ext cx="2400120" cy="1828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6443640" y="1700280"/>
            <a:ext cx="2514600" cy="1892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24000" y="1916280"/>
            <a:ext cx="2743200" cy="1825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539640" y="4149720"/>
            <a:ext cx="2260800" cy="1917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3492360" y="4221000"/>
            <a:ext cx="2579760" cy="1943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6300720" y="4076640"/>
            <a:ext cx="26290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700360" y="404640"/>
            <a:ext cx="3384360" cy="5205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Arial"/>
              </a:rPr>
              <a:t>الدارات الحساب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413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هي عبارة عن دارات متمثلة في بوابات من خلالها نقوم بعمليات كالجمع ، الطر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48360" y="227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ffffff"/>
                </a:solidFill>
                <a:latin typeface="Arial"/>
              </a:rPr>
              <a:t>  - نصف جامع 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emi  Ad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340000" y="3284640"/>
            <a:ext cx="4464000" cy="1439640"/>
            <a:chOff x="2340000" y="3284640"/>
            <a:chExt cx="4464000" cy="1439640"/>
          </a:xfrm>
        </p:grpSpPr>
        <p:sp>
          <p:nvSpPr>
            <p:cNvPr id="143" name=""/>
            <p:cNvSpPr/>
            <p:nvPr/>
          </p:nvSpPr>
          <p:spPr>
            <a:xfrm>
              <a:off x="3564000" y="3284640"/>
              <a:ext cx="2160360" cy="1439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3200" spc="-1" strike="noStrike">
                  <a:solidFill>
                    <a:srgbClr val="ffffff"/>
                  </a:solidFill>
                  <a:latin typeface="Arial"/>
                </a:rPr>
                <a:t>نصف جامع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S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11280" y="3500280"/>
              <a:ext cx="115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40000" y="4437000"/>
              <a:ext cx="122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24360" y="3500280"/>
              <a:ext cx="107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4360" y="4437000"/>
              <a:ext cx="107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476360" y="321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41958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77080" y="321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77080" y="41497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732720" y="260280"/>
            <a:ext cx="2160360" cy="947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Arial"/>
              </a:rPr>
              <a:t>- جدول الحقي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067280" y="260280"/>
          <a:ext cx="2560680" cy="3529080"/>
        </p:xfrm>
        <a:graphic>
          <a:graphicData uri="http://schemas.openxmlformats.org/drawingml/2006/table">
            <a:tbl>
              <a:tblPr/>
              <a:tblGrid>
                <a:gridCol w="640080"/>
                <a:gridCol w="640080"/>
                <a:gridCol w="640080"/>
                <a:gridCol w="640440"/>
              </a:tblGrid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4" name=""/>
          <p:cNvGrpSpPr/>
          <p:nvPr/>
        </p:nvGrpSpPr>
        <p:grpSpPr>
          <a:xfrm>
            <a:off x="682560" y="620640"/>
            <a:ext cx="2952720" cy="520560"/>
            <a:chOff x="682560" y="620640"/>
            <a:chExt cx="2952720" cy="520560"/>
          </a:xfrm>
        </p:grpSpPr>
        <p:sp>
          <p:nvSpPr>
            <p:cNvPr id="155" name=""/>
            <p:cNvSpPr/>
            <p:nvPr/>
          </p:nvSpPr>
          <p:spPr>
            <a:xfrm>
              <a:off x="682560" y="6206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ffff"/>
                  </a:solidFill>
                  <a:latin typeface="Arial"/>
                </a:rPr>
                <a:t>S = a.b  + a.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03280" y="663480"/>
              <a:ext cx="287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98560" y="663480"/>
              <a:ext cx="216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898560" y="1614600"/>
            <a:ext cx="2952720" cy="520560"/>
            <a:chOff x="898560" y="1614600"/>
            <a:chExt cx="2952720" cy="520560"/>
          </a:xfrm>
        </p:grpSpPr>
        <p:sp>
          <p:nvSpPr>
            <p:cNvPr id="159" name=""/>
            <p:cNvSpPr/>
            <p:nvPr/>
          </p:nvSpPr>
          <p:spPr>
            <a:xfrm>
              <a:off x="898560" y="161460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ffff"/>
                  </a:solidFill>
                  <a:latin typeface="Arial"/>
                </a:rPr>
                <a:t>S = a        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22560" y="1773360"/>
              <a:ext cx="216000" cy="215640"/>
              <a:chOff x="2122560" y="1773360"/>
              <a:chExt cx="216000" cy="215640"/>
            </a:xfrm>
          </p:grpSpPr>
          <p:sp>
            <p:nvSpPr>
              <p:cNvPr id="161" name=""/>
              <p:cNvSpPr/>
              <p:nvPr/>
            </p:nvSpPr>
            <p:spPr>
              <a:xfrm>
                <a:off x="2122560" y="1773360"/>
                <a:ext cx="216000" cy="21564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224440" y="1817280"/>
                <a:ext cx="0" cy="142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152800" y="1888920"/>
                <a:ext cx="142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64" name=""/>
          <p:cNvGraphicFramePr/>
          <p:nvPr/>
        </p:nvGraphicFramePr>
        <p:xfrm>
          <a:off x="5378400" y="274680"/>
          <a:ext cx="576360" cy="3528720"/>
        </p:xfrm>
        <a:graphic>
          <a:graphicData uri="http://schemas.openxmlformats.org/drawingml/2006/table">
            <a:tbl>
              <a:tblPr/>
              <a:tblGrid>
                <a:gridCol w="576360"/>
              </a:tblGrid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5" name=""/>
          <p:cNvGrpSpPr/>
          <p:nvPr/>
        </p:nvGrpSpPr>
        <p:grpSpPr>
          <a:xfrm>
            <a:off x="6012000" y="981000"/>
            <a:ext cx="576000" cy="2809800"/>
            <a:chOff x="6012000" y="981000"/>
            <a:chExt cx="576000" cy="2809800"/>
          </a:xfrm>
        </p:grpSpPr>
        <p:sp>
          <p:nvSpPr>
            <p:cNvPr id="166" name=""/>
            <p:cNvSpPr/>
            <p:nvPr/>
          </p:nvSpPr>
          <p:spPr>
            <a:xfrm>
              <a:off x="6012000" y="981000"/>
              <a:ext cx="576000" cy="649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12000" y="1700280"/>
              <a:ext cx="576000" cy="649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12000" y="2421000"/>
              <a:ext cx="576000" cy="649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2000" y="3141720"/>
              <a:ext cx="576000" cy="649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6516720" y="3908520"/>
            <a:ext cx="2376360" cy="947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Arial"/>
              </a:rPr>
              <a:t>- التصميم المنطق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835280" y="4508640"/>
            <a:ext cx="3168360" cy="865080"/>
            <a:chOff x="1835280" y="4508640"/>
            <a:chExt cx="3168360" cy="865080"/>
          </a:xfrm>
        </p:grpSpPr>
        <p:sp>
          <p:nvSpPr>
            <p:cNvPr id="172" name=""/>
            <p:cNvSpPr/>
            <p:nvPr/>
          </p:nvSpPr>
          <p:spPr>
            <a:xfrm>
              <a:off x="1835280" y="4653000"/>
              <a:ext cx="1296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35280" y="5229360"/>
              <a:ext cx="1296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59280" y="4508640"/>
              <a:ext cx="241200" cy="865080"/>
            </a:xfrm>
            <a:custGeom>
              <a:avLst/>
              <a:gdLst/>
              <a:ahLst/>
              <a:rect l="l" t="t" r="r" b="b"/>
              <a:pathLst>
                <a:path w="152" h="545">
                  <a:moveTo>
                    <a:pt x="0" y="0"/>
                  </a:moveTo>
                  <a:cubicBezTo>
                    <a:pt x="61" y="61"/>
                    <a:pt x="122" y="122"/>
                    <a:pt x="137" y="182"/>
                  </a:cubicBezTo>
                  <a:cubicBezTo>
                    <a:pt x="152" y="242"/>
                    <a:pt x="114" y="302"/>
                    <a:pt x="91" y="363"/>
                  </a:cubicBezTo>
                  <a:cubicBezTo>
                    <a:pt x="68" y="424"/>
                    <a:pt x="34" y="484"/>
                    <a:pt x="0" y="545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0800000">
              <a:off x="3261960" y="4538160"/>
              <a:ext cx="733320" cy="792360"/>
            </a:xfrm>
            <a:prstGeom prst="flowChartOnlineStorage">
              <a:avLst/>
            </a:prstGeom>
            <a:solidFill>
              <a:srgbClr val="99cc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95640" y="4941720"/>
              <a:ext cx="100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124000" y="4652640"/>
            <a:ext cx="2808360" cy="1800720"/>
            <a:chOff x="2124000" y="4652640"/>
            <a:chExt cx="2808360" cy="1800720"/>
          </a:xfrm>
        </p:grpSpPr>
        <p:sp>
          <p:nvSpPr>
            <p:cNvPr id="178" name=""/>
            <p:cNvSpPr/>
            <p:nvPr/>
          </p:nvSpPr>
          <p:spPr>
            <a:xfrm>
              <a:off x="3132000" y="5805360"/>
              <a:ext cx="648000" cy="648000"/>
            </a:xfrm>
            <a:prstGeom prst="flowChartDelay">
              <a:avLst/>
            </a:prstGeom>
            <a:solidFill>
              <a:srgbClr val="99cc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2340000" y="5950080"/>
              <a:ext cx="79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340000" y="4652640"/>
              <a:ext cx="0" cy="1297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124000" y="6237360"/>
              <a:ext cx="100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24000" y="5229360"/>
              <a:ext cx="0" cy="100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80000" y="6093000"/>
              <a:ext cx="1152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187280" y="43657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87280" y="501336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8360" y="47242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76720" y="5877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2421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 = a .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148360" y="11592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ffffff"/>
                </a:solidFill>
                <a:latin typeface="Arial"/>
              </a:rPr>
              <a:t>  - جامع كامل  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Full Ad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936720" y="549360"/>
            <a:ext cx="4464000" cy="1439640"/>
            <a:chOff x="936720" y="549360"/>
            <a:chExt cx="4464000" cy="1439640"/>
          </a:xfrm>
        </p:grpSpPr>
        <p:grpSp>
          <p:nvGrpSpPr>
            <p:cNvPr id="191" name=""/>
            <p:cNvGrpSpPr/>
            <p:nvPr/>
          </p:nvGrpSpPr>
          <p:grpSpPr>
            <a:xfrm>
              <a:off x="936720" y="549360"/>
              <a:ext cx="4464000" cy="1439640"/>
              <a:chOff x="936720" y="549360"/>
              <a:chExt cx="4464000" cy="1439640"/>
            </a:xfrm>
          </p:grpSpPr>
          <p:sp>
            <p:nvSpPr>
              <p:cNvPr id="192" name=""/>
              <p:cNvSpPr/>
              <p:nvPr/>
            </p:nvSpPr>
            <p:spPr>
              <a:xfrm>
                <a:off x="2160720" y="549360"/>
                <a:ext cx="2160360" cy="14396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DZ" sz="3200" spc="-1" strike="noStrike">
                    <a:solidFill>
                      <a:srgbClr val="ffffff"/>
                    </a:solidFill>
                    <a:latin typeface="Arial"/>
                  </a:rPr>
                  <a:t>جامع كامل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ffffff"/>
                    </a:solidFill>
                    <a:latin typeface="Arial"/>
                  </a:rPr>
                  <a:t>FA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08000" y="765000"/>
                <a:ext cx="1152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936720" y="1701720"/>
                <a:ext cx="122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21080" y="765000"/>
                <a:ext cx="1079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21080" y="1701720"/>
                <a:ext cx="1079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1008000" y="1196640"/>
              <a:ext cx="115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73080" y="5238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08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73800" y="54936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fr-FR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3800" y="148608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fr-FR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48428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fr-FR" sz="2400" spc="-1" strike="noStrike" baseline="-25000">
                <a:solidFill>
                  <a:srgbClr val="ffffff"/>
                </a:solidFill>
                <a:latin typeface="Arial"/>
              </a:rPr>
              <a:t>n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32720" y="2755800"/>
            <a:ext cx="2160360" cy="947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Arial"/>
              </a:rPr>
              <a:t>- جدول الحقي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771640" y="2127240"/>
          <a:ext cx="3927600" cy="4657680"/>
        </p:xfrm>
        <a:graphic>
          <a:graphicData uri="http://schemas.openxmlformats.org/drawingml/2006/table">
            <a:tbl>
              <a:tblPr/>
              <a:tblGrid>
                <a:gridCol w="785880"/>
                <a:gridCol w="784440"/>
                <a:gridCol w="787320"/>
                <a:gridCol w="784080"/>
                <a:gridCol w="78588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r>
                        <a:rPr b="1" lang="fr-FR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n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r>
                        <a:rPr b="1" lang="fr-FR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r>
                        <a:rPr b="1" lang="fr-FR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162400" y="2638440"/>
          <a:ext cx="720360" cy="4190760"/>
        </p:xfrm>
        <a:graphic>
          <a:graphicData uri="http://schemas.openxmlformats.org/drawingml/2006/table">
            <a:tbl>
              <a:tblPr/>
              <a:tblGrid>
                <a:gridCol w="720360"/>
              </a:tblGrid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6" name=""/>
          <p:cNvGrpSpPr/>
          <p:nvPr/>
        </p:nvGrpSpPr>
        <p:grpSpPr>
          <a:xfrm>
            <a:off x="5940360" y="2637000"/>
            <a:ext cx="719280" cy="4162320"/>
            <a:chOff x="5940360" y="2637000"/>
            <a:chExt cx="719280" cy="4162320"/>
          </a:xfrm>
        </p:grpSpPr>
        <p:sp>
          <p:nvSpPr>
            <p:cNvPr id="207" name=""/>
            <p:cNvSpPr/>
            <p:nvPr/>
          </p:nvSpPr>
          <p:spPr>
            <a:xfrm>
              <a:off x="5940360" y="2637000"/>
              <a:ext cx="719280" cy="504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40360" y="3139920"/>
              <a:ext cx="719280" cy="505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40360" y="3673440"/>
              <a:ext cx="719280" cy="504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0360" y="4219560"/>
              <a:ext cx="719280" cy="504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40360" y="4724280"/>
              <a:ext cx="719280" cy="505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40360" y="5229360"/>
              <a:ext cx="719280" cy="504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40360" y="5732640"/>
              <a:ext cx="719280" cy="504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40360" y="6294600"/>
              <a:ext cx="719280" cy="504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8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20:24:27Z</dcterms:created>
  <dc:creator>Alilou</dc:creator>
  <dc:description/>
  <dc:language>en-US</dc:language>
  <cp:lastModifiedBy>AA</cp:lastModifiedBy>
  <dcterms:modified xsi:type="dcterms:W3CDTF">2011-11-15T20:49:24Z</dcterms:modified>
  <cp:revision>22</cp:revision>
  <dc:subject/>
  <dc:title>Diapositive 1</dc:title>
</cp:coreProperties>
</file>