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56D1-D708-4EC6-89D5-0D4F5D4046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855D-DCEB-4400-B654-E49E12BA08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F691-6FCB-4487-A105-524C52A374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03DE-4891-4AE7-BD3D-08755854FE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2C8F-9D05-4B75-AC42-46A4BABE60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E65F-24C5-4B89-B59F-4CAAD5ABE3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35E2-C251-4036-9951-8E50ACF332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8984-9F0F-4B80-88F1-DB8B8B783C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517A-7F4A-4DE3-AADD-025DEB9C32F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216A-45AC-4ABD-A570-19DCAEE111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9134-5B2E-498A-A64C-AF44D6F096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8D45-E389-417F-BDD7-0A070CEDB1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8CF6-A4EC-479C-8078-F27EF5AF10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451D-4D97-43CA-8AC9-C739718462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DA69-AABE-49FA-A975-34F3D42DA0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B3CD-5796-4DD1-B7B0-6BF92B1EEB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924A-5365-4792-8E64-6C25004D58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6096-669C-4780-9061-1A62AC236E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34D-4EC1-490E-B34E-031E4B85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AAB-9829-4349-8050-B3181A50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A8B-29E0-47E9-BBA6-12B6D83C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988-EF5E-4CB3-AAAD-F9067E8A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FB0-D29E-433D-B213-8A013B32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C73-2374-41D3-89F4-C7AC1CE9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933-8F0B-4387-9350-2DDC904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F86-3AD3-4A20-9485-57FE74ED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86F-428D-4237-AE1A-FDEFC1F6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518-317E-444C-AC69-3BC6D3D1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F20-6954-4088-A326-BF252AB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8CC-419D-4C4C-B705-9FA9F9CC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DEB0-FF8B-47F6-8E72-8B81583051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611280" y="3787920"/>
            <a:ext cx="8075520" cy="2089080"/>
          </a:xfrm>
          <a:prstGeom prst="wedgeRoundRectCallout">
            <a:avLst>
              <a:gd name="adj1" fmla="val -2291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Traditional Arabic"/>
              </a:rPr>
              <a:t>كانت الشجرة مثمر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Traditional Arabic"/>
              </a:rPr>
              <a:t>ة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شجرة مثمر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995640" y="141300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3"/>
          <p:cNvGrpSpPr/>
          <p:nvPr/>
        </p:nvGrpSpPr>
        <p:grpSpPr>
          <a:xfrm>
            <a:off x="1403280" y="1257480"/>
            <a:ext cx="1523880" cy="2029320"/>
            <a:chOff x="1403280" y="1257480"/>
            <a:chExt cx="1523880" cy="2029320"/>
          </a:xfrm>
        </p:grpSpPr>
        <p:sp>
          <p:nvSpPr>
            <p:cNvPr id="53" name="Text Box 14"/>
            <p:cNvSpPr/>
            <p:nvPr/>
          </p:nvSpPr>
          <p:spPr>
            <a:xfrm>
              <a:off x="1403280" y="1257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5"/>
            <p:cNvSpPr/>
            <p:nvPr/>
          </p:nvSpPr>
          <p:spPr>
            <a:xfrm>
              <a:off x="1555560" y="140976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16"/>
          <p:cNvSpPr/>
          <p:nvPr/>
        </p:nvSpPr>
        <p:spPr>
          <a:xfrm>
            <a:off x="3059280" y="3641760"/>
            <a:ext cx="57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3056040" y="115920"/>
            <a:ext cx="2739960" cy="5009040"/>
          </a:xfrm>
          <a:prstGeom prst="irregularSeal1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قاع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50920" y="2006640"/>
            <a:ext cx="8672400" cy="4565520"/>
          </a:xfrm>
          <a:prstGeom prst="wedgeRoundRectCallout">
            <a:avLst>
              <a:gd name="adj1" fmla="val -46652"/>
              <a:gd name="adj2" fmla="val 3465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من أخوات كان</a:t>
            </a:r>
            <a:r>
              <a:rPr b="1" lang="ar-EG" sz="6000" spc="-1" strike="noStrike">
                <a:solidFill>
                  <a:srgbClr val="ff3300"/>
                </a:solidFill>
                <a:latin typeface="Arial"/>
              </a:rPr>
              <a:t> أيضًا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 ) </a:t>
            </a: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ما زال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 ، </a:t>
            </a: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ما برح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 ، </a:t>
            </a: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ما قتئ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 ، </a:t>
            </a: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ماانفك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استخرج اسم ( كان وأخواتها) مما يأتي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صبح الجو باردً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أصبح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لجو 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-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مرفوع بالض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مسى الباحث مفكر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أمسى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لباحث 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مرفوع بالض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صار المصنع منتج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صار 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المصنع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مرفوع بالض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ستخرج اسم ( كان وأخواتها) مما يأتي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كان القطاران مسرع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كان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لقطاران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-  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مرفوع بالأل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ظل العاملون واقف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ظل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لعاملون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 -  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مرفوع بالوا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ليست الأمهات مقصر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ليس 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الأمهات 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مرفوع بالض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كمل كل جملة مما يأتي باسم (كان ) أو إحدى أخواتها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كان ...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مثمر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ظل 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تحدث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صبح ..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... نشيطين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مسى ...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نائم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ضحى .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.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حار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اتت .....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..... ساهر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78600" y="1292400"/>
            <a:ext cx="173988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بس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978520" y="2520000"/>
            <a:ext cx="1996920" cy="764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مذ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702400" y="3059280"/>
            <a:ext cx="185076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عامل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24360" y="3934080"/>
            <a:ext cx="179568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طف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773680" y="5134320"/>
            <a:ext cx="1552680" cy="764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ج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64000" y="5759640"/>
            <a:ext cx="216072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ممرض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كمل كل جملة مما يأتي بخبر( كان) أو إحدى أخواتها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كان النهار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صبح المريض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ضحى الفلاحان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ظلت السيارة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مسى الأب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اتت الأم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148360" y="1657800"/>
            <a:ext cx="1368360" cy="764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حارً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427640" y="2229120"/>
            <a:ext cx="122400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تعبً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637080" y="3051360"/>
            <a:ext cx="187164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نشيط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284720" y="3956400"/>
            <a:ext cx="180000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سرعة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003640" y="4851720"/>
            <a:ext cx="144000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راضيً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146560" y="5756760"/>
            <a:ext cx="165744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ساهرة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أدخل (كان) أو إحدى أخواتها على كل جملة مما يأتي واكتب الخبر صحيحً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277920" y="4579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صار الماءُ بار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د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32680" y="2452680"/>
            <a:ext cx="5275440" cy="1355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ماء بار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356000" y="227484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2471760" y="2265480"/>
            <a:ext cx="1523880" cy="2029320"/>
            <a:chOff x="2471760" y="2265480"/>
            <a:chExt cx="1523880" cy="2029320"/>
          </a:xfrm>
        </p:grpSpPr>
        <p:sp>
          <p:nvSpPr>
            <p:cNvPr id="141" name="Text Box 7"/>
            <p:cNvSpPr/>
            <p:nvPr/>
          </p:nvSpPr>
          <p:spPr>
            <a:xfrm>
              <a:off x="2471760" y="2265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2624040" y="241776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أدخل (كان) أو إحدى أخواتها على كل جملة مما يأتي واكتب الخبر صحيحً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277920" y="4292640"/>
            <a:ext cx="8686800" cy="2492280"/>
          </a:xfrm>
          <a:prstGeom prst="wedgeRoundRectCallout">
            <a:avLst>
              <a:gd name="adj1" fmla="val -17782"/>
              <a:gd name="adj2" fmla="val 40828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3300"/>
                </a:solidFill>
                <a:latin typeface="Arial"/>
                <a:cs typeface="Simplified Arabic"/>
              </a:rPr>
              <a:t>صارت الصحيفةُ مقروء</a:t>
            </a:r>
            <a:r>
              <a:rPr b="1" lang="ar-SA" sz="7200" spc="-1" strike="noStrike">
                <a:solidFill>
                  <a:srgbClr val="0000ff"/>
                </a:solidFill>
                <a:latin typeface="Arial"/>
                <a:cs typeface="Simplified Arabic"/>
              </a:rPr>
              <a:t>ة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32680" y="2094120"/>
            <a:ext cx="5275440" cy="1355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70000"/>
          </a:bodyPr>
          <a:p>
            <a:pPr marL="240120" indent="-2401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صحيفة مقروء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851280" y="170028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960480" y="1773360"/>
            <a:ext cx="1523880" cy="2029320"/>
            <a:chOff x="960480" y="1773360"/>
            <a:chExt cx="1523880" cy="2029320"/>
          </a:xfrm>
        </p:grpSpPr>
        <p:sp>
          <p:nvSpPr>
            <p:cNvPr id="148" name="Text Box 7"/>
            <p:cNvSpPr/>
            <p:nvPr/>
          </p:nvSpPr>
          <p:spPr>
            <a:xfrm>
              <a:off x="960480" y="177336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1112760" y="192564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عرب ما تحته خط فيما يأت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3300"/>
                </a:solidFill>
                <a:latin typeface="Arial"/>
              </a:rPr>
              <a:t>كان</a:t>
            </a:r>
            <a:r>
              <a:rPr b="1" lang="ar-SA" sz="4800" spc="-1" strike="noStrike" u="sng">
                <a:solidFill>
                  <a:srgbClr val="ff3300"/>
                </a:solidFill>
                <a:uFillTx/>
                <a:latin typeface="Arial"/>
              </a:rPr>
              <a:t> الاحتفال ممتع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Arial"/>
              </a:rPr>
              <a:t>شاهدت </a:t>
            </a:r>
            <a:r>
              <a:rPr b="1" lang="ar-SA" sz="4800" spc="-1" strike="noStrike" u="sng">
                <a:solidFill>
                  <a:srgbClr val="ffff66"/>
                </a:solidFill>
                <a:uFillTx/>
                <a:latin typeface="Arial"/>
              </a:rPr>
              <a:t>الصحيفة واضحة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Arial"/>
              </a:rPr>
              <a:t>أتعلم </a:t>
            </a:r>
            <a:r>
              <a:rPr b="1" lang="ar-SA" sz="4800" spc="-1" strike="noStrike" u="sng">
                <a:solidFill>
                  <a:srgbClr val="ffff66"/>
                </a:solidFill>
                <a:uFillTx/>
                <a:latin typeface="Arial"/>
              </a:rPr>
              <a:t>رغبة</a:t>
            </a:r>
            <a:r>
              <a:rPr b="1" lang="ar-SA" sz="4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ar-SA" sz="4800" spc="-1" strike="noStrike" u="sng">
                <a:solidFill>
                  <a:srgbClr val="ffff66"/>
                </a:solidFill>
                <a:uFillTx/>
                <a:latin typeface="Arial"/>
              </a:rPr>
              <a:t>في الفائ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76360" y="2451240"/>
            <a:ext cx="84596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خبر كان منصوب وعلامة النصب الفتح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2522520"/>
            <a:ext cx="89996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سم كان مرفوع وعلامة الرفع الض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0" y="3357720"/>
            <a:ext cx="9109080" cy="24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حال منصوبة وعلامة النصب الفتح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-36360" y="3284640"/>
            <a:ext cx="91090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فعول به منصوب وعلامة النصب الفتح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4920" y="4157640"/>
            <a:ext cx="91090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فعول لأجله منصوب وعلامة النصب الفتح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4920" y="4221000"/>
            <a:ext cx="9109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جار ومجر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611280" y="3787920"/>
            <a:ext cx="8075520" cy="2089080"/>
          </a:xfrm>
          <a:prstGeom prst="wedgeRoundRectCallout">
            <a:avLst>
              <a:gd name="adj1" fmla="val -2291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</a:rPr>
              <a:t>أصبح الكتاب مطبو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</a:rPr>
              <a:t>ع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كتاب مطبو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572000" y="141300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6"/>
          <p:cNvGrpSpPr/>
          <p:nvPr/>
        </p:nvGrpSpPr>
        <p:grpSpPr>
          <a:xfrm>
            <a:off x="1679400" y="1257480"/>
            <a:ext cx="1523880" cy="2029320"/>
            <a:chOff x="1679400" y="1257480"/>
            <a:chExt cx="1523880" cy="2029320"/>
          </a:xfrm>
        </p:grpSpPr>
        <p:sp>
          <p:nvSpPr>
            <p:cNvPr id="61" name="Text Box 7"/>
            <p:cNvSpPr/>
            <p:nvPr/>
          </p:nvSpPr>
          <p:spPr>
            <a:xfrm>
              <a:off x="1679400" y="1257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1831680" y="140976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9"/>
          <p:cNvSpPr/>
          <p:nvPr/>
        </p:nvSpPr>
        <p:spPr>
          <a:xfrm>
            <a:off x="3490920" y="378612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</a:rPr>
              <a:t>أضحى المريض متأل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</a:rPr>
              <a:t>م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مريض متأل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51280" y="141300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1679400" y="1257480"/>
            <a:ext cx="1523880" cy="2029320"/>
            <a:chOff x="1679400" y="1257480"/>
            <a:chExt cx="1523880" cy="2029320"/>
          </a:xfrm>
        </p:grpSpPr>
        <p:sp>
          <p:nvSpPr>
            <p:cNvPr id="69" name="Text Box 7"/>
            <p:cNvSpPr/>
            <p:nvPr/>
          </p:nvSpPr>
          <p:spPr>
            <a:xfrm>
              <a:off x="1679400" y="1257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8"/>
            <p:cNvSpPr/>
            <p:nvPr/>
          </p:nvSpPr>
          <p:spPr>
            <a:xfrm>
              <a:off x="1831680" y="140976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9"/>
          <p:cNvSpPr/>
          <p:nvPr/>
        </p:nvSpPr>
        <p:spPr>
          <a:xfrm>
            <a:off x="2700360" y="378612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ظلت الشمس مشرق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ة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70000"/>
          </a:bodyPr>
          <a:p>
            <a:pPr marL="240120" indent="-2401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شمس مشرق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851280" y="141300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1187280" y="1197000"/>
            <a:ext cx="1523880" cy="2029320"/>
            <a:chOff x="1187280" y="1197000"/>
            <a:chExt cx="1523880" cy="2029320"/>
          </a:xfrm>
        </p:grpSpPr>
        <p:sp>
          <p:nvSpPr>
            <p:cNvPr id="77" name="Text Box 7"/>
            <p:cNvSpPr/>
            <p:nvPr/>
          </p:nvSpPr>
          <p:spPr>
            <a:xfrm>
              <a:off x="1187280" y="119700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1339560" y="13492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9"/>
          <p:cNvSpPr/>
          <p:nvPr/>
        </p:nvSpPr>
        <p:spPr>
          <a:xfrm>
            <a:off x="3780000" y="3786120"/>
            <a:ext cx="57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أمسى الصانع متع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بً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صانع متع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82920" y="141300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2039760" y="1330200"/>
            <a:ext cx="1523880" cy="2029320"/>
            <a:chOff x="2039760" y="1330200"/>
            <a:chExt cx="1523880" cy="2029320"/>
          </a:xfrm>
        </p:grpSpPr>
        <p:sp>
          <p:nvSpPr>
            <p:cNvPr id="85" name="Text Box 7"/>
            <p:cNvSpPr/>
            <p:nvPr/>
          </p:nvSpPr>
          <p:spPr>
            <a:xfrm>
              <a:off x="2039760" y="133020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2192040" y="1482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9"/>
          <p:cNvSpPr/>
          <p:nvPr/>
        </p:nvSpPr>
        <p:spPr>
          <a:xfrm>
            <a:off x="3276720" y="3786120"/>
            <a:ext cx="57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بات الحارس مستيق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ظ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69000"/>
          </a:bodyPr>
          <a:p>
            <a:pPr marL="236520" indent="-2365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حارس مستيق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067280" y="1413000"/>
            <a:ext cx="57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826920" y="1330200"/>
            <a:ext cx="1523880" cy="2029320"/>
            <a:chOff x="826920" y="1330200"/>
            <a:chExt cx="1523880" cy="2029320"/>
          </a:xfrm>
        </p:grpSpPr>
        <p:sp>
          <p:nvSpPr>
            <p:cNvPr id="93" name="Text Box 7"/>
            <p:cNvSpPr/>
            <p:nvPr/>
          </p:nvSpPr>
          <p:spPr>
            <a:xfrm>
              <a:off x="826920" y="133020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979200" y="1482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9"/>
          <p:cNvSpPr/>
          <p:nvPr/>
        </p:nvSpPr>
        <p:spPr>
          <a:xfrm>
            <a:off x="4140360" y="3786120"/>
            <a:ext cx="57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صار العلم ناف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ع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علم ناف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859280" y="148284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2843280" y="1413000"/>
            <a:ext cx="1523880" cy="2029320"/>
            <a:chOff x="2843280" y="1413000"/>
            <a:chExt cx="1523880" cy="2029320"/>
          </a:xfrm>
        </p:grpSpPr>
        <p:sp>
          <p:nvSpPr>
            <p:cNvPr id="101" name="Text Box 7"/>
            <p:cNvSpPr/>
            <p:nvPr/>
          </p:nvSpPr>
          <p:spPr>
            <a:xfrm>
              <a:off x="2843280" y="141300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2995560" y="15652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9"/>
          <p:cNvSpPr/>
          <p:nvPr/>
        </p:nvSpPr>
        <p:spPr>
          <a:xfrm>
            <a:off x="4356000" y="378612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ليس المعهد كبي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ر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معهد كب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356000" y="148284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2471760" y="1473120"/>
            <a:ext cx="1523880" cy="2029320"/>
            <a:chOff x="2471760" y="1473120"/>
            <a:chExt cx="1523880" cy="2029320"/>
          </a:xfrm>
        </p:grpSpPr>
        <p:sp>
          <p:nvSpPr>
            <p:cNvPr id="109" name="Text Box 7"/>
            <p:cNvSpPr/>
            <p:nvPr/>
          </p:nvSpPr>
          <p:spPr>
            <a:xfrm>
              <a:off x="2471760" y="147312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624040" y="162540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9"/>
          <p:cNvSpPr/>
          <p:nvPr/>
        </p:nvSpPr>
        <p:spPr>
          <a:xfrm>
            <a:off x="3924360" y="371628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3056040" y="115920"/>
            <a:ext cx="2739960" cy="5009040"/>
          </a:xfrm>
          <a:prstGeom prst="irregularSeal1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قاع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" y="1974960"/>
            <a:ext cx="8920080" cy="6829560"/>
          </a:xfrm>
          <a:prstGeom prst="wedgeRoundRectCallout">
            <a:avLst>
              <a:gd name="adj1" fmla="val -43967"/>
              <a:gd name="adj2" fmla="val 2080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SA" sz="4800" spc="-1" strike="noStrike">
                <a:solidFill>
                  <a:srgbClr val="ff3300"/>
                </a:solidFill>
                <a:latin typeface="Arial"/>
              </a:rPr>
              <a:t>كان وأخواتها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) أفعال ناسخة ، تدخل على الجملة الاسمية فترفع المبتدأ ويسمى اسمها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، وتنصب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الخبر ويسمى خبر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SA" sz="4800" spc="-1" strike="noStrike">
                <a:solidFill>
                  <a:srgbClr val="ff3300"/>
                </a:solidFill>
                <a:latin typeface="Arial"/>
              </a:rPr>
              <a:t>من أخوات كان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) أصبح ، أضحى ، ظل ، أمسى ، بات ، صار ، لي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9:10:12Z</dcterms:created>
  <dc:creator>allah</dc:creator>
  <dc:description/>
  <dc:language>en-US</dc:language>
  <cp:lastModifiedBy>ahmed</cp:lastModifiedBy>
  <dcterms:modified xsi:type="dcterms:W3CDTF">2011-01-19T03:22:25Z</dcterms:modified>
  <cp:revision>15</cp:revision>
  <dc:subject/>
  <dc:title>كان وأخواتها</dc:title>
</cp:coreProperties>
</file>