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9661-1AF6-4739-A9C8-FAD9A84737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6D29-B862-45D8-A97B-18AC0A6BA2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7B0A-E092-4872-BEEF-3FB085B6FA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9C6C-1BD9-4F19-9123-81D7A32A51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4F1-F288-442C-A235-B383B4568B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4193-FED9-449C-B064-58C0EDDA69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013D-5EB8-4F1D-89EF-49FF84F1F3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2417-D328-4E95-ADE9-6B18933D67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AC9C-143B-48A0-B3F4-B5BB2EE47E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DB42-778C-477D-A8E9-6618F48F65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6BC8-5B31-405C-98A9-A8B108A194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E857-149A-42B0-ADEC-F5331E094F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12E-0731-4FCA-9958-40840447F7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911F-F528-4C97-9558-B755355253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DED5-9FAE-4FCE-84F5-F5BC567F6E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5341-9AB1-4D99-8532-2EAC50C5109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F3A-AB35-49FC-A89F-5A9C5DB92B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A89C-0090-4B48-A916-7EDC43F3E3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6E9-17A9-4628-A599-6CD47894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4EB-03C2-453D-9CD6-072F9C85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6EE-7EF1-4432-A8EA-8F693855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608-80FA-414B-AF4A-EAF9E5C4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B63-8A07-4883-A957-90D110D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896-EF59-4916-92F7-DC576E5A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B25-246C-42A6-A54A-730FEAAD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E93-948E-4E5F-A12A-A4070FF7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D9F-5A7E-43AA-BC75-DCCBB2C3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C62-84CA-44FD-95AE-623EF9F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574-03E7-42FA-BFE8-3CE78A08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8CD-AFFD-4F1D-A8EA-DA71C56E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C251-1567-4FA7-9BEE-ADC4C65D11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611280" y="3787920"/>
            <a:ext cx="8075520" cy="2089080"/>
          </a:xfrm>
          <a:prstGeom prst="wedgeRoundRectCallout">
            <a:avLst>
              <a:gd name="adj1" fmla="val -2291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Traditional Arabic"/>
              </a:rPr>
              <a:t>كانت الشجرة مثمر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Traditional Arabic"/>
              </a:rPr>
              <a:t>ة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شجرة مثمر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99564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3"/>
          <p:cNvGrpSpPr/>
          <p:nvPr/>
        </p:nvGrpSpPr>
        <p:grpSpPr>
          <a:xfrm>
            <a:off x="1403280" y="1257480"/>
            <a:ext cx="1523880" cy="2029320"/>
            <a:chOff x="1403280" y="1257480"/>
            <a:chExt cx="1523880" cy="2029320"/>
          </a:xfrm>
        </p:grpSpPr>
        <p:sp>
          <p:nvSpPr>
            <p:cNvPr id="53" name="Text Box 14"/>
            <p:cNvSpPr/>
            <p:nvPr/>
          </p:nvSpPr>
          <p:spPr>
            <a:xfrm>
              <a:off x="1403280" y="1257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1555560" y="14097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16"/>
          <p:cNvSpPr/>
          <p:nvPr/>
        </p:nvSpPr>
        <p:spPr>
          <a:xfrm>
            <a:off x="3059280" y="364176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3056040" y="115920"/>
            <a:ext cx="2739960" cy="5009040"/>
          </a:xfrm>
          <a:prstGeom prst="irregularSeal1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قاع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50920" y="2006640"/>
            <a:ext cx="8672400" cy="4565520"/>
          </a:xfrm>
          <a:prstGeom prst="wedgeRoundRectCallout">
            <a:avLst>
              <a:gd name="adj1" fmla="val -46652"/>
              <a:gd name="adj2" fmla="val 3465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من أخوات كان</a:t>
            </a:r>
            <a:r>
              <a:rPr b="1" lang="ar-EG" sz="6000" spc="-1" strike="noStrike">
                <a:solidFill>
                  <a:srgbClr val="ff3300"/>
                </a:solidFill>
                <a:latin typeface="Arial"/>
              </a:rPr>
              <a:t> أيضًا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)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ما زال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،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ما برح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،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ما قتئ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،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ماانفك</a:t>
            </a:r>
            <a:r>
              <a:rPr b="1" lang="ar-SA" sz="6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6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استخرج اسم ( كان وأخواتها) مما يأتي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صبح الجو باردً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أصبح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لجو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-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مرفوع بالض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مسى الباحث مفكر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أمسى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لباحث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مرفوع بالض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صار المصنع منتج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صار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المصنع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مرفوع بالض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ستخرج اسم ( كان وأخواتها) مما يأتي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كان القطاران مسرع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كان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لقطاران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-  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مرفوع بالأل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ظل العاملون واقف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ظل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لعاملون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 -  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مرفوع بالوا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ليست الأمهات مقصر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اسم ليس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 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الأمهات 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مرفوع بالض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كمل كل جملة مما يأتي باسم (كان ) أو إحدى أخواتها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كان ..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مثمر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ظل 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تحدث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صبح .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... نشيطين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مسى ..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نائم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ضحى 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.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حار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اتت .......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..... ساهر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78600" y="1292400"/>
            <a:ext cx="173988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بس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978520" y="2520000"/>
            <a:ext cx="1996920" cy="764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مذ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702400" y="3059280"/>
            <a:ext cx="185076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عامل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24360" y="3934080"/>
            <a:ext cx="179568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طف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773680" y="5134320"/>
            <a:ext cx="1552680" cy="764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ج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64000" y="5759640"/>
            <a:ext cx="216072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ممرض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كمل كل جملة مما يأتي بخبر( كان) أو إحدى أخواتها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كان النهار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صبح المريض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ضحى الفلاحان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ظلت السيارة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أمسى الأب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اتت الأم</a:t>
            </a:r>
            <a:r>
              <a:rPr b="1" lang="ar-EG" sz="4800" spc="-1" strike="noStrike">
                <a:solidFill>
                  <a:srgbClr val="000000"/>
                </a:solidFill>
                <a:latin typeface="Arial"/>
              </a:rPr>
              <a:t> .....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148360" y="1657800"/>
            <a:ext cx="1368360" cy="764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حار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427640" y="2229120"/>
            <a:ext cx="122400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تعب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637080" y="3051360"/>
            <a:ext cx="187164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نشيط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284720" y="3956400"/>
            <a:ext cx="180000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سرعة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003640" y="4851720"/>
            <a:ext cx="144000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راضي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146560" y="5756760"/>
            <a:ext cx="1657440" cy="1434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ساهرة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أدخل (كان) أو إحدى أخواتها على كل جملة مما يأتي واكتب الخبر صحيح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277920" y="4579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صار الماءُ بار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د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32680" y="2452680"/>
            <a:ext cx="5275440" cy="1355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ماء بار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356000" y="227484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2471760" y="2265480"/>
            <a:ext cx="1523880" cy="2029320"/>
            <a:chOff x="2471760" y="2265480"/>
            <a:chExt cx="1523880" cy="2029320"/>
          </a:xfrm>
        </p:grpSpPr>
        <p:sp>
          <p:nvSpPr>
            <p:cNvPr id="141" name="Text Box 7"/>
            <p:cNvSpPr/>
            <p:nvPr/>
          </p:nvSpPr>
          <p:spPr>
            <a:xfrm>
              <a:off x="2471760" y="2265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2624040" y="24177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أدخل (كان) أو إحدى أخواتها على كل جملة مما يأتي واكتب الخبر صحيحً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277920" y="4292640"/>
            <a:ext cx="8686800" cy="2492280"/>
          </a:xfrm>
          <a:prstGeom prst="wedgeRoundRectCallout">
            <a:avLst>
              <a:gd name="adj1" fmla="val -17782"/>
              <a:gd name="adj2" fmla="val 40828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3300"/>
                </a:solidFill>
                <a:latin typeface="Arial"/>
                <a:cs typeface="Simplified Arabic"/>
              </a:rPr>
              <a:t>صارت الصحيفةُ مقروء</a:t>
            </a:r>
            <a:r>
              <a:rPr b="1" lang="ar-SA" sz="7200" spc="-1" strike="noStrike">
                <a:solidFill>
                  <a:srgbClr val="0000ff"/>
                </a:solidFill>
                <a:latin typeface="Arial"/>
                <a:cs typeface="Simplified Arabic"/>
              </a:rPr>
              <a:t>ة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32680" y="2094120"/>
            <a:ext cx="5275440" cy="1355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70000"/>
          </a:bodyPr>
          <a:p>
            <a:pPr marL="240120" indent="-2401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صحيفة مقروء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851280" y="170028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960480" y="1773360"/>
            <a:ext cx="1523880" cy="2029320"/>
            <a:chOff x="960480" y="1773360"/>
            <a:chExt cx="1523880" cy="2029320"/>
          </a:xfrm>
        </p:grpSpPr>
        <p:sp>
          <p:nvSpPr>
            <p:cNvPr id="148" name="Text Box 7"/>
            <p:cNvSpPr/>
            <p:nvPr/>
          </p:nvSpPr>
          <p:spPr>
            <a:xfrm>
              <a:off x="960480" y="17733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1112760" y="192564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عرب ما تحته خط فيما يأ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3300"/>
                </a:solidFill>
                <a:latin typeface="Arial"/>
              </a:rPr>
              <a:t>كان</a:t>
            </a:r>
            <a:r>
              <a:rPr b="1" lang="ar-SA" sz="4800" spc="-1" strike="noStrike" u="sng">
                <a:solidFill>
                  <a:srgbClr val="ff3300"/>
                </a:solidFill>
                <a:uFillTx/>
                <a:latin typeface="Arial"/>
              </a:rPr>
              <a:t> الاحتفال ممتعً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Arial"/>
              </a:rPr>
              <a:t>شاهدت </a:t>
            </a:r>
            <a:r>
              <a:rPr b="1" lang="ar-SA" sz="4800" spc="-1" strike="noStrike" u="sng">
                <a:solidFill>
                  <a:srgbClr val="ffff66"/>
                </a:solidFill>
                <a:uFillTx/>
                <a:latin typeface="Arial"/>
              </a:rPr>
              <a:t>الصحيفة واضحة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Arial"/>
              </a:rPr>
              <a:t>أتعلم </a:t>
            </a:r>
            <a:r>
              <a:rPr b="1" lang="ar-SA" sz="4800" spc="-1" strike="noStrike" u="sng">
                <a:solidFill>
                  <a:srgbClr val="ffff66"/>
                </a:solidFill>
                <a:uFillTx/>
                <a:latin typeface="Arial"/>
              </a:rPr>
              <a:t>رغبة</a:t>
            </a:r>
            <a:r>
              <a:rPr b="1" lang="ar-SA" sz="4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ar-SA" sz="4800" spc="-1" strike="noStrike" u="sng">
                <a:solidFill>
                  <a:srgbClr val="ffff66"/>
                </a:solidFill>
                <a:uFillTx/>
                <a:latin typeface="Arial"/>
              </a:rPr>
              <a:t>في الفائ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76360" y="2451240"/>
            <a:ext cx="84596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خبر كان منصوب وعلامة النصب الفتح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2522520"/>
            <a:ext cx="89996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سم كان مرفوع وعلامة الرفع الض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3357720"/>
            <a:ext cx="9109080" cy="24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حال منصوبة وعلامة النصب الفتح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-36360" y="3284640"/>
            <a:ext cx="91090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فعول به منصوب وعلامة النصب الفتح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4920" y="4157640"/>
            <a:ext cx="91090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فعول لأجله منصوب وعلامة النصب الفتح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4920" y="4221000"/>
            <a:ext cx="9109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جار ومجر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611280" y="3787920"/>
            <a:ext cx="8075520" cy="2089080"/>
          </a:xfrm>
          <a:prstGeom prst="wedgeRoundRectCallout">
            <a:avLst>
              <a:gd name="adj1" fmla="val -2291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</a:rPr>
              <a:t>أصبح الكتاب مطبو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</a:rPr>
              <a:t>ع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كتاب مطبو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57200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6"/>
          <p:cNvGrpSpPr/>
          <p:nvPr/>
        </p:nvGrpSpPr>
        <p:grpSpPr>
          <a:xfrm>
            <a:off x="1679400" y="1257480"/>
            <a:ext cx="1523880" cy="2029320"/>
            <a:chOff x="1679400" y="1257480"/>
            <a:chExt cx="1523880" cy="2029320"/>
          </a:xfrm>
        </p:grpSpPr>
        <p:sp>
          <p:nvSpPr>
            <p:cNvPr id="61" name="Text Box 7"/>
            <p:cNvSpPr/>
            <p:nvPr/>
          </p:nvSpPr>
          <p:spPr>
            <a:xfrm>
              <a:off x="1679400" y="1257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1831680" y="14097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9"/>
          <p:cNvSpPr/>
          <p:nvPr/>
        </p:nvSpPr>
        <p:spPr>
          <a:xfrm>
            <a:off x="3490920" y="378612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</a:rPr>
              <a:t>أضحى المريض متأل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</a:rPr>
              <a:t>م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مريض متأل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5128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1679400" y="1257480"/>
            <a:ext cx="1523880" cy="2029320"/>
            <a:chOff x="1679400" y="1257480"/>
            <a:chExt cx="1523880" cy="2029320"/>
          </a:xfrm>
        </p:grpSpPr>
        <p:sp>
          <p:nvSpPr>
            <p:cNvPr id="69" name="Text Box 7"/>
            <p:cNvSpPr/>
            <p:nvPr/>
          </p:nvSpPr>
          <p:spPr>
            <a:xfrm>
              <a:off x="1679400" y="1257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8"/>
            <p:cNvSpPr/>
            <p:nvPr/>
          </p:nvSpPr>
          <p:spPr>
            <a:xfrm>
              <a:off x="1831680" y="140976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9"/>
          <p:cNvSpPr/>
          <p:nvPr/>
        </p:nvSpPr>
        <p:spPr>
          <a:xfrm>
            <a:off x="2700360" y="378612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ظلت الشمس مشرق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ة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0000"/>
          </a:bodyPr>
          <a:p>
            <a:pPr marL="240120" indent="-2401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شمس مشرق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85128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1187280" y="1197000"/>
            <a:ext cx="1523880" cy="2029320"/>
            <a:chOff x="1187280" y="1197000"/>
            <a:chExt cx="1523880" cy="2029320"/>
          </a:xfrm>
        </p:grpSpPr>
        <p:sp>
          <p:nvSpPr>
            <p:cNvPr id="77" name="Text Box 7"/>
            <p:cNvSpPr/>
            <p:nvPr/>
          </p:nvSpPr>
          <p:spPr>
            <a:xfrm>
              <a:off x="1187280" y="11970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1339560" y="13492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9"/>
          <p:cNvSpPr/>
          <p:nvPr/>
        </p:nvSpPr>
        <p:spPr>
          <a:xfrm>
            <a:off x="3780000" y="378612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أمسى الصانع متع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بً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صانع متع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82920" y="141300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2039760" y="1330200"/>
            <a:ext cx="1523880" cy="2029320"/>
            <a:chOff x="2039760" y="1330200"/>
            <a:chExt cx="1523880" cy="2029320"/>
          </a:xfrm>
        </p:grpSpPr>
        <p:sp>
          <p:nvSpPr>
            <p:cNvPr id="85" name="Text Box 7"/>
            <p:cNvSpPr/>
            <p:nvPr/>
          </p:nvSpPr>
          <p:spPr>
            <a:xfrm>
              <a:off x="2039760" y="13302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2192040" y="1482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9"/>
          <p:cNvSpPr/>
          <p:nvPr/>
        </p:nvSpPr>
        <p:spPr>
          <a:xfrm>
            <a:off x="3276720" y="378612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بات الحارس مستيق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ظ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 fontScale="69000"/>
          </a:bodyPr>
          <a:p>
            <a:pPr marL="236520" indent="-23652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حارس مستيق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067280" y="141300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826920" y="1330200"/>
            <a:ext cx="1523880" cy="2029320"/>
            <a:chOff x="826920" y="1330200"/>
            <a:chExt cx="1523880" cy="2029320"/>
          </a:xfrm>
        </p:grpSpPr>
        <p:sp>
          <p:nvSpPr>
            <p:cNvPr id="93" name="Text Box 7"/>
            <p:cNvSpPr/>
            <p:nvPr/>
          </p:nvSpPr>
          <p:spPr>
            <a:xfrm>
              <a:off x="826920" y="13302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979200" y="14824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9"/>
          <p:cNvSpPr/>
          <p:nvPr/>
        </p:nvSpPr>
        <p:spPr>
          <a:xfrm>
            <a:off x="4140360" y="3786120"/>
            <a:ext cx="57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صار العلم ناف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ع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علم ناف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859280" y="148284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2843280" y="1413000"/>
            <a:ext cx="1523880" cy="2029320"/>
            <a:chOff x="2843280" y="1413000"/>
            <a:chExt cx="1523880" cy="2029320"/>
          </a:xfrm>
        </p:grpSpPr>
        <p:sp>
          <p:nvSpPr>
            <p:cNvPr id="101" name="Text Box 7"/>
            <p:cNvSpPr/>
            <p:nvPr/>
          </p:nvSpPr>
          <p:spPr>
            <a:xfrm>
              <a:off x="2843280" y="14130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2995560" y="156528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9"/>
          <p:cNvSpPr/>
          <p:nvPr/>
        </p:nvSpPr>
        <p:spPr>
          <a:xfrm>
            <a:off x="4356000" y="378612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كان وأخوات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277920" y="3787920"/>
            <a:ext cx="8686800" cy="2089080"/>
          </a:xfrm>
          <a:prstGeom prst="wedgeRoundRectCallout">
            <a:avLst>
              <a:gd name="adj1" fmla="val -17782"/>
              <a:gd name="adj2" fmla="val 48101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2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ليس المعهد كبي</a:t>
            </a:r>
            <a:r>
              <a:rPr b="1" lang="ar-SA" sz="8000" spc="-1" strike="noStrike">
                <a:solidFill>
                  <a:srgbClr val="0000ff"/>
                </a:solidFill>
                <a:latin typeface="Arial"/>
                <a:cs typeface="Simplified Arabic"/>
              </a:rPr>
              <a:t>رً</a:t>
            </a:r>
            <a:r>
              <a:rPr b="1" lang="ar-SA" sz="8000" spc="-1" strike="noStrike">
                <a:solidFill>
                  <a:srgbClr val="ff3300"/>
                </a:solidFill>
                <a:latin typeface="Arial"/>
                <a:cs typeface="Simplified Arabic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32680" y="1660680"/>
            <a:ext cx="5275440" cy="1355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Arial"/>
              </a:rPr>
              <a:t>المعهد كب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356000" y="148284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2471760" y="1473120"/>
            <a:ext cx="1523880" cy="2029320"/>
            <a:chOff x="2471760" y="1473120"/>
            <a:chExt cx="1523880" cy="2029320"/>
          </a:xfrm>
        </p:grpSpPr>
        <p:sp>
          <p:nvSpPr>
            <p:cNvPr id="109" name="Text Box 7"/>
            <p:cNvSpPr/>
            <p:nvPr/>
          </p:nvSpPr>
          <p:spPr>
            <a:xfrm>
              <a:off x="2471760" y="147312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624040" y="1625400"/>
              <a:ext cx="13716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900" spc="-1" strike="noStrike">
                  <a:solidFill>
                    <a:srgbClr val="0000ff"/>
                  </a:solidFill>
                  <a:latin typeface="Arial"/>
                </a:rPr>
                <a:t>        </a:t>
              </a:r>
              <a:r>
                <a:rPr b="1" lang="ar-EG" sz="11700" spc="-1" strike="noStrike">
                  <a:solidFill>
                    <a:srgbClr val="0000ff"/>
                  </a:solidFill>
                  <a:latin typeface="Arial"/>
                </a:rPr>
                <a:t>ُ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9"/>
          <p:cNvSpPr/>
          <p:nvPr/>
        </p:nvSpPr>
        <p:spPr>
          <a:xfrm>
            <a:off x="3924360" y="3716280"/>
            <a:ext cx="57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0000ff"/>
                </a:solidFill>
                <a:latin typeface="Arial"/>
              </a:rPr>
              <a:t>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3056040" y="115920"/>
            <a:ext cx="2739960" cy="5009040"/>
          </a:xfrm>
          <a:prstGeom prst="irregularSeal1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قاع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" y="1974960"/>
            <a:ext cx="8920080" cy="6829560"/>
          </a:xfrm>
          <a:prstGeom prst="wedgeRoundRectCallout">
            <a:avLst>
              <a:gd name="adj1" fmla="val -43967"/>
              <a:gd name="adj2" fmla="val 2080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4800" spc="-1" strike="noStrike">
                <a:solidFill>
                  <a:srgbClr val="ff3300"/>
                </a:solidFill>
                <a:latin typeface="Arial"/>
              </a:rPr>
              <a:t>كان وأخواتها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) أفعال ناسخة ، تدخل على الجملة الاسمية فترفع المبتدأ ويسمى اسمها </a:t>
            </a: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 ، وتنصب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الخبر ويسمى خبر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4800" spc="-1" strike="noStrike">
                <a:solidFill>
                  <a:srgbClr val="ff3300"/>
                </a:solidFill>
                <a:latin typeface="Arial"/>
              </a:rPr>
              <a:t>من أخوات كان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 ) أصبح ، أضحى ، ظل ، أمسى ، بات ، صار ، لي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9:10:12Z</dcterms:created>
  <dc:creator>allah</dc:creator>
  <dc:description/>
  <dc:language>en-US</dc:language>
  <cp:lastModifiedBy>ahmed</cp:lastModifiedBy>
  <dcterms:modified xsi:type="dcterms:W3CDTF">2011-01-19T03:22:25Z</dcterms:modified>
  <cp:revision>15</cp:revision>
  <dc:subject/>
  <dc:title>كان وأخواتها</dc:title>
</cp:coreProperties>
</file>