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A56-AF51-4154-BC7C-B565EE7D0D0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3AF-B928-40DC-8B38-9FF488C473D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5BE-02CA-4559-A5D8-A64541DB738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FAD7-532B-490B-B440-09FDCFB1890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034-8983-40BE-A5E5-5B2047D65D3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1958-F712-43B5-B45B-1C3B4F6EC7D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84E-D9E6-4059-91ED-0871B9B9966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B2D-2EA6-44C0-A2EF-DAE3946CCF7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9577-C965-4FAC-8C81-CFDA58E9A0E5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83C2-9E23-4204-BECD-2167314F25D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AE5-82DF-428F-9A1A-9D291AC5EB2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1BF-A7F6-4042-9B3E-96CC73E532B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3A04-44EA-4544-8415-BBE13902AF0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412-A558-4383-BE6E-F1A28198D98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4DF-6D5A-4822-8874-9B611E70D19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EBC7-AE8D-49D9-BE26-E023327301D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EC0-B5BA-4CBA-8E2C-71CDE08085D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5E33-D81C-4109-9DD9-AE0BDCC1636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EEB-3398-45DF-AC16-D6D4C64425D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0F1-A046-453A-9F83-83B19B3369F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67E-609F-488E-A9AB-44BED7528F0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BB33-9977-4DAF-B29E-28CD03E9CE2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B19E-0EE4-4B75-A071-F8A02ADA9F2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E3E-3629-4A0A-BE01-8F7D43E140D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9FC9-33D9-4813-BDEF-88413011B63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7F8-AEDE-444E-9239-73E0114E3CB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60AD-4C7B-49C1-8F5D-79BA4DF6632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DC0-92D0-480B-B6B8-F7B193F1882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30E3-704E-4933-B706-1A413372DBE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36B-6CFD-4C17-9AEF-86081F81318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5D0-1D5B-4E50-8C73-1CCF3473DD3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Ас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h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t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r médi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са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m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ts 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lin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 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Fr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се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3f4e"/>
                </a:solidFill>
                <a:latin typeface="Century Gothic"/>
              </a:rPr>
              <a:t>https://naturelfrancemedecine.co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4" descr=""/>
          <p:cNvPicPr/>
          <p:nvPr/>
        </p:nvPicPr>
        <p:blipFill>
          <a:blip r:embed="rId1"/>
          <a:stretch/>
        </p:blipFill>
        <p:spPr>
          <a:xfrm>
            <a:off x="122400" y="122400"/>
            <a:ext cx="119473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95160" y="4292640"/>
            <a:ext cx="1060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entury Gothic"/>
              </a:rPr>
              <a:t>Vous recherchez des médicaments pour améliorer votre santé?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Placeholder 6" descr=""/>
          <p:cNvPicPr/>
          <p:nvPr/>
        </p:nvPicPr>
        <p:blipFill>
          <a:blip r:embed="rId1"/>
          <a:srcRect l="0" t="25626" r="0" b="25626"/>
          <a:stretch/>
        </p:blipFill>
        <p:spPr>
          <a:xfrm>
            <a:off x="0" y="0"/>
            <a:ext cx="12192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6040" y="250560"/>
            <a:ext cx="111744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Nous pouvons vous aider avec les meilleurs produit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6040" y="3083040"/>
            <a:ext cx="11174400" cy="37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Ne perdez pas de temps à être malade, commandez maintenant et éliminez les problèm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5" name="Picture Placeholder 5" descr=""/>
          <p:cNvPicPr/>
          <p:nvPr/>
        </p:nvPicPr>
        <p:blipFill>
          <a:blip r:embed="rId1"/>
          <a:srcRect l="0" t="28279" r="0" b="28279"/>
          <a:stretch/>
        </p:blipFill>
        <p:spPr>
          <a:xfrm>
            <a:off x="0" y="1249200"/>
            <a:ext cx="121921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5680" y="493560"/>
            <a:ext cx="5170680" cy="576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Rapide et efficace au prix le plus abordabl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4BA-BD09-477B-A2F5-17F9777B5B5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9" name="Picture Placeholder 5" descr=""/>
          <p:cNvPicPr/>
          <p:nvPr/>
        </p:nvPicPr>
        <p:blipFill>
          <a:blip r:embed="rId1"/>
          <a:srcRect l="25814" t="0" r="25814" b="0"/>
          <a:stretch/>
        </p:blipFill>
        <p:spPr>
          <a:xfrm>
            <a:off x="6299280" y="0"/>
            <a:ext cx="58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2357280" y="2563920"/>
            <a:ext cx="7353360" cy="3492360"/>
          </a:xfrm>
          <a:prstGeom prst="rect">
            <a:avLst/>
          </a:prstGeom>
          <a:ln w="0">
            <a:noFill/>
          </a:ln>
        </p:spPr>
      </p:pic>
      <p:sp>
        <p:nvSpPr>
          <p:cNvPr id="901" name="Title 9"/>
          <p:cNvSpPr/>
          <p:nvPr/>
        </p:nvSpPr>
        <p:spPr>
          <a:xfrm>
            <a:off x="538200" y="1047600"/>
            <a:ext cx="11174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Allez sur le site et voyez ce que nous pouvons faire pour vou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Recommandé par: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cteur Quеntin Вlаnс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3" name="TextBox 7">
            <a:hlinkClick r:id="rId1"/>
          </p:cNvPr>
          <p:cNvSpPr/>
          <p:nvPr/>
        </p:nvSpPr>
        <p:spPr>
          <a:xfrm>
            <a:off x="1547640" y="2459160"/>
            <a:ext cx="909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Century Gothic"/>
              </a:rPr>
              <a:t>https://www.facebook.com/quentin.blanc.391?ref=br_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Century Gothic"/>
              </a:rPr>
              <a:t>https://www.linkedin.com/in/quentin-blanc-323a5662/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Pour plus de détails allez sur le sit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5" name="TextBox 7">
            <a:hlinkClick r:id="rId1"/>
          </p:cNvPr>
          <p:cNvSpPr/>
          <p:nvPr/>
        </p:nvSpPr>
        <p:spPr>
          <a:xfrm>
            <a:off x="1547640" y="2459160"/>
            <a:ext cx="909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70c0"/>
                </a:solidFill>
                <a:uFillTx/>
                <a:latin typeface="Century Gothic"/>
              </a:rPr>
              <a:t>https://naturelfrancemedecine.com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4:45:12Z</dcterms:created>
  <dc:creator/>
  <dc:description/>
  <dc:language>en-US</dc:language>
  <cp:lastModifiedBy/>
  <dcterms:modified xsi:type="dcterms:W3CDTF">2018-09-26T05:13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