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83F-4270-4657-9335-5B9663D8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5CB-8D24-4667-B9ED-0FBF01A1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563-B3C4-4EC6-AE00-63CC84AA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31B-133A-49FB-B4B6-D0347947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F4C-66E6-48E6-ACB7-1D66BE9B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C29-9E2D-4C65-8819-9361C266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A26-775F-434C-A8DC-A57EBF7C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EC1-B1DA-4BB8-A02F-7B2FFA54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B72-253A-4811-9748-33417453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848-B556-4E5C-84E1-1D1630BD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632-6A03-4FA7-951C-F227FCE0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716-9D43-466D-B417-DB487FF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5F24A-B1DF-41B5-9E45-9F49BE260A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0C78F-2844-4FFD-92D5-09D27CA59B0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3:45:51Z</dcterms:created>
  <dc:creator>최봉수</dc:creator>
  <dc:description/>
  <dc:language>en-US</dc:language>
  <cp:lastModifiedBy>맛있다 군만두</cp:lastModifiedBy>
  <dcterms:modified xsi:type="dcterms:W3CDTF">2024-10-01T03:02:48Z</dcterms:modified>
  <cp:revision>3</cp:revision>
  <dc:subject/>
  <dc:title>슬라이드 1</dc:title>
</cp:coreProperties>
</file>