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2A2F-0916-49A2-9378-7C1F833FB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4EB3-A4A5-4062-B8C8-53FBC270E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B4DB-1B49-469B-942E-077568BCD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DBE7-60C3-4F01-BA9C-25B7DD430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C1D7-9452-4D28-948A-C0078787F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0A27-DA4A-4612-BCC9-032EC4035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5CC9-73FD-4BF5-A197-223097F9E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9667-9652-4DEB-BAF5-F37D40619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9D9F-5836-4898-AD28-53EC74555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8CC4-34F0-4907-9714-C4E78F084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C233-0D5C-4A76-8B5D-4F0E16ED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FCD3-0F45-4195-B102-B9EB1F55B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2FECF4-4DEA-4358-840B-4164FFD5745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3201E6-4E70-4947-A7D3-1862C0F4583C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0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1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14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7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20" name="Picture 12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4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7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30" name="Picture 12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13:45:51Z</dcterms:created>
  <dc:creator>최봉수</dc:creator>
  <dc:description/>
  <dc:language>en-US</dc:language>
  <cp:lastModifiedBy>맛있다 군만두</cp:lastModifiedBy>
  <dcterms:modified xsi:type="dcterms:W3CDTF">2024-10-01T03:02:48Z</dcterms:modified>
  <cp:revision>3</cp:revision>
  <dc:subject/>
  <dc:title>슬라이드 1</dc:title>
</cp:coreProperties>
</file>