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8127000" y="6411960"/>
            <a:ext cx="909000" cy="379440"/>
            <a:chOff x="8127000" y="6411960"/>
            <a:chExt cx="909000" cy="379440"/>
          </a:xfrm>
        </p:grpSpPr>
        <p:sp>
          <p:nvSpPr>
            <p:cNvPr id="2" name="">
              <a:hlinkClick r:id="" action="ppaction://hlinkshowjump?jump=endshow"/>
            </p:cNvPr>
            <p:cNvSpPr/>
            <p:nvPr/>
          </p:nvSpPr>
          <p:spPr>
            <a:xfrm>
              <a:off x="8675640" y="643104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>
              <a:hlinkClick r:id="" action="ppaction://hlinkshowjump?jump=endshow"/>
            </p:cNvPr>
            <p:cNvSpPr/>
            <p:nvPr/>
          </p:nvSpPr>
          <p:spPr>
            <a:xfrm>
              <a:off x="8127000" y="6411960"/>
              <a:ext cx="5860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08000" y="6431040"/>
            <a:ext cx="999720" cy="360360"/>
            <a:chOff x="108000" y="6431040"/>
            <a:chExt cx="999720" cy="360360"/>
          </a:xfrm>
        </p:grpSpPr>
        <p:sp>
          <p:nvSpPr>
            <p:cNvPr id="5" name="">
              <a:hlinkClick r:id="" action="ppaction://hlinkshowjump?jump=firstslide"/>
            </p:cNvPr>
            <p:cNvSpPr/>
            <p:nvPr/>
          </p:nvSpPr>
          <p:spPr>
            <a:xfrm>
              <a:off x="108000" y="643104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0800" y="3837"/>
                  </a:moveTo>
                  <a:lnTo>
                    <a:pt x="13376" y="6448"/>
                  </a:ln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lnTo>
                    <a:pt x="17763" y="10800"/>
                  </a:lnTo>
                  <a:lnTo>
                    <a:pt x="16109" y="10800"/>
                  </a:lnTo>
                  <a:lnTo>
                    <a:pt x="16109" y="17989"/>
                  </a:lnTo>
                  <a:lnTo>
                    <a:pt x="5491" y="17989"/>
                  </a:lnTo>
                  <a:lnTo>
                    <a:pt x="5491" y="10800"/>
                  </a:lnTo>
                  <a:lnTo>
                    <a:pt x="3837" y="10800"/>
                  </a:lnTo>
                  <a:close/>
                </a:path>
                <a:path fill="darkenLess" w="21600" h="21600">
                  <a:moveTo>
                    <a:pt x="13376" y="6448"/>
                  </a:move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close/>
                </a:path>
                <a:path fill="darkenLess" w="21600" h="21600">
                  <a:moveTo>
                    <a:pt x="9877" y="14299"/>
                  </a:moveTo>
                  <a:lnTo>
                    <a:pt x="11723" y="14299"/>
                  </a:lnTo>
                  <a:lnTo>
                    <a:pt x="11723" y="17989"/>
                  </a:lnTo>
                  <a:lnTo>
                    <a:pt x="16109" y="17989"/>
                  </a:lnTo>
                  <a:lnTo>
                    <a:pt x="16109" y="10800"/>
                  </a:lnTo>
                  <a:lnTo>
                    <a:pt x="5491" y="10800"/>
                  </a:lnTo>
                  <a:lnTo>
                    <a:pt x="5491" y="17989"/>
                  </a:lnTo>
                  <a:lnTo>
                    <a:pt x="9877" y="17989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>
              <a:hlinkClick r:id="" action="ppaction://hlinkshowjump?jump=firstslide"/>
            </p:cNvPr>
            <p:cNvSpPr/>
            <p:nvPr/>
          </p:nvSpPr>
          <p:spPr>
            <a:xfrm>
              <a:off x="396720" y="6453360"/>
              <a:ext cx="7110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Arial"/>
                </a:rPr>
                <a:t>Vol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490200" y="6647040"/>
            <a:ext cx="21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Arial"/>
              </a:rPr>
              <a:t>Elaborado por: Mamã Sofia Paç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ndy"/>
              </a:rPr>
              <a:t>Click to edit the title text format</a:t>
            </a:r>
            <a:endParaRPr b="1" lang="en-US" sz="4400" spc="-1" strike="noStrike">
              <a:solidFill>
                <a:srgbClr val="80008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nd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499"/>
              </a:spcBef>
              <a:buClr>
                <a:srgbClr val="cc0066"/>
              </a:buClr>
              <a:buFont typeface="Andy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499"/>
              </a:spcBef>
              <a:buClr>
                <a:srgbClr val="cc0066"/>
              </a:buClr>
              <a:buFont typeface="Andy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1197000"/>
            <a:ext cx="619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BRINC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8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32000" y="3429000"/>
            <a:ext cx="68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COM AS VOGAIS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900000" y="981000"/>
            <a:ext cx="770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3280" t="49198" r="16602" b="19291"/>
          <a:stretch/>
        </p:blipFill>
        <p:spPr>
          <a:xfrm>
            <a:off x="1152360" y="3284640"/>
            <a:ext cx="683928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28200" y="467028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Observa b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2492280"/>
            <a:ext cx="3960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empus Sans ITC"/>
              </a:rPr>
              <a:t>A figura seleccionada não é a cor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1403280" y="1484280"/>
            <a:ext cx="6840720" cy="446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3280" t="50197" r="16211" b="19296"/>
          <a:stretch/>
        </p:blipFill>
        <p:spPr>
          <a:xfrm>
            <a:off x="1133640" y="3357720"/>
            <a:ext cx="6876720" cy="223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4067280" y="3860640"/>
            <a:ext cx="1152360" cy="1152720"/>
          </a:xfrm>
          <a:custGeom>
            <a:avLst/>
            <a:gdLst/>
            <a:ahLst/>
            <a:rect l="l" t="t" r="r" b="b"/>
            <a:pathLst>
              <a:path w="726" h="726">
                <a:moveTo>
                  <a:pt x="0" y="91"/>
                </a:moveTo>
                <a:lnTo>
                  <a:pt x="0" y="454"/>
                </a:lnTo>
                <a:lnTo>
                  <a:pt x="0" y="635"/>
                </a:lnTo>
                <a:lnTo>
                  <a:pt x="137" y="726"/>
                </a:lnTo>
                <a:lnTo>
                  <a:pt x="363" y="726"/>
                </a:lnTo>
                <a:lnTo>
                  <a:pt x="499" y="681"/>
                </a:lnTo>
                <a:lnTo>
                  <a:pt x="681" y="635"/>
                </a:lnTo>
                <a:lnTo>
                  <a:pt x="726" y="499"/>
                </a:lnTo>
                <a:lnTo>
                  <a:pt x="726" y="272"/>
                </a:lnTo>
                <a:lnTo>
                  <a:pt x="636" y="46"/>
                </a:lnTo>
                <a:lnTo>
                  <a:pt x="454" y="0"/>
                </a:lnTo>
                <a:lnTo>
                  <a:pt x="182" y="0"/>
                </a:lnTo>
                <a:lnTo>
                  <a:pt x="0" y="136"/>
                </a:lnTo>
                <a:lnTo>
                  <a:pt x="0" y="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5364000" y="3860640"/>
            <a:ext cx="792360" cy="1081080"/>
          </a:xfrm>
          <a:custGeom>
            <a:avLst/>
            <a:gdLst/>
            <a:ahLst/>
            <a:rect l="l" t="t" r="r" b="b"/>
            <a:pathLst>
              <a:path w="499" h="681">
                <a:moveTo>
                  <a:pt x="45" y="0"/>
                </a:moveTo>
                <a:lnTo>
                  <a:pt x="0" y="182"/>
                </a:lnTo>
                <a:lnTo>
                  <a:pt x="0" y="363"/>
                </a:lnTo>
                <a:lnTo>
                  <a:pt x="0" y="499"/>
                </a:lnTo>
                <a:lnTo>
                  <a:pt x="45" y="681"/>
                </a:lnTo>
                <a:lnTo>
                  <a:pt x="272" y="681"/>
                </a:lnTo>
                <a:lnTo>
                  <a:pt x="499" y="635"/>
                </a:lnTo>
                <a:lnTo>
                  <a:pt x="499" y="454"/>
                </a:lnTo>
                <a:lnTo>
                  <a:pt x="499" y="318"/>
                </a:lnTo>
                <a:lnTo>
                  <a:pt x="454" y="91"/>
                </a:lnTo>
                <a:lnTo>
                  <a:pt x="317" y="0"/>
                </a:lnTo>
                <a:lnTo>
                  <a:pt x="45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3933720"/>
            <a:ext cx="1008000" cy="93528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226"/>
                </a:moveTo>
                <a:lnTo>
                  <a:pt x="136" y="45"/>
                </a:lnTo>
                <a:lnTo>
                  <a:pt x="272" y="0"/>
                </a:lnTo>
                <a:lnTo>
                  <a:pt x="454" y="0"/>
                </a:lnTo>
                <a:lnTo>
                  <a:pt x="544" y="45"/>
                </a:lnTo>
                <a:lnTo>
                  <a:pt x="635" y="181"/>
                </a:lnTo>
                <a:lnTo>
                  <a:pt x="590" y="272"/>
                </a:lnTo>
                <a:lnTo>
                  <a:pt x="635" y="408"/>
                </a:lnTo>
                <a:lnTo>
                  <a:pt x="635" y="498"/>
                </a:lnTo>
                <a:lnTo>
                  <a:pt x="499" y="544"/>
                </a:lnTo>
                <a:lnTo>
                  <a:pt x="227" y="589"/>
                </a:lnTo>
                <a:lnTo>
                  <a:pt x="181" y="498"/>
                </a:lnTo>
                <a:lnTo>
                  <a:pt x="0" y="453"/>
                </a:lnTo>
                <a:lnTo>
                  <a:pt x="45" y="226"/>
                </a:lnTo>
                <a:lnTo>
                  <a:pt x="0" y="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3280" t="50197" r="16211" b="19296"/>
          <a:stretch/>
        </p:blipFill>
        <p:spPr>
          <a:xfrm>
            <a:off x="1133640" y="3357720"/>
            <a:ext cx="687672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3520" y="4670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Contin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0000" y="3213000"/>
            <a:ext cx="236160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Bauhaus 93"/>
              </a:rPr>
              <a:t>O</a:t>
            </a:r>
            <a:r>
              <a:rPr b="0" lang="en-US" sz="6000" spc="-1" strike="noStrike">
                <a:solidFill>
                  <a:srgbClr val="ff6600"/>
                </a:solidFill>
                <a:latin typeface="Berlin Sans FB"/>
              </a:rPr>
              <a:t>lh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4288" t="41344" r="40952" b="38976"/>
          <a:stretch/>
        </p:blipFill>
        <p:spPr>
          <a:xfrm>
            <a:off x="4572000" y="234936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4211640" y="4581360"/>
            <a:ext cx="34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203800">
            <a:off x="775080" y="588600"/>
            <a:ext cx="309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Está cer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332800">
            <a:off x="282240" y="764640"/>
            <a:ext cx="10602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13280" t="50197" r="16211" b="19296"/>
          <a:stretch/>
        </p:blipFill>
        <p:spPr>
          <a:xfrm>
            <a:off x="1133640" y="3357720"/>
            <a:ext cx="6876720" cy="223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28200" y="467028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Observa b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2492280"/>
            <a:ext cx="3960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empus Sans ITC"/>
              </a:rPr>
              <a:t>A figura seleccionada não é a cor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403280" y="1484280"/>
            <a:ext cx="6840720" cy="446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13299" t="50197" r="16569" b="19296"/>
          <a:stretch/>
        </p:blipFill>
        <p:spPr>
          <a:xfrm>
            <a:off x="1187280" y="3284640"/>
            <a:ext cx="6840720" cy="223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3860640"/>
            <a:ext cx="1152360" cy="1224000"/>
          </a:xfrm>
          <a:custGeom>
            <a:avLst/>
            <a:gdLst/>
            <a:ahLst/>
            <a:rect l="l" t="t" r="r" b="b"/>
            <a:pathLst>
              <a:path w="726" h="771">
                <a:moveTo>
                  <a:pt x="0" y="46"/>
                </a:moveTo>
                <a:lnTo>
                  <a:pt x="0" y="544"/>
                </a:lnTo>
                <a:lnTo>
                  <a:pt x="409" y="771"/>
                </a:lnTo>
                <a:lnTo>
                  <a:pt x="636" y="681"/>
                </a:lnTo>
                <a:lnTo>
                  <a:pt x="681" y="454"/>
                </a:lnTo>
                <a:lnTo>
                  <a:pt x="726" y="318"/>
                </a:lnTo>
                <a:lnTo>
                  <a:pt x="726" y="0"/>
                </a:lnTo>
                <a:lnTo>
                  <a:pt x="363" y="0"/>
                </a:lnTo>
                <a:lnTo>
                  <a:pt x="0" y="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860640"/>
            <a:ext cx="863640" cy="1008360"/>
          </a:xfrm>
          <a:custGeom>
            <a:avLst/>
            <a:gdLst/>
            <a:ahLst/>
            <a:rect l="l" t="t" r="r" b="b"/>
            <a:pathLst>
              <a:path w="544" h="635">
                <a:moveTo>
                  <a:pt x="45" y="46"/>
                </a:moveTo>
                <a:lnTo>
                  <a:pt x="0" y="318"/>
                </a:lnTo>
                <a:lnTo>
                  <a:pt x="45" y="635"/>
                </a:lnTo>
                <a:lnTo>
                  <a:pt x="499" y="590"/>
                </a:lnTo>
                <a:lnTo>
                  <a:pt x="544" y="318"/>
                </a:lnTo>
                <a:lnTo>
                  <a:pt x="544" y="0"/>
                </a:lnTo>
                <a:lnTo>
                  <a:pt x="45" y="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3933720"/>
            <a:ext cx="1008000" cy="93528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0"/>
                </a:moveTo>
                <a:lnTo>
                  <a:pt x="0" y="498"/>
                </a:lnTo>
                <a:lnTo>
                  <a:pt x="227" y="589"/>
                </a:lnTo>
                <a:lnTo>
                  <a:pt x="363" y="589"/>
                </a:lnTo>
                <a:lnTo>
                  <a:pt x="454" y="498"/>
                </a:lnTo>
                <a:lnTo>
                  <a:pt x="635" y="453"/>
                </a:lnTo>
                <a:lnTo>
                  <a:pt x="635" y="136"/>
                </a:lnTo>
                <a:lnTo>
                  <a:pt x="545" y="45"/>
                </a:lnTo>
                <a:lnTo>
                  <a:pt x="363" y="0"/>
                </a:lnTo>
                <a:lnTo>
                  <a:pt x="91" y="4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13299" t="50197" r="16569" b="19296"/>
          <a:stretch/>
        </p:blipFill>
        <p:spPr>
          <a:xfrm>
            <a:off x="1187280" y="3284640"/>
            <a:ext cx="6840720" cy="223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63520" y="4670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Contin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6640" y="3213000"/>
            <a:ext cx="197928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Bauhaus 93"/>
              </a:rPr>
              <a:t>U</a:t>
            </a:r>
            <a:r>
              <a:rPr b="0" lang="en-US" sz="6000" spc="-1" strike="noStrike">
                <a:solidFill>
                  <a:srgbClr val="ff6600"/>
                </a:solidFill>
                <a:latin typeface="Berlin Sans FB"/>
              </a:rPr>
              <a:t>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43930" t="43317" r="39829" b="37977"/>
          <a:stretch/>
        </p:blipFill>
        <p:spPr>
          <a:xfrm>
            <a:off x="4427640" y="242100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rot="20203800">
            <a:off x="775080" y="588600"/>
            <a:ext cx="309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Está cer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332800">
            <a:off x="282240" y="764640"/>
            <a:ext cx="10602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211640" y="4581360"/>
            <a:ext cx="34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3299" t="50197" r="16569" b="19296"/>
          <a:stretch/>
        </p:blipFill>
        <p:spPr>
          <a:xfrm>
            <a:off x="1187280" y="3284640"/>
            <a:ext cx="6840720" cy="223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28200" y="467028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Observa b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492280"/>
            <a:ext cx="3960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empus Sans ITC"/>
              </a:rPr>
              <a:t>A figura seleccionada não é a cor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1403280" y="1484280"/>
            <a:ext cx="6840720" cy="446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476360" y="1484280"/>
            <a:ext cx="619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8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BOA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8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978200" y="364500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99ff">
                    <a:alpha val="90000"/>
                  </a:srgbClr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Terminaste</a:t>
            </a:r>
            <a:endParaRPr b="1" lang="en-US" sz="1800" spc="1" strike="noStrike">
              <a:ln w="0">
                <a:noFill/>
              </a:ln>
              <a:solidFill>
                <a:srgbClr val="6699ff">
                  <a:alpha val="90000"/>
                </a:srgbClr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4029" t="50221" r="16569" b="20246"/>
          <a:stretch/>
        </p:blipFill>
        <p:spPr>
          <a:xfrm>
            <a:off x="1187280" y="3429000"/>
            <a:ext cx="67694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5214960" y="3860640"/>
            <a:ext cx="1179360" cy="1297080"/>
          </a:xfrm>
          <a:custGeom>
            <a:avLst/>
            <a:gdLst/>
            <a:ahLst/>
            <a:rect l="l" t="t" r="r" b="b"/>
            <a:pathLst>
              <a:path w="816" h="817">
                <a:moveTo>
                  <a:pt x="45" y="91"/>
                </a:moveTo>
                <a:lnTo>
                  <a:pt x="680" y="0"/>
                </a:lnTo>
                <a:lnTo>
                  <a:pt x="771" y="227"/>
                </a:lnTo>
                <a:lnTo>
                  <a:pt x="816" y="363"/>
                </a:lnTo>
                <a:lnTo>
                  <a:pt x="680" y="544"/>
                </a:lnTo>
                <a:lnTo>
                  <a:pt x="680" y="771"/>
                </a:lnTo>
                <a:lnTo>
                  <a:pt x="363" y="817"/>
                </a:lnTo>
                <a:lnTo>
                  <a:pt x="272" y="635"/>
                </a:lnTo>
                <a:lnTo>
                  <a:pt x="0" y="635"/>
                </a:lnTo>
                <a:lnTo>
                  <a:pt x="0" y="182"/>
                </a:lnTo>
                <a:lnTo>
                  <a:pt x="45" y="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995640" y="4076640"/>
            <a:ext cx="1152720" cy="936720"/>
          </a:xfrm>
          <a:custGeom>
            <a:avLst/>
            <a:gdLst/>
            <a:ahLst/>
            <a:rect l="l" t="t" r="r" b="b"/>
            <a:pathLst>
              <a:path w="726" h="590">
                <a:moveTo>
                  <a:pt x="0" y="0"/>
                </a:moveTo>
                <a:lnTo>
                  <a:pt x="635" y="46"/>
                </a:lnTo>
                <a:lnTo>
                  <a:pt x="681" y="182"/>
                </a:lnTo>
                <a:lnTo>
                  <a:pt x="726" y="318"/>
                </a:lnTo>
                <a:lnTo>
                  <a:pt x="590" y="545"/>
                </a:lnTo>
                <a:lnTo>
                  <a:pt x="272" y="590"/>
                </a:lnTo>
                <a:lnTo>
                  <a:pt x="0" y="36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372360" y="3933720"/>
            <a:ext cx="1224000" cy="1079640"/>
          </a:xfrm>
          <a:custGeom>
            <a:avLst/>
            <a:gdLst/>
            <a:ahLst/>
            <a:rect l="l" t="t" r="r" b="b"/>
            <a:pathLst>
              <a:path w="771" h="680">
                <a:moveTo>
                  <a:pt x="91" y="0"/>
                </a:moveTo>
                <a:lnTo>
                  <a:pt x="45" y="272"/>
                </a:lnTo>
                <a:lnTo>
                  <a:pt x="45" y="362"/>
                </a:lnTo>
                <a:lnTo>
                  <a:pt x="0" y="498"/>
                </a:lnTo>
                <a:lnTo>
                  <a:pt x="318" y="680"/>
                </a:lnTo>
                <a:lnTo>
                  <a:pt x="771" y="680"/>
                </a:lnTo>
                <a:lnTo>
                  <a:pt x="771" y="181"/>
                </a:lnTo>
                <a:lnTo>
                  <a:pt x="590" y="45"/>
                </a:lnTo>
                <a:lnTo>
                  <a:pt x="9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4029" t="50221" r="16569" b="20246"/>
          <a:stretch/>
        </p:blipFill>
        <p:spPr>
          <a:xfrm>
            <a:off x="1187280" y="3429000"/>
            <a:ext cx="676944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57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63520" y="4670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Contin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43362" t="41954" r="38933" b="38371"/>
          <a:stretch/>
        </p:blipFill>
        <p:spPr>
          <a:xfrm>
            <a:off x="4067280" y="2276640"/>
            <a:ext cx="1584360" cy="1320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15800" y="3213000"/>
            <a:ext cx="303516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Bauhaus 93"/>
              </a:rPr>
              <a:t>A</a:t>
            </a:r>
            <a:r>
              <a:rPr b="0" lang="en-US" sz="6000" spc="-1" strike="noStrike">
                <a:solidFill>
                  <a:srgbClr val="ff6600"/>
                </a:solidFill>
                <a:latin typeface="Berlin Sans FB"/>
              </a:rPr>
              <a:t>belh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4211640" y="4581360"/>
            <a:ext cx="34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203800">
            <a:off x="775080" y="588600"/>
            <a:ext cx="309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Está cer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332800">
            <a:off x="282240" y="764640"/>
            <a:ext cx="10602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4029" t="50221" r="16569" b="20246"/>
          <a:stretch/>
        </p:blipFill>
        <p:spPr>
          <a:xfrm>
            <a:off x="1187280" y="3429000"/>
            <a:ext cx="6769440" cy="216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28200" y="467028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Observa b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2492280"/>
            <a:ext cx="3960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empus Sans ITC"/>
              </a:rPr>
              <a:t>A figura seleccionada não é a cor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1403280" y="1484280"/>
            <a:ext cx="6840720" cy="446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2907" t="50005" r="15480" b="18489"/>
          <a:stretch/>
        </p:blipFill>
        <p:spPr>
          <a:xfrm>
            <a:off x="1079640" y="3213000"/>
            <a:ext cx="6984720" cy="2305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3645000"/>
            <a:ext cx="1008000" cy="1224000"/>
          </a:xfrm>
          <a:custGeom>
            <a:avLst/>
            <a:gdLst/>
            <a:ahLst/>
            <a:rect l="l" t="t" r="r" b="b"/>
            <a:pathLst>
              <a:path w="635" h="771">
                <a:moveTo>
                  <a:pt x="0" y="91"/>
                </a:moveTo>
                <a:lnTo>
                  <a:pt x="46" y="363"/>
                </a:lnTo>
                <a:lnTo>
                  <a:pt x="91" y="499"/>
                </a:lnTo>
                <a:lnTo>
                  <a:pt x="91" y="771"/>
                </a:lnTo>
                <a:lnTo>
                  <a:pt x="635" y="726"/>
                </a:lnTo>
                <a:lnTo>
                  <a:pt x="635" y="499"/>
                </a:lnTo>
                <a:lnTo>
                  <a:pt x="635" y="136"/>
                </a:lnTo>
                <a:lnTo>
                  <a:pt x="590" y="0"/>
                </a:lnTo>
                <a:lnTo>
                  <a:pt x="0" y="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3573360"/>
            <a:ext cx="1368360" cy="1295640"/>
          </a:xfrm>
          <a:custGeom>
            <a:avLst/>
            <a:gdLst/>
            <a:ahLst/>
            <a:rect l="l" t="t" r="r" b="b"/>
            <a:pathLst>
              <a:path w="862" h="816">
                <a:moveTo>
                  <a:pt x="817" y="45"/>
                </a:moveTo>
                <a:lnTo>
                  <a:pt x="862" y="408"/>
                </a:lnTo>
                <a:lnTo>
                  <a:pt x="680" y="635"/>
                </a:lnTo>
                <a:lnTo>
                  <a:pt x="318" y="816"/>
                </a:lnTo>
                <a:lnTo>
                  <a:pt x="45" y="725"/>
                </a:lnTo>
                <a:lnTo>
                  <a:pt x="0" y="499"/>
                </a:lnTo>
                <a:lnTo>
                  <a:pt x="318" y="408"/>
                </a:lnTo>
                <a:lnTo>
                  <a:pt x="318" y="227"/>
                </a:lnTo>
                <a:lnTo>
                  <a:pt x="635" y="0"/>
                </a:lnTo>
                <a:lnTo>
                  <a:pt x="817" y="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3716280"/>
            <a:ext cx="1008000" cy="1152720"/>
          </a:xfrm>
          <a:custGeom>
            <a:avLst/>
            <a:gdLst/>
            <a:ahLst/>
            <a:rect l="l" t="t" r="r" b="b"/>
            <a:pathLst>
              <a:path w="635" h="726">
                <a:moveTo>
                  <a:pt x="0" y="0"/>
                </a:moveTo>
                <a:lnTo>
                  <a:pt x="0" y="726"/>
                </a:lnTo>
                <a:lnTo>
                  <a:pt x="635" y="635"/>
                </a:lnTo>
                <a:lnTo>
                  <a:pt x="545" y="91"/>
                </a:lnTo>
                <a:lnTo>
                  <a:pt x="363" y="0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2907" t="50005" r="15480" b="18489"/>
          <a:stretch/>
        </p:blipFill>
        <p:spPr>
          <a:xfrm>
            <a:off x="1079640" y="3213000"/>
            <a:ext cx="698472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63520" y="4670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Contin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3213000"/>
            <a:ext cx="294084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Bauhaus 93"/>
              </a:rPr>
              <a:t>E</a:t>
            </a:r>
            <a:r>
              <a:rPr b="0" lang="en-US" sz="6000" spc="-1" strike="noStrike">
                <a:solidFill>
                  <a:srgbClr val="ff6600"/>
                </a:solidFill>
                <a:latin typeface="Berlin Sans FB"/>
              </a:rPr>
              <a:t>stre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44661" t="42318" r="42044" b="39956"/>
          <a:stretch/>
        </p:blipFill>
        <p:spPr>
          <a:xfrm>
            <a:off x="4427640" y="242100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211640" y="4581360"/>
            <a:ext cx="34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203800">
            <a:off x="775080" y="588600"/>
            <a:ext cx="309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Está cer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332800">
            <a:off x="282240" y="764640"/>
            <a:ext cx="10602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12907" t="50005" r="15480" b="18489"/>
          <a:stretch/>
        </p:blipFill>
        <p:spPr>
          <a:xfrm>
            <a:off x="1079640" y="3213000"/>
            <a:ext cx="6984720" cy="230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8200" y="467028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Observa b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2492280"/>
            <a:ext cx="39607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empus Sans ITC"/>
              </a:rPr>
              <a:t>A figura seleccionada não é a cor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1403280" y="1484280"/>
            <a:ext cx="6840720" cy="446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3280" t="49198" r="16602" b="19291"/>
          <a:stretch/>
        </p:blipFill>
        <p:spPr>
          <a:xfrm>
            <a:off x="1152360" y="3284640"/>
            <a:ext cx="683928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860640"/>
            <a:ext cx="1297080" cy="1224000"/>
          </a:xfrm>
          <a:custGeom>
            <a:avLst/>
            <a:gdLst/>
            <a:ahLst/>
            <a:rect l="l" t="t" r="r" b="b"/>
            <a:pathLst>
              <a:path w="817" h="771">
                <a:moveTo>
                  <a:pt x="0" y="46"/>
                </a:moveTo>
                <a:lnTo>
                  <a:pt x="0" y="771"/>
                </a:lnTo>
                <a:lnTo>
                  <a:pt x="817" y="726"/>
                </a:lnTo>
                <a:lnTo>
                  <a:pt x="771" y="0"/>
                </a:lnTo>
                <a:lnTo>
                  <a:pt x="0" y="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933720"/>
            <a:ext cx="1008000" cy="10080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635" y="45"/>
                </a:moveTo>
                <a:lnTo>
                  <a:pt x="635" y="635"/>
                </a:lnTo>
                <a:lnTo>
                  <a:pt x="90" y="635"/>
                </a:lnTo>
                <a:lnTo>
                  <a:pt x="136" y="362"/>
                </a:lnTo>
                <a:lnTo>
                  <a:pt x="0" y="408"/>
                </a:lnTo>
                <a:lnTo>
                  <a:pt x="45" y="0"/>
                </a:lnTo>
                <a:lnTo>
                  <a:pt x="362" y="90"/>
                </a:lnTo>
                <a:lnTo>
                  <a:pt x="635" y="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3860640"/>
            <a:ext cx="1152360" cy="1081080"/>
          </a:xfrm>
          <a:custGeom>
            <a:avLst/>
            <a:gdLst/>
            <a:ahLst/>
            <a:rect l="l" t="t" r="r" b="b"/>
            <a:pathLst>
              <a:path w="726" h="681">
                <a:moveTo>
                  <a:pt x="91" y="46"/>
                </a:moveTo>
                <a:lnTo>
                  <a:pt x="91" y="408"/>
                </a:lnTo>
                <a:lnTo>
                  <a:pt x="0" y="454"/>
                </a:lnTo>
                <a:lnTo>
                  <a:pt x="91" y="635"/>
                </a:lnTo>
                <a:lnTo>
                  <a:pt x="318" y="681"/>
                </a:lnTo>
                <a:lnTo>
                  <a:pt x="635" y="635"/>
                </a:lnTo>
                <a:lnTo>
                  <a:pt x="726" y="318"/>
                </a:lnTo>
                <a:lnTo>
                  <a:pt x="635" y="318"/>
                </a:lnTo>
                <a:lnTo>
                  <a:pt x="590" y="91"/>
                </a:lnTo>
                <a:lnTo>
                  <a:pt x="499" y="0"/>
                </a:lnTo>
                <a:lnTo>
                  <a:pt x="227" y="0"/>
                </a:lnTo>
                <a:lnTo>
                  <a:pt x="91" y="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13280" t="49198" r="16602" b="19291"/>
          <a:stretch/>
        </p:blipFill>
        <p:spPr>
          <a:xfrm>
            <a:off x="1152360" y="3284640"/>
            <a:ext cx="6839280" cy="230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1430800">
            <a:off x="626040" y="2489040"/>
            <a:ext cx="79012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dbecfe"/>
              </a:gs>
              <a:gs pos="100000">
                <a:srgbClr val="99ccff"/>
              </a:gs>
            </a:gsLst>
            <a:lin ang="5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radley Hand ITC"/>
              </a:rPr>
              <a:t>Qual de estes elementos começa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32120" y="1052640"/>
            <a:ext cx="525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>
                        <a:alpha val="60392"/>
                      </a:srgbClr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radley Hand ITC"/>
              </a:rPr>
              <a:t>VOGA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>
                      <a:alpha val="60392"/>
                    </a:srgbClr>
                  </a:gs>
                  <a:gs pos="100000">
                    <a:srgbClr val="ff3399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989000"/>
            <a:ext cx="5977080" cy="3168720"/>
          </a:xfrm>
          <a:prstGeom prst="flowChartMagneticTape">
            <a:avLst/>
          </a:prstGeom>
          <a:solidFill>
            <a:srgbClr val="99ccff">
              <a:alpha val="95000"/>
            </a:srgbClr>
          </a:solidFill>
          <a:ln w="7632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63520" y="4670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Contin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26240" y="4780080"/>
            <a:ext cx="654120" cy="287280"/>
          </a:xfrm>
          <a:prstGeom prst="rightArrow">
            <a:avLst>
              <a:gd name="adj1" fmla="val 48019"/>
              <a:gd name="adj2" fmla="val 132084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916000" y="4652640"/>
            <a:ext cx="3733560" cy="334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8000" y="3213000"/>
            <a:ext cx="173232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6600"/>
                </a:solidFill>
                <a:latin typeface="Bauhaus 93"/>
              </a:rPr>
              <a:t>I</a:t>
            </a:r>
            <a:r>
              <a:rPr b="0" lang="en-US" sz="6000" spc="-1" strike="noStrike">
                <a:solidFill>
                  <a:srgbClr val="ff6600"/>
                </a:solidFill>
                <a:latin typeface="Berlin Sans FB"/>
              </a:rPr>
              <a:t>lh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43557" t="43317" r="38722" b="38976"/>
          <a:stretch/>
        </p:blipFill>
        <p:spPr>
          <a:xfrm>
            <a:off x="4356000" y="2421000"/>
            <a:ext cx="1728720" cy="12952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4211640" y="4581360"/>
            <a:ext cx="34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03800">
            <a:off x="775080" y="588600"/>
            <a:ext cx="309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Arial"/>
              </a:rPr>
              <a:t>Está cer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332800">
            <a:off x="282240" y="764640"/>
            <a:ext cx="10602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Wingdings 2"/>
                <a:ea typeface="Wingdings 2"/>
              </a:rPr>
              <a:t>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18:10Z</dcterms:created>
  <dc:creator>iies-consultor590</dc:creator>
  <dc:description/>
  <dc:language>en-US</dc:language>
  <cp:lastModifiedBy>iies-consultor590</cp:lastModifiedBy>
  <dcterms:modified xsi:type="dcterms:W3CDTF">2008-05-20T14:31:37Z</dcterms:modified>
  <cp:revision>11</cp:revision>
  <dc:subject/>
  <dc:title>Diapositivo 1</dc:title>
</cp:coreProperties>
</file>