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1618-9EF2-4BF0-BA71-648AAE7798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Etat est maître d’ouvrage car la route est nationale, et la desserte du pôle Euralille-gare TGV est d’intérêt 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partenaires financiers sont associés aux décisions mais sans action dans l’organisation des études et travaux et dans l’attribution du march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génierie pour compte propre : le maître d’ouvrage possède un service intégré qui peut assurer la maîtrise d’œuv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680D-2EBB-471A-8468-E5305619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594E-93FB-4A22-9D75-65339E4C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29097-B991-4D5F-A562-9F89C223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1502-ED3E-4946-BF76-AD1CB0F0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3A90-8653-4D4C-8260-8092595A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B32E-CD40-49DE-948A-7B579188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AEDD-E903-46E4-B6F6-30593808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0BFD-3467-495B-AF88-84389CE8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90D9-6C6B-4659-A350-63773FA0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EE06-813E-4166-B7D1-2C9A5FD8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AE3B-B35F-4268-B1D3-119F7999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4624-8600-485E-921C-B7D08761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7A96-4CDE-4DDF-8518-A08F922B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89D2-5BDD-4781-B3D6-5502A7EF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FC67-671A-47B8-B71E-C8C66B09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B6BD-AF89-4DC8-8361-AFF7E8B8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AE0E-BA34-47FD-B7E1-21532FE0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27AB-7698-4526-A8C2-082A21EC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5643-EE85-4999-9659-29FE69AA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61520-0096-464E-9DEB-73D336AB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D6F2E-B588-442A-B85C-93C3761E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D13D5-D75F-4053-930C-238C2794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51061-143B-43B7-82F9-145406AC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8269-B61C-4510-AB2F-FA662998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53BA-DE13-409A-AD08-C1D251602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5139-E6B3-4B18-951C-CE7171D45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0-29.com/?go=budge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PERIPHERIQUE DE PAR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ou Frédé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r Den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S ACTEUR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600200"/>
          <a:ext cx="6096240" cy="4851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aître d’ouv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l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seil de Par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État, Ville, Rég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aître d’œuv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de la Voir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rava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ps d’Etat sépar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IS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30481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îtrise d’ouvrage et fin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ître d’ouvrage: Conseil de 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ement: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nt 196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É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à partir de 196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 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 É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% Ré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03640" y="4005360"/>
          <a:ext cx="3795840" cy="25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4005360"/>
                    <a:ext cx="379584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au de fin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19280" y="1828800"/>
          <a:ext cx="4105440" cy="40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9280" y="1828800"/>
                    <a:ext cx="410544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îtrise d’œuvre et étud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conseil de Paris a désigné la Direction de la Voirie Parisienne comme maître d’œuvre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pendant d’autres maîtres d’œuvre peuvent être appelés occasionnellement comme les bureau d’étude de la SNCF ou d’EDF-GD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Toute la conception est réalisée par le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éalisation des trav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aux ont été réalisés par corps de métier sépar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 de regroupement pour répondre aux appels d’off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une multitude d’entreprises ont participé au projet dans 10 catégories de trav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égories de trav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 œuvre et terrass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ussées-revê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clai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puis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issiè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des corps-Grill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reprises de gros œuvre et terrass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. Ballot – Boussiron –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ouyg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Bringer et Tondut – Campenon – Bernard- Capag-Cetra- Chantier modernes –Compagnie d’entreprise hydraulique et de béton armé- Compagnie française d’entreprise métallique-Coutard-Creusot-Loire-A.Dodin-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um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rouard et Cie- Entreprise générale de travaux hydrauliques-Entreprise industrielle-Européenne d’entreprise Fougerolle-Fourre et Rhode-Grand travaux de l’est-Labalette-Longechaud et frères-Moderne de grand travaux-Omnium d’entreprise-Dumesny et Chapelle-Omnium français d’études et d’entreprise-Omnium national de terrassement et de travaux publics-Plantivaud-Machat-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az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Richard Ducros Sainrapt et Brice-Société d’entreprise carrière et transport-Société lorraine de construction métallique-Société nouvelle de construction  et de travaux-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olétanc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pie Batignol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ravaux hydrauliques et entreprise générale-Zublin perre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onnées clés sur le périph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ré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de nouvel aménagement: La couverture du boulevard périph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ès la construction l’exploitation est revenue au Maître d’ouvrage, la Direction de la Voirie de la ville de Paris. On peut distinguer deux activités dans l’exploitation du périphér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gestion du traf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uis novembre 1977, 200 agents de la préfecture de police et 30 de la mairie travaillent au Poste Central d’Exploitation du Corridor périphérique, par exemple pour l’affichage sur les PM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entretien de la chaussé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200h de travail par an d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50 par les agent municipaux de la section exploitation (essentiellement du nettoy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350 par des entreprises privées par le biais de marchés de travaux  publics sous la maîtrise d’ouvrage de la Direction de la Voirie et des Déplacements (travaux plus importa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e en œuvre d’une opération d’entret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Recensement de l'état pathologique de l'ouvrage. Commande à des BET spécialisés des études nécessaires pour dresser un état des lieux et définir les priorités d'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Programmation des travaux jugés nécessaires dans le cadre du </a:t>
            </a:r>
            <a:r>
              <a:rPr b="0" lang="en-US" sz="1800" spc="-1" strike="noStrike" u="sng">
                <a:solidFill>
                  <a:srgbClr val="474747"/>
                </a:solidFill>
                <a:uFillTx/>
                <a:latin typeface="Times New Roman"/>
                <a:hlinkClick r:id="rId1"/>
              </a:rPr>
              <a:t>budge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voté par le Conseil de Par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Préparation des dossiers de consultations des entreprises (dossier d'appel d'offres), permettant de lancer les appels d'offres correspondants (publication au Bulletin Officiel des Annonces de Marchés Publics (BOAMP)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Suivi de la procédure d'appel d'offres - analyse des offres après ouverture de celles-ci en commission d'appel d'off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Notification des marchés après attributions de ceux-ci, aux entreprises par la commission d'appel d'off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Engagement comptable et lancement des ordres de services, permettant l'exécution des prestations prév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Contrôle de leur bonne exéc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Exécution des opérations nécessaires à leur règlement aux entrepri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Réception des ouvrages ainsi exécutés ou modifié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nnées clés sur le périph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é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mple de nouvel aménagement: La couverture du boulevard périph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onnées clés sur le périph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ré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emple de nouvel aménagement: La couverture du boulevard périph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verture du périphér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s le but de minimiser les perturbations que subissent les riverains du boulevard périphérique tel que le bruit et la pollution notamment. Quatre portions du boulevard périphérique vont être couve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te des zones couver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616720" cy="4567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V="1">
            <a:off x="1619280" y="2421000"/>
            <a:ext cx="115236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2205000"/>
            <a:ext cx="14400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627280" y="5373360"/>
            <a:ext cx="50472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77080" y="2708280"/>
            <a:ext cx="574560" cy="2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20" y="201312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e des Ter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00" y="2565360"/>
            <a:ext cx="161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e Champer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55960" y="27082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e des Li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22520" y="623736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e des Van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ail de l’ouvrage Porte de Van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ongueur à couvrir : 275 ml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néaire couvert résultant : 410 ml (compris ouvrages existants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urface créée : 10 000 m² envi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ail de l’ouvrage Porte des Lil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ongueur à couvrir : 260 ml et 140 ml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néaire couvert résultant : 320 et 340 ml (compris ouvrages existants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urface créée : 15 500 m² environ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hors tal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ail de l’ouvrage Porte des Ter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ongueur à couvrir : 180 ml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néaire couvert résultant : 440 ml (compris ouvrages existants, stade notamment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urface créée : 9 700 m² environ (hors talus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ail de l’ouvrage Porte Champer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ngueur à couvrir : 280 m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néaire couvert résultant : 985 ml (compris ouvrages existants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urface créée : 14 000 m² environ (hors tal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te: Les couvertures des secteurs Ternes et Champerret constituent une même opération, compte tenu de la proximité des deux sites.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étail de l’ouv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 d’arrêt de la circulation sur le boulevard périphérique pendant le chant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éduction du nombre de voies de circulation la nu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projet au cours du te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789360"/>
            <a:ext cx="50403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484280"/>
            <a:ext cx="1819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8 mai 200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es projets sont inscrits au chapitre " requalification urbaine " du contrat de plan état ré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4149720"/>
            <a:ext cx="216036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001: Les études préliminaires (acoustique, faisabilité technique…) ont été achevées sur l'ensemble des secteu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1628640"/>
            <a:ext cx="21081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in 2001: concertation avec les rive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4149720"/>
            <a:ext cx="26114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002 : passation des marchés de maîtrise d'œuvre conception et réalisation des ouvrages de couvertu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11640" y="2492280"/>
            <a:ext cx="2305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-2004: appel d’offre de réalisation des trav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3789360"/>
            <a:ext cx="2592360" cy="0"/>
          </a:xfrm>
          <a:prstGeom prst="line">
            <a:avLst/>
          </a:prstGeom>
          <a:ln w="57240">
            <a:solidFill>
              <a:srgbClr val="33cc33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80000" y="4292640"/>
            <a:ext cx="18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5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but des trav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1557360"/>
            <a:ext cx="2305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in 2006: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ivraison des ouvrages (hors aménagements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306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33200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2205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1964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19640" y="306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08472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72360" y="2421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31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inancement: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1,8 M€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1 M€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É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1 M€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40360" y="3716280"/>
          <a:ext cx="377820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3716280"/>
                    <a:ext cx="37782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5508720" y="241920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173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orig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e siècle: le tour de Paris est constitué de remparts au delà desquels se trouve une zone interdite à la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40 :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s précis, l’idée d’un grand axe de circulation permettant de dégager les maréchaux s’impose dans les espr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/12/1954: le conseil de Paris accorde après délibération un budget pour les études d’avant pro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éma des rel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2565360"/>
            <a:ext cx="2879640" cy="1079640"/>
          </a:xfrm>
          <a:prstGeom prst="ellipse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ion de la voirie 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 déplacements de p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341360"/>
            <a:ext cx="3025440" cy="35892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ement: ville, état, ré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1773360"/>
            <a:ext cx="2519280" cy="237636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Maîtrise d’oeuv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EEG SIMECSOL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EGIC INGENIERIE 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lain Spielmann (Vanv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ETEC TPI 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INGER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Ternes et Champerr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CETAUROUTE / THALES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BERIM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ISIS / Laurent Barbier (Lil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653000"/>
            <a:ext cx="1874880" cy="108108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ôle Techniqu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Veritas: 272 00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95640" y="5229360"/>
            <a:ext cx="3240000" cy="115236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ordin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ilas: Veritas 90 00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ernes et Champerret:  Becs 120 00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Vanves: Cossec 74 00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51640" y="4869000"/>
            <a:ext cx="3095640" cy="136980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vau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élimin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lots mais l’entreprise doit faire u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ition pour chaque lo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88000" y="2708280"/>
            <a:ext cx="1944720" cy="158436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vaux princip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t génie ci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t V.R.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t équip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1700280"/>
            <a:ext cx="0" cy="792000"/>
          </a:xfrm>
          <a:prstGeom prst="line">
            <a:avLst/>
          </a:prstGeom>
          <a:ln w="7632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626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979640" y="3500280"/>
            <a:ext cx="151272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634920" y="3645000"/>
            <a:ext cx="360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64000" y="3500280"/>
            <a:ext cx="1295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3141720"/>
            <a:ext cx="720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ail des appelles d’offr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vaux préliminaire (Lil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us des varian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tations divisées en lots: 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 d'offres ouv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ères de sélection des offr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60%: mémoire techniq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40%: prix des pre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lai d'exécution: 10 mois et 15 jou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indicative de début des travaux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er janvier 200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é de validité de l’offre: 180 j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ail des appelles d’offr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vaux Principaux (Lil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tations divisées en lots: o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 d'offres ouv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ères de sélection des offr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60%: mémoire techniq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40%: prix des pre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lai d'exécution: 21 mo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indicative de début des travau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er avril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é de validité de l’offre: 180 j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is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360" y="1817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e place plus importantes de la regions dans le financement du pro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service public n’est plus maître d’œuv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tilisation de lot plus importa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chaque chantier il y a 7 lots à gé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étapes de la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44560" y="1828800"/>
          <a:ext cx="5653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4560" y="1828800"/>
                    <a:ext cx="5653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étail de l’ouvra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 km de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voies de circulation dans chaque sens sauf entre porte de Sèvres et porte d’Italie ( 3 vo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,1 km en talus de rembl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,6 km en tranchée ouve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5 km en viaduc et po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8 km en tranchée couve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étail de l’ouv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franch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fois la se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 faisceau de voie fer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 lignes de chemin de 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6 voies routières rad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 compor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1 intersections avec diffus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 échang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it plus de 150 ouvrages d’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Ouvrage particulièrement onéreux qui a plusieurs fois repoussé son budget prévisi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 quelques chiffres remarqu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000 véhicules par jour en 1971 alors qu’il n’ est ouvert que sur 30 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000 véhicules par jour aujourd’h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600 incidents par an dont 67% de pannes et 33% d’ac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 panneaux publicitaires lumineux vus par 300000 automobilistes et chacun rapporte en moyenne 100000 euros annuels au propriétaire de l’immeuble sur lequel il est implanté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onnées clés sur le périph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ré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de nouvel aménagement: La couverture du boulevard périph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ac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îtrise d’ouvrage et finan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îtrise d’œuvre, é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éalisation des trav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tien, 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7:25:56Z</dcterms:created>
  <dc:creator>CABINET BOUR</dc:creator>
  <dc:description/>
  <dc:language>en-US</dc:language>
  <cp:lastModifiedBy>Frederic</cp:lastModifiedBy>
  <dcterms:modified xsi:type="dcterms:W3CDTF">2005-02-05T17:53:42Z</dcterms:modified>
  <cp:revision>14</cp:revision>
  <dc:subject/>
  <dc:title>LE PERIPHERIQUE DE PARIS</dc:title>
</cp:coreProperties>
</file>