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A703-73C3-4E8E-ACEF-B9D2EC5CD5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78F6-466D-4250-9556-00DD54904B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79F-058D-4D47-8365-908D8005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261-38B0-4B9C-B25B-AAF8F711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A54-585C-41A9-8CD3-B8172B7D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8CA-F3C5-4F66-89FD-21DAAA46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6710F-85BF-4E21-904A-BC837B6CEC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60249-3DAA-4533-8D8B-031E86EF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CF79D-83D7-41A4-8830-E2532B28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F732F-3E1E-427F-A471-EFAC181F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1E9A8-1DA4-4629-ABF2-8DD04816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F5491-9C68-4AFB-9435-95D94D28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ED8FA-E4A6-498A-8037-B6766607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E88-DB83-4370-BB09-EC271E5A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A9B65-5F68-4C2A-9E54-2347EBD4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CA684-A007-4252-9581-10A39BE4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13C6C-D678-431F-91F2-0BC83DAC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CB318-F8FB-4CED-A7A7-5D8897C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6756-B3D7-4B8E-8A49-D6D467BF6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B6D-F961-4615-BD18-8AFAE1D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177-2295-46F7-965E-C2A21D6D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FD6-94FC-490C-9C0D-CFA58A6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447-0486-489B-8A3B-B39FEF6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6B6-155F-4987-B038-B508FF46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028-07F6-465F-87E5-72129C2E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98A-4C24-4C61-B63A-CEAB1589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ea8d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5033-0115-47C3-8DA4-A37D17AC766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ea8d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F80A-24BB-4C1A-BF1D-18C45D4105C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mailto:equipetecerer.saef.semed@gmail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fgnn"/>
          <p:cNvPicPr/>
          <p:nvPr/>
        </p:nvPicPr>
        <p:blipFill>
          <a:blip r:embed="rId1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14"/>
          <p:cNvSpPr/>
          <p:nvPr/>
        </p:nvSpPr>
        <p:spPr>
          <a:xfrm>
            <a:off x="2357280" y="214200"/>
            <a:ext cx="6500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tribuições da Coordenação Pedag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Plano Nacional de Implementação das Diretrizes Curriculares Nacionais para a Educação das Relações Étnico-raciais e para o Ensino de História e Cultura Afro-brasileira e Afr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28560" y="507168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quipe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Técnica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de Educação das Relações   Étnico-raciai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franciannemas\Meus documentos\Minhas imagens\voluntarios_africa-4a30f38d2c6e92709fab5d8f4.jpg"/>
          <p:cNvPicPr/>
          <p:nvPr/>
        </p:nvPicPr>
        <p:blipFill>
          <a:blip r:embed="rId2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Salvador negroamor"/>
          <p:cNvPicPr/>
          <p:nvPr/>
        </p:nvPicPr>
        <p:blipFill>
          <a:blip r:embed="rId3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9840" y="357120"/>
            <a:ext cx="6186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  <a:ea typeface="Arial"/>
              </a:rPr>
              <a:t>Históric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Retângulo 10"/>
          <p:cNvSpPr/>
          <p:nvPr/>
        </p:nvSpPr>
        <p:spPr>
          <a:xfrm>
            <a:off x="2428920" y="1351080"/>
            <a:ext cx="6143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Assinada para atender as reivindicações do movimento negro da década de 70 e que a partir da década de 80 tem as ações intensificadas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- retra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- re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- valor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0200" y="642960"/>
            <a:ext cx="61437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Black"/>
                <a:ea typeface="Arial"/>
              </a:rPr>
              <a:t>Retrataçã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Black"/>
                <a:ea typeface="Arial"/>
              </a:rPr>
              <a:t>A partir da Conferência de Durban,  a sociedade brasileira reconhece a existência do racismo velado e  intensifica ações contra as práticas racist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Black"/>
                <a:ea typeface="Arial"/>
              </a:rPr>
              <a:t>Adota ações afirmativas para garantir ingresso de afro-brasileiros/as nas instituições de ensino, no trabalho, para acesso, permanência e suces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357280" y="928440"/>
            <a:ext cx="63295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5"/>
          <p:cNvSpPr/>
          <p:nvPr/>
        </p:nvSpPr>
        <p:spPr>
          <a:xfrm>
            <a:off x="2286000" y="78588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Reconhecimen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-  Identifica na história as práticas racistas advindas da discriminação e preconceito raciais, construídas e naturalizadas como verdadeiras, por meio de ações sociais, políticas e econô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tângulo 10"/>
          <p:cNvSpPr/>
          <p:nvPr/>
        </p:nvSpPr>
        <p:spPr>
          <a:xfrm>
            <a:off x="2357280" y="142920"/>
            <a:ext cx="66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É preci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Entender que a nossa sociedade foi constituída em bases hierárquicas desiguais e de forma viol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Existem unidades de ensino que necessitam preparação, tanto nos instrumentos materiais, quanto na formação de todos os integrantes da escola: Gestores/as, Supervisores/as Escolares, Professores/as, Secretários/as e outros profissionais de apoio como:  Merendeiras, Porteir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14400" y="274680"/>
            <a:ext cx="5972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tângulo 8"/>
          <p:cNvSpPr/>
          <p:nvPr/>
        </p:nvSpPr>
        <p:spPr>
          <a:xfrm>
            <a:off x="2143080" y="0"/>
            <a:ext cx="6715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As DCN’s apontam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Práticas pedagógicas permanentes e cotidianas, não se limitando as datas comemorativas como: 13 de maio e 20 de novemb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A História da África não se limita à pobreza, doenças e guerras. Há uma história ancestral, organizações pré-coloniais, processo de escravização dos povos africanos, independência dos países, acordos políticos e a diáspora africa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14400" y="274680"/>
            <a:ext cx="5972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61" name="Retângulo 8"/>
          <p:cNvSpPr/>
          <p:nvPr/>
        </p:nvSpPr>
        <p:spPr>
          <a:xfrm>
            <a:off x="2428920" y="500040"/>
            <a:ext cx="6429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xemplos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posi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studo sobre o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gito, universidade de Gao, Tombuctu, Djene no século XVI. Ensinamentos sobre Zumbi, Aleijadinho, André Rebouças, Clóvis Moura, Luíza Mahin, entre ou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No Maranhão: Dom Cosme Bento das Chagas (Negro Cosme) e Maria Firmina dos Reis merecem desta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ângulo 7"/>
          <p:cNvSpPr/>
          <p:nvPr/>
        </p:nvSpPr>
        <p:spPr>
          <a:xfrm>
            <a:off x="2500200" y="571680"/>
            <a:ext cx="6215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Valor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- Reconhecer que as atitudes preconceituosas são praticadas no nosso cotidiano e que a valorização é um mecanismo necessário para haver a mudança de mental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Patrimônio histórico-cultural afrobrasileiro, diversidade, identificando a nossa descendência af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5"/>
          <p:cNvSpPr/>
          <p:nvPr/>
        </p:nvSpPr>
        <p:spPr>
          <a:xfrm>
            <a:off x="2286000" y="13572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28560" y="856800"/>
            <a:ext cx="606564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tângulo 8"/>
          <p:cNvSpPr/>
          <p:nvPr/>
        </p:nvSpPr>
        <p:spPr>
          <a:xfrm>
            <a:off x="2428920" y="260280"/>
            <a:ext cx="6500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ortalecer a identidade étnico-raci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Inserir conteúdos no currículo  escolar (espaço/território para discussões, entendimento e negociações das relações de pode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Vivenciar na sala de aula das instituições escolares, as dimensões do currículo oculto (espaço de materialização de preconceitos/ discriminações) e explícito (programação de ensino,  conhecimentos, fatos e conceitos) as relações etnico-racia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77" name="Retângulo 5"/>
          <p:cNvSpPr/>
          <p:nvPr/>
        </p:nvSpPr>
        <p:spPr>
          <a:xfrm>
            <a:off x="2286000" y="13572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28560" y="856800"/>
            <a:ext cx="606564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tângulo 8"/>
          <p:cNvSpPr/>
          <p:nvPr/>
        </p:nvSpPr>
        <p:spPr>
          <a:xfrm>
            <a:off x="2428920" y="214200"/>
            <a:ext cx="621504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buClr>
                <a:srgbClr val="000000"/>
              </a:buClr>
              <a:buFont typeface="Arial Black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ntribuir para que os/as educadores/as possam despir-se de preconceitos que predominam em sua prática pedagóg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Font typeface="Arial Black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Valorizar o negro e a negra, enfatizando sua contribuição na construção do país, pode trazer uma valorização positiva para as nossas raízes culturais africanas  e levar afro-brasileiros/as a valorização e identificação com nossas raízes, contribuindo para elevar ou resgatar a identidade etnicorracial e a auto-estima neg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85" name="Retângulo 10"/>
          <p:cNvSpPr/>
          <p:nvPr/>
        </p:nvSpPr>
        <p:spPr>
          <a:xfrm>
            <a:off x="2286000" y="285840"/>
            <a:ext cx="6500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200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Conferência Mundial de Combate ao Racismo, Discriminação Racial, Xenofobia e Discriminações Correlatas, em Durban (África do Sul) discute a necessidade de mudança nos discursos, raciocínios,  gestos, posturas, modo de tratar as pessoas negras, indígenas, asiáticas, homossexuais, com deficiência, mulheres, estrangeir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0" y="357120"/>
            <a:ext cx="657216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jetivo da formação: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- Apresentar as “Atribuições da Coordenação Pedagógica” contidas no Plano Nacional de Implementação das Diretrizes Curriculares Nacionais para Educação das Relações Étnico-raciais e para ensino de História e Cultura Afro-brasileira e Africana.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5640" y="214200"/>
            <a:ext cx="6429240" cy="621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Mito da democracia ra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Leva a crer 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Os negros não atingem os mesmos patamares por incompetência e ou interesse, sem levar em conta as desigualdades seculares iniciadas com o escravis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1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É preci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Conhecer, valorizar e respeitar os processos de resistência pela ótica histórica sobre os mais diversos temas: comunidades remanescentes de quilombos, capoeira, religiosidade, músicas, traços cultur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94" name="Retângulo 7"/>
          <p:cNvSpPr/>
          <p:nvPr/>
        </p:nvSpPr>
        <p:spPr>
          <a:xfrm>
            <a:off x="2500200" y="428760"/>
            <a:ext cx="628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Papel do Movimento Negro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nscientização/apropriação do termo etnico-racial para lembrar as relações tensas, preconceituosas com base em traços fisionômicos, cor da pele, visão de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População Afrobrasileira (pretos e pardos – IB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2003 - 45%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2007- 49% a população negra decresceu 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Raça - É a humana, mas como a discriminação e o preconceito raciais manifestados pelo racismo continuam, ainda mantém-se a utilização do ter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28560" y="213840"/>
            <a:ext cx="64292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Temos consciência de que existe uma diversidade etnico-racial e pluricultural histórica no país.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á ações com: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indiferenças,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injustiças e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desqualificações.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É necessário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desconstruir a idéia da democracia racial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formação de profissionais da educação e diálogo com outros agentes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ações valorativas dentro das salas de aula com a participação dos/as alunos/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42720" y="428400"/>
            <a:ext cx="7000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03" name="Retângulo 7"/>
          <p:cNvSpPr/>
          <p:nvPr/>
        </p:nvSpPr>
        <p:spPr>
          <a:xfrm>
            <a:off x="2643120" y="785880"/>
            <a:ext cx="607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A Resolução CNE/CP nº 1/2004 instituiu as Diretrizes Curriculares Nacionais para a educação das relações etnicorraciais e para o ensino de história e cultura afro-brasileira e afric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207" name="Retângulo 5"/>
          <p:cNvSpPr/>
          <p:nvPr/>
        </p:nvSpPr>
        <p:spPr>
          <a:xfrm>
            <a:off x="2286000" y="13572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tângulo 8"/>
          <p:cNvSpPr/>
          <p:nvPr/>
        </p:nvSpPr>
        <p:spPr>
          <a:xfrm>
            <a:off x="2286000" y="1071720"/>
            <a:ext cx="6429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O Parecer CNE/CP nº 003/2004, expressa que as políticas de ações afirmativas, no campo educacional, buscam garantir o direito de negros e negras e de todos/as os/as cidadão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idadãs brasileiros/as ao acesso em todos os níveis e modalidades de ens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200"/>
            </a:br>
            <a:br>
              <a:rPr sz="2500"/>
            </a:br>
            <a:br>
              <a:rPr sz="25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57280" y="856800"/>
            <a:ext cx="650088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16" name="Retângulo 10"/>
          <p:cNvSpPr/>
          <p:nvPr/>
        </p:nvSpPr>
        <p:spPr>
          <a:xfrm>
            <a:off x="2286000" y="1071720"/>
            <a:ext cx="6286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O Plano Nacional para Implementação das Diretrizes Curriculares Nacionais para a Educação das Relações Étnico-raciais e para o Ensino de História e Cultura Afrobrasileira e Africana (BRASIL, 2009), indica que compete às instituições de ensi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14360" y="356760"/>
            <a:ext cx="678636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Black"/>
                <a:ea typeface="Arial"/>
              </a:rPr>
              <a:t>- Cumprir e institucionalizar a implementação das Diretrizes Curriculares Nacionais para a Educação das Relações Etnico-raciais e para o Ensino de História e Cultura Afro-brasileira e Africana, conjunto formado pelo texto da Lei 10639/03, Resolução CNE/CP 01/2004 e Parecer CNE/CP 03/2004, e, onde couber, da Lei 11645/08;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 Black"/>
                <a:ea typeface="Arial"/>
              </a:rPr>
              <a:t>- Desenvolver ações estratégicas no âmbito da política de formação de professores/as,a fim de proporcionar o conhecimento e a valorização da história dos povos africanos e da cultura afro-brasileira e da diversidade na construção histórica e cultural do paí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tângulo 8"/>
          <p:cNvSpPr/>
          <p:nvPr/>
        </p:nvSpPr>
        <p:spPr>
          <a:xfrm>
            <a:off x="2500200" y="428760"/>
            <a:ext cx="614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Na formulação de uma política educacional de implementação da Lei 10.639/03, há açõe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formação continuada presencial e a distância de professores/as na temática da diversidade etnico-racial em todo o paí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publicação de material didátic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realização de pesquisas na 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Retângulo 7"/>
          <p:cNvSpPr/>
          <p:nvPr/>
        </p:nvSpPr>
        <p:spPr>
          <a:xfrm>
            <a:off x="2428920" y="692280"/>
            <a:ext cx="642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ATRIBUIÇÕES DAS INSTITUIÇÕES DE ENS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DA REDE PÚBLICA E PARTICULAR DE ENS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As exigências legais contidas nas Leis 10639 e 11645, a Resolução CNE/CP 01/2004 e o Parecer CNE/CP 003/2004 recomendam às instituiçõ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5640" y="428400"/>
            <a:ext cx="664380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35" name="Retângulo 8"/>
          <p:cNvSpPr/>
          <p:nvPr/>
        </p:nvSpPr>
        <p:spPr>
          <a:xfrm>
            <a:off x="2286000" y="357120"/>
            <a:ext cx="664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a) Reformular ou formular junto à comunidade escolar o seu Projeto Político-Pedagóg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adequando seu currículo ao ensino de história e cultura da afro-brasileira e africa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conforme Parecer CNE/CP 03/2004 e as regulamentações dos seus conselhos de educação, assim como os conteúdos propostos na Lei 11645/08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56920" y="214200"/>
            <a:ext cx="65725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quipe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Técnica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de Educação das Relações   Étnico-raciais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jetivo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porcionar o desenvolvimento de competências aos/as professores/as, colaborando para a leitura crítica dos conteúdos, desenvolvendo capacidades a fim de subsidiar o planejamento das atividades relativas à temática etnico-racial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40" name="Retângulo 8"/>
          <p:cNvSpPr/>
          <p:nvPr/>
        </p:nvSpPr>
        <p:spPr>
          <a:xfrm>
            <a:off x="2286000" y="500040"/>
            <a:ext cx="650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) Garantir no Planejamento de Curso dos professores a existência da temática das relações étnico-raciais, de acordo sua área de conhecimento e o Parecer CNE/CP 03/200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) Responder em tempo hábil as pesquisas e levantamentos sobre a temática da Educ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ara as Relações Étnico-raciai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45" name="Retângulo 8"/>
          <p:cNvSpPr/>
          <p:nvPr/>
        </p:nvSpPr>
        <p:spPr>
          <a:xfrm>
            <a:off x="2411280" y="571680"/>
            <a:ext cx="637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) Estimular estudos sobre Educação das Relações Étnico-raciais e história e cultura africana e afro-brasileira, proporcionando condições para que professores/as, gestores/as e funcionários de apoio participem de atividades de formação continuada e/ou formem grupos de estudos sobre a temátic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50" name="Retângulo 8"/>
          <p:cNvSpPr/>
          <p:nvPr/>
        </p:nvSpPr>
        <p:spPr>
          <a:xfrm>
            <a:off x="2286000" y="214200"/>
            <a:ext cx="65008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Black"/>
              </a:rPr>
              <a:t>e) Encaminhar solicitação ao órgão de gestão educacional ao qual esteja vinculada para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Black"/>
              </a:rPr>
              <a:t>realização de formação continuada para o desenvolvimento da temática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Black"/>
              </a:rPr>
              <a:t>f) Encaminhar solicitação ao órgão superior da gestão educacional ao qual a escola estiver subordinada, para fornecimento de material didático e paradidático com intuito de manter acervo específico para o ensino da temática das relações etnico-raciai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55" name="Retângulo 8"/>
          <p:cNvSpPr/>
          <p:nvPr/>
        </p:nvSpPr>
        <p:spPr>
          <a:xfrm>
            <a:off x="2286000" y="357120"/>
            <a:ext cx="65008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g) Detectar e combater com medidas socioeducativas casos de racismo e preconceito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iscriminação nas dependências escol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Art. 6° Os órgãos colegiados dos estabelecimentos de ensino, em suas finalidades, responsabilidades e tarefas, incluirão o previsto, o exame e encaminhamento de solução para situações de discriminação, buscando-se criar situações educativas para o reconhecimento, valorização e respeito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iversidade. (Resolução CNE/CP nº 01/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6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pt-BR" sz="2500" spc="-1" strike="noStrike">
                <a:solidFill>
                  <a:srgbClr val="000000"/>
                </a:solidFill>
                <a:latin typeface="Arial Black"/>
              </a:rPr>
              <a:t>ATRIBUIÇÕES DAS COORDENAÇÕES PEDAGÓGICA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tângulo 7"/>
          <p:cNvSpPr/>
          <p:nvPr/>
        </p:nvSpPr>
        <p:spPr>
          <a:xfrm>
            <a:off x="2411280" y="1268280"/>
            <a:ext cx="655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As coordenações pedagógicas no âmbito das instituições de ensino são as que maior interface possuem entre o trabalho docente, por meio do Planejamento de Curso/aula e do Projeto Político-Pedagógico. Ignorar essa importante função é não ter a garantia de que as tecnologias educacionais, as políticas de educação que visam melhoria na qualidade de ensino e melhoria do desempenho educacional tenham êxito. As coordenações pedagógicas não só devem ser valorizadas como, também, devem fazer parte dos planejamentos de cursos de aprimoramento, aperfeiçoamento e de gestão educ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5640" y="428400"/>
            <a:ext cx="664380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tângulo 5"/>
          <p:cNvSpPr/>
          <p:nvPr/>
        </p:nvSpPr>
        <p:spPr>
          <a:xfrm>
            <a:off x="2500200" y="428760"/>
            <a:ext cx="6286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A LDB, no Art. 13 diz que os docentes têm a incumbência de “participar da elaboração da proposta pedagógica do estabelecimento de ensino; elaborar e cumprir plano de trabalho, segundo a proposta pedagógica do estabelecimento de ensino; zelar pela aprendizagem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alunos; estabelecer estratégias de recuperação para os/as alunos/as de menor rendimento; ministrar os dias letivos e horas-aula estabelecidos, além de participar integralmente dos períodos dedicados ao planejamento, à avaliação e ao desenvolvimento profissional; colaborar com as atividades de articulação da escola com as famílias e a comunida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428920" y="333360"/>
            <a:ext cx="6464160" cy="59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A Resolução CNE/CP 01/2004, no Artigo 3º, § 2º estabelece que “As coordenações pedagógicas promoverão o aprofundamento de estudos, para que os professores concebam e desenvolvam unidades de estudos, projetos e programas, abrangendo os diferentes componentes curriculares”. Portando, o presente Plano recomenda que os sistemas e as instituições de ensino orientem os coordenadores pedagógicos para aplicação desse Plano no âmbito esco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tângulo 5"/>
          <p:cNvSpPr/>
          <p:nvPr/>
        </p:nvSpPr>
        <p:spPr>
          <a:xfrm>
            <a:off x="2500200" y="428760"/>
            <a:ext cx="628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0" y="428400"/>
            <a:ext cx="650088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Principais Ações das Coordenações Pedagóg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a) Conhecer e divulgar o conteúdo do Parecer CNE/CP 03/2004 e a Resolução CNE/CP 01/2004 e da Lei 11645/08 em todo o âmbito escola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b) Colaborar para que os Planejamentos de Curso incluam conteúdo e atividades adequadas para a educação das relações etnico-raciais e o ensino de história e cultura afro-brasileira e africana de acordo com cada nível e modalidade de ensi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tângulo 5"/>
          <p:cNvSpPr/>
          <p:nvPr/>
        </p:nvSpPr>
        <p:spPr>
          <a:xfrm>
            <a:off x="2500200" y="428760"/>
            <a:ext cx="628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484360" y="428400"/>
            <a:ext cx="644544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) Promover junto aos docentes reuniões pedagógicas com o fim de orientar para a necessidade de constante combate ao racismo, ao preconceito, e à discriminação, elaborando em conjunto estratégias de intervenção e educaç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286000" y="285840"/>
            <a:ext cx="6678720" cy="628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) Estimular a interdisciplinaridade para disseminação da temática no âmbito escolar, construindo junto com professores/as e profissionais da educação processos educativos que possam culminar seus resultados na Semana de Consciência Negra e/ou no período que compreende o Dia da Consciência Negra (20 de novembr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6438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 portaria N°. 078/2010 – GAB/SEMED, de 25 de março de 2010, instituiu a Equipe Técnica de Educação das Relações Etnicorraciais da Superintendência da Área de Ensino Fundamental, constituída por Ilma Fátima de Jesus, Francisca Antonia Ferreira Farias e Georgiana Márcia Oliveira Santos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285640" y="213840"/>
            <a:ext cx="6643800" cy="535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e)Encaminhar ao/à Gestor/a escolar e/ou aos responsáveis da Gestão Municipal ou Estadual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Ensino, situações de preconceito, racismo e discriminação identificados na esco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tângulo 5"/>
          <p:cNvSpPr/>
          <p:nvPr/>
        </p:nvSpPr>
        <p:spPr>
          <a:xfrm>
            <a:off x="2500200" y="428760"/>
            <a:ext cx="628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Desafios para a prática pedagóg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357280" y="1428840"/>
            <a:ext cx="64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clui a necessidade de se refletir sobre a  diversidade que há numa sala de aula, numa sociedade multiétnica e pluricultural como a nossa pois a tentativa de a escola tornar homogêneo o que é heterogêneo cria um descompasso entre crianças e  adolescentes, o que é incompatível com a educação de hoje e contribui para  excluir aquelas ou aqueles que não correspondem às suas exigências homogeneiz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Desafios da 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71480" y="1714680"/>
            <a:ext cx="61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tângulo 13"/>
          <p:cNvSpPr/>
          <p:nvPr/>
        </p:nvSpPr>
        <p:spPr>
          <a:xfrm>
            <a:off x="2428920" y="928800"/>
            <a:ext cx="65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ara que as relações étnico-raciais se constituam em  temática educacional é necessário que seja proporcionada formação inicial e continuada para sensibilizar e formar professoras/es, coordenadores/as pedagógicos/as  e demais profissionais da educação para conduzirem a reeducação das relações entre diferentes grupos étnico-raciais que compõem a população brasileira, ou seja, os descendentes de africanos, de europeus, de asiáticos e povos indígenas.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499840" y="500040"/>
            <a:ext cx="6186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ENSINO FUNDAMENT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O Ensino fundamental obrigatório e gratuito, dever da família e do estado, direito público subjetivo, é definido pela LDB como a etapa educacional em que se dá a formação básica do cidadão, mediante, entre outros fatores, “a compreensão do ambiente natural e social, do sistema político, da tecnologia, das artes e dos valores em que se fundamenta a sociedade” (Art 32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571480" y="428760"/>
            <a:ext cx="61578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A partir da análise dos indicadores educacionais recentes, ao efetuarmos um corte étnico/racial, a desigualdade educacional demonstra-se perversa. Segundo o censo escolar de 2007 a distorção idade-série de brancos é de 33,1% na 1ª série e 54,7% na 8ª , enquanto a distorção idade-série de negros é de 52,3% na 1ª série e 78,7% na 8ª. Entre os jovens brancos de 16 anos, 70% haviam concluído o ensino fundamental obrigatório, enquanto que dos negros, apenas 30%. Entre as rianças brancas de 8 e 9 anos na escola, encontramos uma taxa de analfabetismo da ordem de 8%, enquanto que dentre as negras essa taxa é de 16% (PNAD/IBGE 2007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2428920" y="428760"/>
            <a:ext cx="6300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No Ensino Fundamental, o ato de educar implica uma estreita relação entre as crianças, adolescentes e os adultos. Esta relação precisa estar pautada em tratamentos igualitários, considerando a singularidade de cada sujeito em suas dimensões culturais, familiares e sociais. Nesse sentido, a educação das relações étnico-raciais deve ser um dos elementos estruturantes do projeto político pedagógico das escolas</a:t>
            </a:r>
            <a:r>
              <a:rPr b="0" i="1" lang="pt-BR" sz="27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357280" y="285840"/>
            <a:ext cx="64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Respeitando a autonomia dos sistemas e estabelecimentos de ensino para compor os 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projetos pedagógicos e o currículo dos estados e municípios para o cumprimento das Leis 10639/03 e 11645/08, é imprescindível a colaboração das comunidades em que a escola está inserida e a comunicação com estudiosos e movimentos sociais para que subsidiem as discussões e construam novos saberes, atitudes, valores e postur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285640" y="285480"/>
            <a:ext cx="64436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 Black"/>
              </a:rPr>
              <a:t>Ações Principais para o Ensino Fundamental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 Black"/>
              </a:rPr>
              <a:t>a) Assegurar formação inicial e continuada aos professores e profissionais desse nível de ensino para a incorporação dos conteúdos da cultura Afrobrasileira e indígena e 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 Black"/>
              </a:rPr>
              <a:t>desenvolvimento de uma educação para as relações etnicorracia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71840" y="571680"/>
            <a:ext cx="611496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) Implementar ações, inclusive dos próprios educandos, de pesquisa, desenvolvimento e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quisição de materiais didático-pedagógicos que respeitem, valorizem e promovam a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iversidade a fim de subsidiar práticas pedagógicas adequadas a educação para as relaçõe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tnicorracia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356920" y="428760"/>
            <a:ext cx="6301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840" y="274680"/>
            <a:ext cx="611496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) Prover as bibliotecas e as salas de leitura de materiais didáticos e paradidáticos sobre a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temática Etnicorracial adequados à faixa etária e à região geográfica das crianç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) Incentivar e garantir a participação dos pais e responsáveis pela criança na construção do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jeto político pedagógico e na discussão sobre a temática etnicorra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428560" y="214200"/>
            <a:ext cx="6357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28920" y="356760"/>
            <a:ext cx="650088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ntecedente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arco Legal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Na Constituição de 1988 destaca-se a inclusão na Carta Magna de reivindicações históricas do  movimento negro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Na área educacional e no que se refere às relações etnico-raciais, merece especial atenção o artigo 242, § 1º:</a:t>
            </a:r>
            <a:br>
              <a:rPr sz="2800"/>
            </a:b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O ensino da História do Brasil levará em conta as contribuições das diferentes culturas e etnias para a formação do povo brasileir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71840" y="428760"/>
            <a:ext cx="61149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) Abordar a temática etnicorracial como conteúdo multidisciplinar e interdisciplinar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urante todo o ano letivo, buscando construir projetos pedagógicos que valorizem o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saberes comunitários e a oralidade, como instrumentos construtores de processos de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prendizagem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571480" y="571320"/>
            <a:ext cx="6157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71840" y="428760"/>
            <a:ext cx="61149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f) Construir coletivamente alternativas pedagógicas com suporte de recursos didático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dequados e utilizar materiais paradidáticos sobre a temática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g) Propiciar, nas coordenações pedagógicas, o resgate e acesso a referências históricas,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ulturais, geográficas, lingüísticas e científicas nas temáticas da diversida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71840" y="428760"/>
            <a:ext cx="61149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h) Apoiar a organização de um trabalho pedagógico que contribua para a formação e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fortalecimento da auto-estima dos jovens, dos(as) docentes e demais profissionais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educ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47" name="Retângulo 6"/>
          <p:cNvSpPr/>
          <p:nvPr/>
        </p:nvSpPr>
        <p:spPr>
          <a:xfrm>
            <a:off x="2428920" y="142920"/>
            <a:ext cx="6429240" cy="55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ugestões de ativid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- Projetos didáticos/projetos de trabalho (relacionam a vivência, experiência e valores da comunidade escolar, propiciam  a construção das práticas pedagógicas não discriminatóri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- Linguagens (textos de circulação social, fanzines, letras de música, cartuns, quadrinhos, vídeos, revistas, obras de autores negros; discussão sobre as figuras de linguagem de origem african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- História e Língua Portuguesa/ Literatura (articular influência africana na linguagem do Português do Brasil e os movimentos de libertação africana e a literatura de expressão portugues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50" name="Retângulo 7"/>
          <p:cNvSpPr/>
          <p:nvPr/>
        </p:nvSpPr>
        <p:spPr>
          <a:xfrm>
            <a:off x="2357280" y="500040"/>
            <a:ext cx="6572520" cy="45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iências da Natureza/Matemátic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Biologia (genes, epiderme, constituição capilar – para desconstrução de conteúdos que afirmam diferenças como inferioridade x superioridade - saúde da população negra, anemia falciforme, hipertensão, diabetes)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54" name="Retângulo 7"/>
          <p:cNvSpPr/>
          <p:nvPr/>
        </p:nvSpPr>
        <p:spPr>
          <a:xfrm>
            <a:off x="2428920" y="357120"/>
            <a:ext cx="67150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atemática (estatística de morbi-mortalidade da população negra brasileira, contribuições de raiz africana, identificadas e descritas pela Etno-Matemática)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Filosofia (articular com Sociologia) (pesquisar questões sociais/ desigualdades, mapear municípios com comunidades quilombolas/bairros com população negra, estudo da filosofia tradicional africana e de contribuições de filósofos africanos e afro-brasileiros/as da atualidade.)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58" name="Retângulo 7"/>
          <p:cNvSpPr/>
          <p:nvPr/>
        </p:nvSpPr>
        <p:spPr>
          <a:xfrm>
            <a:off x="2357280" y="214200"/>
            <a:ext cx="628668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iências Hum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- História (grandes impérios, reinos africanos, tradição e cultura afro-brasileira, vínculos da ancestralidade, a história de vida dos/as alunos/as, a resistência negra ontem/hoje)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‏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- Geografia (organização político-econômica antes da invasão dos europeus)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‏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179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tIns="698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Eixo – Fortalecimento do Marco Leg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891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0" y="720720"/>
          <a:ext cx="9129600" cy="6138720"/>
        </p:xfrm>
        <a:graphic>
          <a:graphicData uri="http://schemas.openxmlformats.org/drawingml/2006/table">
            <a:tbl>
              <a:tblPr/>
              <a:tblGrid>
                <a:gridCol w="2987640"/>
                <a:gridCol w="2881440"/>
                <a:gridCol w="3260520"/>
              </a:tblGrid>
              <a:tr h="1096920">
                <a:tc>
                  <a:txBody>
                    <a:bodyPr lIns="90000" rIns="90000" tIns="2952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952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952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eríodo de Execu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44480"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ulamentação da Lei 10.639/0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 nível Estadual, Municipal e do Distrito Federal (Parecer CNE/CEB 03/2004 e Resolução CNE/CP 01/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onselhos Estaduais, Municipai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istrital de Educ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urto P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432080"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ncentivar a construção participativa de planos estaduais e municipais de educação que contemplem a implementação das DCNs para a Educação das Relaçõ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tnicorraciais e para o Ensino de História e Cultura Afrobrasileira e African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ecretarias e Conselhos Estaduais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unicipais e Distrital de Educ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urto P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260360"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ivulgar amplamente as DCNs p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ducação das Relações etnicorraciais e  para o Ensino de História e C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frobrasileira e Africana e de se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ignificado para a garantia do direito 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ducação de qualidade e para o combate ao rac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EC, CNE, SEPPIR, Fóruns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ducação, Secretarias e Conselh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staduais, Municipais e Distr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e Educ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12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L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ongo P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604880"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tualizar e inserir nos manuais, diretrizes e demais documentos norteadores dos currículos da educação básica e superi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s alterações necessárias para o ensino das DCNs para Educação das Relações etnicorraciais e para o Ensino de História e Cultura Afrobrasileira e African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EC, CNE, CEE,CME, SEE,SME, 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 Instituições de Ensino da Educ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ási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urto P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Livros disponíveis nas escol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428560" y="999720"/>
            <a:ext cx="64292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História e Cultura Africana e Afro-Brasileira, Nei Lope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Ganhador do Prêmio Jabuti 2009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1 volume, 144 páginas 20 x 26 c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Disponibilizada aos docentes e discentes da Rede Municipal de Educação após aquisição pela SEM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pesar de o Brasil ser o País de maior população formada por afro-descendentes fora do continente africano, o País ainda é carente de informações sobre a história deste continente e de seu povo, principalmente, sobre as lutas e realizações dos herdeiros das tradições culturais africanas dos tempos remotos até os dias atuai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Por conta dessa relevância, o Ministério da Educação (MEC), sob a Lei Federal 10.639/03 divulgou que, a partir do ano, 2009, as escolas de ensino fundamental e médio terão como obrigatoriedade temática a História do povo e do continente africano como conteúdo básico no currículo devendo ser adotado material didático que contribua para tratar da temática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428560" y="500040"/>
            <a:ext cx="64292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Imagem 7" descr="http://www.neilopes.blogger.com.br/Barsa.JPG"/>
          <p:cNvPicPr/>
          <p:nvPr/>
        </p:nvPicPr>
        <p:blipFill>
          <a:blip r:embed="rId4"/>
          <a:stretch/>
        </p:blipFill>
        <p:spPr>
          <a:xfrm>
            <a:off x="2500200" y="642960"/>
            <a:ext cx="6215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6553080" cy="645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EI DE DIRETRIZES E BASES DA EDUCAÇÃO NACIONAL – LDBEN</a:t>
            </a:r>
            <a:br>
              <a:rPr sz="2200"/>
            </a:b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 Black"/>
              </a:rPr>
              <a:t>Art. 26. Os currículos do ensino fundamental e médio devem ter uma base nacional comum, a ser complementada, em cada sistema de ensino e estabelecimento escolar, por uma parte diversificada, exigida pelas características regionais e locais da sociedade, da cultura, da economia e da clientela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 Black"/>
              </a:rPr>
              <a:t>§ 4º O ensino da História do Brasil levará em conta as contribuições das diferentes culturas e etnias para a formação do povo brasileiro, especialmente das matrizes indígena, africana e européia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75" name="Retângulo 7"/>
          <p:cNvSpPr/>
          <p:nvPr/>
        </p:nvSpPr>
        <p:spPr>
          <a:xfrm>
            <a:off x="2357280" y="214200"/>
            <a:ext cx="628668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</a:rPr>
              <a:t>Projeto A cor da 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apa livro 2"/>
          <p:cNvPicPr/>
          <p:nvPr/>
        </p:nvPicPr>
        <p:blipFill>
          <a:blip r:embed="rId4"/>
          <a:srcRect l="0" t="0" r="2028" b="0"/>
          <a:stretch/>
        </p:blipFill>
        <p:spPr>
          <a:xfrm>
            <a:off x="2071800" y="1773360"/>
            <a:ext cx="2571480" cy="3957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CAPA LIVRO"/>
          <p:cNvPicPr/>
          <p:nvPr/>
        </p:nvPicPr>
        <p:blipFill>
          <a:blip r:embed="rId5"/>
          <a:srcRect l="0" t="0" r="2458" b="0"/>
          <a:stretch/>
        </p:blipFill>
        <p:spPr>
          <a:xfrm>
            <a:off x="4572000" y="1773360"/>
            <a:ext cx="2428920" cy="3956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APA LIVRO 3"/>
          <p:cNvPicPr/>
          <p:nvPr/>
        </p:nvPicPr>
        <p:blipFill>
          <a:blip r:embed="rId6"/>
          <a:srcRect l="941" t="302" r="877" b="1867"/>
          <a:stretch/>
        </p:blipFill>
        <p:spPr>
          <a:xfrm>
            <a:off x="6929280" y="1773360"/>
            <a:ext cx="221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83" name="Retângulo 7"/>
          <p:cNvSpPr/>
          <p:nvPr/>
        </p:nvSpPr>
        <p:spPr>
          <a:xfrm>
            <a:off x="2571840" y="714240"/>
            <a:ext cx="578628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baseline="-25000">
                <a:solidFill>
                  <a:srgbClr val="000000"/>
                </a:solidFill>
                <a:latin typeface="Arial Black"/>
              </a:rPr>
              <a:t>Quando a lei 10.639/2003 diz que é preciso estudar a história e cultura destes povos ela é uma política pública curricular de ação afirmativa que se propõe corrigir essa distorção. Porque ela não é dirigida para a população negra, ela é dirigida a todos os brasil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baseline="-25000">
                <a:solidFill>
                  <a:srgbClr val="000000"/>
                </a:solidFill>
                <a:latin typeface="Arial Black"/>
              </a:rPr>
              <a:t>Petronilha Beatriz Gonçalves e Sil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3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86" name="Retângulo 7"/>
          <p:cNvSpPr/>
          <p:nvPr/>
        </p:nvSpPr>
        <p:spPr>
          <a:xfrm>
            <a:off x="2357280" y="214200"/>
            <a:ext cx="6286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2571840" y="424080"/>
            <a:ext cx="5643360" cy="51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EQUIPE TÉCNICA DE EDUCAÇÃO DAS RELAÇÕES ETNICORRA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Profª Francisca Antônia Ferreira Far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Profª Georgiana Márcia Oliveira San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Profª Ilma Fátima de Jesus  (Coordenado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Lucida Sans Unicode"/>
              </a:rPr>
              <a:t>e-mail: </a:t>
            </a:r>
            <a:r>
              <a:rPr b="1" lang="pt-BR" sz="2800" spc="-1" strike="noStrike" u="sng" baseline="-30000">
                <a:solidFill>
                  <a:srgbClr val="0000ff"/>
                </a:solidFill>
                <a:uFillTx/>
                <a:latin typeface="Arial Black"/>
                <a:ea typeface="Times New Roman"/>
                <a:hlinkClick r:id="rId4"/>
              </a:rPr>
              <a:t>equipetecerer.saef.semed@g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Lucida Sans Unicode"/>
              </a:rPr>
              <a:t>tel.: (098)3212-8231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99840" y="428760"/>
            <a:ext cx="6357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Lei 10.639/2003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m 9 de janeiro de 2003, foi sancionada a Lei nº 10.639 que alterou a Lei n 9.394/96, a qual passou a vigorar acrescida dos seguintes artigos: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rt. 2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Nos estabelecimentos de ensino fundamental e médio, oficiai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 particulares, torna-se obrigatório o ensino sobre História e Cultura Afro-Brasilei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Retângulo 12"/>
          <p:cNvSpPr/>
          <p:nvPr/>
        </p:nvSpPr>
        <p:spPr>
          <a:xfrm>
            <a:off x="2643120" y="571680"/>
            <a:ext cx="600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§ 1º - O Conteúdo programático a que se refere o </a:t>
            </a:r>
            <a:r>
              <a:rPr b="0" i="1" lang="pt-BR" sz="2800" spc="-1" strike="noStrike">
                <a:solidFill>
                  <a:srgbClr val="000000"/>
                </a:solidFill>
                <a:latin typeface="Arial Black"/>
              </a:rPr>
              <a:t>caput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este artigo incluirá o estudo da História da África e dos Africanos, a luta dos negros no Brasil, a cultura negra brasileira e o negro na formação da sociedade nacional, resgatando a contribuição do povo negro nas áreas social, econômica e política pertinentes à História do Bra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ângulo 12"/>
          <p:cNvSpPr/>
          <p:nvPr/>
        </p:nvSpPr>
        <p:spPr>
          <a:xfrm>
            <a:off x="2571840" y="357120"/>
            <a:ext cx="6143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§ 2º - Os Conteúdos referentes à História e Cultura Afro-Brasileira serão ministrados no âmbito de todo o currículo escolar, em especial nas áreas de Educação Artística e de Literatura e História Brasilei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rt. 79-B. O calendário escolar incluirá o dia 20 de novembro como “Dia Nacional da Consciência Negr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2:46:00Z</dcterms:created>
  <dc:creator>franciannemas</dc:creator>
  <dc:description/>
  <dc:language>en-US</dc:language>
  <cp:lastModifiedBy>Computador</cp:lastModifiedBy>
  <dcterms:modified xsi:type="dcterms:W3CDTF">2010-08-18T18:03:44Z</dcterms:modified>
  <cp:revision>165</cp:revision>
  <dc:subject/>
  <dc:title>Superintendência de Modalidades e Diversidades Educacionais – SUPEMDE  Equipe de Educação e Diversidade Etnicorracial</dc:title>
</cp:coreProperties>
</file>