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D88B-5E99-4ECD-B588-BCC92F9DE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C90B-804B-4343-84B9-D3E285EE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9E80-AEAC-4B6A-AE24-DE545F49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BA06-0968-4191-A90A-25C5DEE6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2880-9480-482B-A128-246399616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03A2-01ED-438D-9BB3-6C57D89B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CCF1-C6B9-435E-B29D-D75D16E2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B552-D6BF-4A3D-B10B-C691C94E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DFA0-A3E9-4848-8ECA-BA79C6F8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A9C2-1C33-4D37-A41B-BDD19BF7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41F1-C1A5-41D5-8980-832606C9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6736-118E-4A7B-989D-EF6D65DB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78D8-0992-49F0-A618-0AEA6D91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3B03-95AE-41BC-86B8-9CEA6452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25F7-6170-4948-8127-0EDA331C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20B3-711C-4E40-A0D0-4BE12159A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29DD-F5D4-4247-BE78-9C645AD7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1761-5ED1-4B3C-A241-05F26837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444F-6BB7-4C07-BCF4-AD3E528D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83AD-7EB0-46F4-B2C4-22965F13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1B34-4522-4C19-BE21-5FB15CBE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6A6C-BD84-462C-AD20-B2F32DCD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4E86-522F-4939-A077-45B8B213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34C5-AF18-4EBC-9300-B3C0F855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F133-906C-4714-985E-1B388A3EE2E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2B59-513D-449D-868A-2A0B71B1A12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ANALISIS DATA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ktor-faktor yang berpengaruh dalam analisi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mlah variabel (kumpulan data yang berbeda , misal variabel tukang bangunan: tukang batu, tukang kayu, dsb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juan anali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ngkat pengukuran variab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1. Jumlah Variab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rgantung dan tujuan peneliti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enis dan jumlahi vanabel ditentukan sebelum data/ survey dilakuka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tode statistik yang dipakai untuk anali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Univariat (1 macam variabe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Misal 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Luas rata-rata lantai bangunan ruma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Rata2 kèdalamañ hentakan tiang panca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Jml kendaraan yg lewat pada satu jalu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Bivariat (2 macam variabe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Misal Kecepatan kendaraan → membutuhkan data panjang jalan &amp; waktu tempu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Multivariat (lebih dari 2 macam varabel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sal Penelitian kuat desak beton → tergantung perbandingan berat: split, pasir, PC, air dan wakt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2 Tujuan Analisi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istik Diskripti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berikan untuk memberikan kejelasan terhadap data yang a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ngan menyederhanakan dan/ atau menata d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istik Inferens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rmanfaat untuk menerangkan hubungan pola dan sampel dengan pola dari populas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sal Kepadatan penduduk kota → makin ke pusat kota, akan semakin pad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3. Tingkat Pengukuran Variabel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fat hubungan antar satu kategori dengan kategori yang lain pada satu variabel tertent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ategori variabel: nominal; ordinal; interval &amp; rat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ariabel Nomi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ategorinya dibedakan hanya dalam nama atau istilah yang lazim digunak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s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riabel jenis kelamin pendudu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→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ki-laki dan perempu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riabel jenis tenaga kerja bangun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→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k. Batu, tk. Kayu,.tk. Besi, tk. listrik, tk. Cat, ds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ariabel Ordi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ategorinya mempunyai hubungan bertingka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tar tingkat masing-masing ditentukan secara subyektif oleh surveyor, (sulit diketahui perbedaan kuantitasnya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s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ndisi bangunan →  sangat baik, baik, sedang, buruk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ecepatan kendaraan sangat cepat, cepat, sedang, lamba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ariabel Interval &amp; Rat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ategorinya merupakan urutan yang sangat jelas kuantitasny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riabel interval = tidak mempunyai nilai nol (0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s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atu ruang suhu 00 C → tidak berarti tidak ada suh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Variabel ratio = Mempunyai nilai nol (0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Misal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enghuni bangunan = 0 → tidak berpenghun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Kecepatan kendaraan = 0 km/jam →  berhent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8T11:24:25Z</dcterms:created>
  <dc:creator>teknik</dc:creator>
  <dc:description/>
  <dc:language>en-US</dc:language>
  <cp:lastModifiedBy>teknik</cp:lastModifiedBy>
  <dcterms:modified xsi:type="dcterms:W3CDTF">2016-09-28T11:39:20Z</dcterms:modified>
  <cp:revision>2</cp:revision>
  <dc:subject/>
  <dc:title>ANALISIS DATA</dc:title>
</cp:coreProperties>
</file>