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13B-9636-432E-9FC1-2488475F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EAB-8BBD-46A9-B01F-C134C845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EDC-1A67-48CA-9C75-C8D5D270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789-078D-4EBB-9F9F-2F8F9278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4124-386C-4211-913A-FD31ACB5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7676-3331-43E2-A159-ED931DA7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3E64-C4C1-4482-AD66-4F05282A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C88A-1808-452A-914D-925E184C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21D2-658B-49FA-816A-898CE44D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2D2D-259F-461D-BAC9-5789EAC7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C5E0-6EDF-4061-8C49-23E409C5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32B-F386-4569-AACD-350E8AA6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676D-B6A7-4C8D-B7E0-AE749B94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C141-0378-4154-94B3-01210D7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E5E-A12B-41DF-933E-2AA2D0CF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FB1F-8123-4B44-A626-52F9C575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66FA-38C5-4545-BFC6-BD7E53BD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6D2-9BC7-46EB-9210-582EF1E4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FAC-304B-401C-B9D6-9AB511C0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78E-368B-4276-850A-85BB0EF7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B70-89C6-4AAF-94D2-971369A1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6D4-559E-4664-8962-8FDAF73F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429-77D5-4AF4-AC17-F6D83D63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FC6-26F2-4EDA-922F-2ED3E3ED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F37-8E87-49B5-A860-6B054E0B53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C1C4-F68A-4F62-80E2-847C09762B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ALISIS DAT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ktor-faktor yang berpengaruh dalam analis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mlah variabel (kumpulan data yang berbeda , misal variabel tukang bangunan: tukang batu, tukang kayu, dsb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juan anali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gkat pengukuran variab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1. Jumlah Variab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gantung dan tujuan penelit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nis dan jumlahi vanabel ditentukan sebelum data/ survey dilakuk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ode statistik yang dipakai untuk anali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Univariat (1 macam variab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isal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uas rata-rata lantai bangunan rum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ata2 kèdalamañ hentakan tiang panca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Jml kendaraan yg lewat pada satu jal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Bivariat (2 macam variab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isal Kecepatan kendaraan → membutuhkan data panjang jalan &amp; waktu tempu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Multivariat (lebih dari 2 macam varabel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al Penelitian kuat desak beton → tergantung perbandingan berat: split, pasir, PC, air dan wakt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 Tujuan Anali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k Diskript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berikan untuk memberikan kejelasan terhadap data yang 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ngan menyederhanakan dan/ atau menata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k Inferens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manfaat untuk menerangkan hubungan pola dan sampel dengan pola dari popul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al Kepadatan penduduk kota → makin ke pusat kota, akan semakin pad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3. Tingkat Pengukuran Variabe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fat hubungan antar satu kategori dengan kategori yang lain pada satu variabel terten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tegori variabel: nominal; ordinal; interval &amp; rat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riabel Nom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tegorinya dibedakan hanya dalam nama atau istilah yang lazim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s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abel jenis kelamin pendudu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ki-laki dan perempu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abel jenis tenaga kerja bangun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k. Batu, tk. Kayu,.tk. Besi, tk. listrik, tk. Cat, ds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riabel Ord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tegorinya mempunyai hubungan bertingk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ar tingkat masing-masing ditentukan secara subyektif oleh surveyor, (sulit diketahui perbedaan kuantitasnya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disi bangunan →  sangat baik, baik, sedang, buruk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cepatan kendaraan sangat cepat, cepat, sedang, lamb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riabel Interval &amp; Rat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tegorinya merupakan urutan yang sangat jelas kuantitasn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bel interval = tidak mempunyai nilai nol (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atu ruang suhu 00 C → tidak berarti tidak ada suh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Variabel ratio = Mempunyai nilai nol (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isal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enghuni bangunan = 0 → tidak berpenghun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Kecepatan kendaraan = 0 km/jam →  berhent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11:24:25Z</dcterms:created>
  <dc:creator>teknik</dc:creator>
  <dc:description/>
  <dc:language>en-US</dc:language>
  <cp:lastModifiedBy>teknik</cp:lastModifiedBy>
  <dcterms:modified xsi:type="dcterms:W3CDTF">2016-09-28T11:39:20Z</dcterms:modified>
  <cp:revision>2</cp:revision>
  <dc:subject/>
  <dc:title>ANALISIS DATA</dc:title>
</cp:coreProperties>
</file>