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billits%20wave.wav" ContentType="audio/x-wav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7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0.gif" ContentType="image/gif"/>
  <Override PartName="/ppt/media/image13.jpeg" ContentType="image/jpeg"/>
  <Override PartName="/ppt/media/image4.png" ContentType="image/png"/>
  <Override PartName="/ppt/media/image21.gif" ContentType="image/gif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237-34B3-409B-BB1B-B3252C1A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895-BED8-437A-AD52-1FE29A97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BD4-F0A3-45CD-B424-C2A4318E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EBF-005F-4A21-927F-C22EFDB5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B10-D2DD-45B2-9EAB-51ED5C61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603-DFCA-4476-A4A8-B0254037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9112-C7E6-41CD-AF40-A404F486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A44-1998-4B37-9DD0-D41394FA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3C4-E6D1-4E7D-BF86-65069848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9EF-D169-450D-976E-8148451B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E18-95D3-412A-8AB3-D83EA96F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DB7-FA2A-4DBF-9904-46E06514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27E2-8E1F-42DD-AD0B-03F3BD8A70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billits%20wav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.pn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2205000"/>
            <a:ext cx="5472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8000" spc="-1" strike="noStrike">
                <a:solidFill>
                  <a:srgbClr val="996600"/>
                </a:solidFill>
                <a:latin typeface="Edwardian Script ITC"/>
              </a:rPr>
              <a:t>Het </a:t>
            </a:r>
            <a:r>
              <a:rPr b="1" i="1" lang="nl-BE" sz="9600" spc="-1" strike="noStrike">
                <a:solidFill>
                  <a:srgbClr val="996600"/>
                </a:solidFill>
                <a:latin typeface="Edwardian Script ITC"/>
              </a:rPr>
              <a:t>Naja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552600" cy="72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96360" y="1400040"/>
            <a:ext cx="672840" cy="80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95640" y="5013360"/>
            <a:ext cx="1514520" cy="1355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284720" y="620640"/>
            <a:ext cx="690480" cy="819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5" name="billits%20wa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60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557360"/>
            <a:ext cx="9144000" cy="2667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808080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084640"/>
            <a:ext cx="9144000" cy="28908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0"/>
            <a:ext cx="288720" cy="68580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2920" y="0"/>
            <a:ext cx="288720" cy="68580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404640"/>
            <a:ext cx="1727280" cy="165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1080" y="5040360"/>
            <a:ext cx="1726920" cy="1635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20000" y="404640"/>
            <a:ext cx="1800000" cy="1657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4892760"/>
            <a:ext cx="1873080" cy="1635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974880" y="787320"/>
            <a:ext cx="644400" cy="770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518240" y="5373720"/>
            <a:ext cx="720720" cy="79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826920" y="5313240"/>
            <a:ext cx="654120" cy="852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7518240" y="787320"/>
            <a:ext cx="654120" cy="85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08200" y="1684440"/>
            <a:ext cx="3383280" cy="3400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4d4d4d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7080" y="2062080"/>
            <a:ext cx="33829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Melancholisch staar ik voor mij uit, genieten van de kleurenpra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Een paddestoel die aan de grond ontspruit, bladeren, de grond bedekkend, za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3708360" y="1220760"/>
            <a:ext cx="1727280" cy="841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2708280" y="5857920"/>
            <a:ext cx="799920" cy="10000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404640"/>
            <a:ext cx="9144000" cy="50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950080"/>
            <a:ext cx="9144000" cy="554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89000"/>
            <a:ext cx="914400" cy="6480000"/>
          </a:xfrm>
          <a:prstGeom prst="irregularSeal1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189000"/>
            <a:ext cx="914400" cy="6480000"/>
          </a:xfrm>
          <a:prstGeom prst="irregularSeal1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54040" y="1197000"/>
            <a:ext cx="2613240" cy="2376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2457360"/>
            <a:ext cx="2735280" cy="24116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3429000"/>
            <a:ext cx="2664000" cy="23050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2133720"/>
            <a:ext cx="3600360" cy="3816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71640" y="2924280"/>
            <a:ext cx="3240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Beukennoten overal, knarsend onder schoe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Kastanjes in hun vrije val en kleurrijke pompoe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3492360" y="1790640"/>
            <a:ext cx="1584360" cy="66672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Cloud"/>
          <p:cNvSpPr/>
          <p:nvPr/>
        </p:nvSpPr>
        <p:spPr>
          <a:xfrm>
            <a:off x="5940360" y="4221000"/>
            <a:ext cx="2743200" cy="1838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loud"/>
          <p:cNvSpPr/>
          <p:nvPr/>
        </p:nvSpPr>
        <p:spPr>
          <a:xfrm>
            <a:off x="2981160" y="836640"/>
            <a:ext cx="2743200" cy="183816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loud"/>
          <p:cNvSpPr/>
          <p:nvPr/>
        </p:nvSpPr>
        <p:spPr>
          <a:xfrm>
            <a:off x="5724360" y="1755720"/>
            <a:ext cx="2743200" cy="1838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/>
          <p:cNvSpPr/>
          <p:nvPr/>
        </p:nvSpPr>
        <p:spPr>
          <a:xfrm>
            <a:off x="2771640" y="3035160"/>
            <a:ext cx="2743200" cy="18385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loud"/>
          <p:cNvSpPr/>
          <p:nvPr/>
        </p:nvSpPr>
        <p:spPr>
          <a:xfrm>
            <a:off x="28440" y="277920"/>
            <a:ext cx="2743200" cy="1838160"/>
          </a:xfrm>
          <a:prstGeom prst="pi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1755720"/>
            <a:ext cx="3456000" cy="4121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3492360" y="1827360"/>
            <a:ext cx="1381320" cy="847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771640" y="267480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360" y="267480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267480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Georgia"/>
              </a:rPr>
              <a:t>Nog even genieten van de kleuren, voor die vervagen gaan, nog even mijzelf opbeuren voor alles verdwijnt met de d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760" y="333360"/>
            <a:ext cx="1728720" cy="374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450" y="1309"/>
                  <a:pt x="7299" y="5080"/>
                  <a:pt x="7299" y="10800"/>
                </a:cubicBezTo>
                <a:cubicBezTo>
                  <a:pt x="7299" y="16520"/>
                  <a:pt x="14450" y="202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989600">
            <a:off x="1215720" y="143640"/>
            <a:ext cx="1915920" cy="403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962" y="1134"/>
                  <a:pt x="6323" y="5080"/>
                  <a:pt x="6323" y="10800"/>
                </a:cubicBezTo>
                <a:cubicBezTo>
                  <a:pt x="6323" y="16520"/>
                  <a:pt x="13962" y="204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0639800">
            <a:off x="7286400" y="324720"/>
            <a:ext cx="1769760" cy="360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86" y="1251"/>
                  <a:pt x="6972" y="5080"/>
                  <a:pt x="6972" y="10800"/>
                </a:cubicBezTo>
                <a:cubicBezTo>
                  <a:pt x="6972" y="16520"/>
                  <a:pt x="14286" y="2034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0"/>
            <a:ext cx="1871640" cy="417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73" y="1282"/>
                  <a:pt x="7145" y="5080"/>
                  <a:pt x="7145" y="10800"/>
                </a:cubicBezTo>
                <a:cubicBezTo>
                  <a:pt x="7145" y="16520"/>
                  <a:pt x="14373" y="2031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5600" y="4076640"/>
            <a:ext cx="2156040" cy="2781360"/>
          </a:xfrm>
          <a:prstGeom prst="flowChartExtra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2040" y="1994040"/>
            <a:ext cx="1866960" cy="27860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2040" y="0"/>
            <a:ext cx="1943280" cy="258300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765000"/>
            <a:ext cx="3384720" cy="4540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1036800"/>
            <a:ext cx="31384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De natuur die overgaat in rust,de bomen kaal,de luchten grau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Krachten opdoen,na te zijn uitgeblus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Wachten op het voorjaar , het helder geel en blau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6572160" y="5892840"/>
            <a:ext cx="1428840" cy="752400"/>
          </a:xfrm>
          <a:prstGeom prst="rect">
            <a:avLst/>
          </a:prstGeom>
          <a:ln w="0">
            <a:noFill/>
          </a:ln>
        </p:spPr>
      </p:pic>
    </p:spTree>
  </p:cSld>
  <p:transition spd="slow" advTm="31000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200" y="1989000"/>
            <a:ext cx="86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8000" spc="-1" strike="noStrike">
                <a:solidFill>
                  <a:srgbClr val="996600"/>
                </a:solidFill>
                <a:latin typeface="Edwardian Script ITC"/>
              </a:rPr>
              <a:t>  </a:t>
            </a:r>
            <a:r>
              <a:rPr b="1" i="1" lang="nl-BE" sz="8000" spc="-1" strike="noStrike">
                <a:solidFill>
                  <a:srgbClr val="996600"/>
                </a:solidFill>
                <a:latin typeface="Edwardian Script ITC"/>
              </a:rPr>
              <a:t>Geniet  van deze  herfstdag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812000" y="6019920"/>
            <a:ext cx="971640" cy="453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08360" y="3989520"/>
            <a:ext cx="1514520" cy="1355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6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6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9600"/>
                            </p:stCondLst>
                            <p:childTnLst>
                              <p:par>
                                <p:cTn id="33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7:37:04Z</dcterms:created>
  <dc:creator>JP</dc:creator>
  <dc:description/>
  <dc:language>en-US</dc:language>
  <cp:lastModifiedBy>Smets</cp:lastModifiedBy>
  <dcterms:modified xsi:type="dcterms:W3CDTF">2009-07-29T04:31:34Z</dcterms:modified>
  <cp:revision>13</cp:revision>
  <dc:subject/>
  <dc:title>Het najaar</dc:title>
</cp:coreProperties>
</file>