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4.jpeg" ContentType="image/jpeg"/>
  <Override PartName="/ppt/media/image41.jpeg" ContentType="image/jpeg"/>
  <Override PartName="/ppt/media/Amanzing%20Grace.wav" ContentType="audio/x-wav"/>
  <Override PartName="/ppt/media/image45.jpeg" ContentType="image/jpeg"/>
  <Override PartName="/ppt/media/image25.jpeg" ContentType="image/jpeg"/>
  <Override PartName="/ppt/media/image4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43.jpeg" ContentType="image/jpeg"/>
  <Override PartName="/ppt/media/image29.jpeg" ContentType="image/jpeg"/>
  <Override PartName="/ppt/media/image1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8.jpeg" ContentType="image/jpeg"/>
  <Override PartName="/ppt/media/image39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media/image3.jpeg" ContentType="image/jpeg"/>
  <Override PartName="/ppt/media/image37.jpeg" ContentType="image/jpeg"/>
  <Override PartName="/ppt/media/image28.jpeg" ContentType="image/jpeg"/>
  <Override PartName="/ppt/media/image5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47A9-5317-45AD-9F8D-70F23EC2B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BDA6-A4C4-47C6-A72E-6D11F3678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DCE2-4D55-4268-B78E-02DC9DF31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C428-6696-4CA7-9A45-26A65F6E9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7970-8972-4970-8208-5279E3337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75C9-4FDB-478C-9549-271E5AC36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C4E4-3C93-4B55-A6A0-62C1C2DE4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0F0A-6DE9-4BAF-8373-A9A1952DD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A35B-20C2-4B42-98C5-BAC8CCBE9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7D0B-9A79-4704-8B0F-8446C623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4868-1E31-4342-AEA4-87521D52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33F4-754E-41F4-AC43-AAE1D5238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A3850-1D41-4AD6-8EE6-0B428F5A30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manzing%20Grace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596960"/>
            <a:ext cx="9144000" cy="36622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5938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Monotype Corsiva"/>
              </a:rPr>
              <a:t>Rund um den Bodens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vert"/>
    <p:sndAc>
      <p:stSnd>
        <p:snd r:embed="rId2" name="Amanzing%20Grac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1596960"/>
            <a:ext cx="9144000" cy="3662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56674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800" spc="-1" strike="noStrike">
                <a:solidFill>
                  <a:srgbClr val="ffffff"/>
                </a:solidFill>
                <a:latin typeface="Monotype Corsiva"/>
              </a:rPr>
              <a:t>Autofähre   Eure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1596960"/>
            <a:ext cx="9144000" cy="3662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56674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800" spc="-1" strike="noStrike">
                <a:solidFill>
                  <a:srgbClr val="ffffff"/>
                </a:solidFill>
                <a:latin typeface="Monotype Corsiva"/>
              </a:rPr>
              <a:t>MS  Rhyneg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vert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1596960"/>
            <a:ext cx="9144000" cy="3662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57387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Monotype Corsiva"/>
              </a:rPr>
              <a:t>Saisonbeginn  auf  dem Bodensee  ( Sternenfahrt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vert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1596960"/>
            <a:ext cx="9144000" cy="36622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048200" y="55958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58118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Monotype Corsiva"/>
              </a:rPr>
              <a:t>Friedrichshaf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ver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1596960"/>
            <a:ext cx="9144000" cy="3662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0" y="58118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800" spc="-1" strike="noStrike">
                <a:solidFill>
                  <a:srgbClr val="ffffff"/>
                </a:solidFill>
                <a:latin typeface="Monotype Corsiva"/>
              </a:rPr>
              <a:t>Flussfahrt  Altenrh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vert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1596960"/>
            <a:ext cx="9144000" cy="36622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58118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800" spc="-1" strike="noStrike">
                <a:solidFill>
                  <a:srgbClr val="ffffff"/>
                </a:solidFill>
                <a:latin typeface="Monotype Corsiva"/>
              </a:rPr>
              <a:t>Flussfahrt  auf  der   MS   Rhyneg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vert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1596960"/>
            <a:ext cx="9144000" cy="36622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57387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Monotype Corsiva"/>
              </a:rPr>
              <a:t>Auf  dem  Bodens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vert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1596960"/>
            <a:ext cx="9144000" cy="3662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58118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Monotype Corsiva"/>
              </a:rPr>
              <a:t>Hochzeit  auf dem  Bodens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vert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1596960"/>
            <a:ext cx="9144000" cy="36622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0" y="57387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Monotype Corsiva"/>
              </a:rPr>
              <a:t>Der  Hafen  von  Rorschach  mit  dem  Kornha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vert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1596960"/>
            <a:ext cx="9144000" cy="36622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57387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800" spc="-1" strike="noStrike">
                <a:solidFill>
                  <a:srgbClr val="ffffff"/>
                </a:solidFill>
                <a:latin typeface="Monotype Corsiva"/>
              </a:rPr>
              <a:t>Ohne  Schiffsmanschaft  geht  nic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vert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1596960"/>
            <a:ext cx="9144000" cy="3662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573876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56674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800" spc="-1" strike="noStrike">
                <a:solidFill>
                  <a:srgbClr val="ffffff"/>
                </a:solidFill>
                <a:latin typeface="Monotype Corsiva"/>
              </a:rPr>
              <a:t>MS    Alte R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ver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1596960"/>
            <a:ext cx="9144000" cy="36622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58118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Monotype Corsiva"/>
              </a:rPr>
              <a:t>Einer  von  vielen  Kapitä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vert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1596960"/>
            <a:ext cx="9144000" cy="36622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57387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Monotype Corsiva"/>
              </a:rPr>
              <a:t>Schlemmerbüffet an  B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vert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1596960"/>
            <a:ext cx="9144000" cy="36622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0" y="57387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Monotype Corsiva"/>
              </a:rPr>
              <a:t>Pizza  Schi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vert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1596960"/>
            <a:ext cx="9144000" cy="36622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0" y="57387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Monotype Corsiva"/>
              </a:rPr>
              <a:t>Auf  Bestellung  erhält  man auch solche  Speisen  auf  dem  Schi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vert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1596960"/>
            <a:ext cx="9144000" cy="36622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57387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Monotype Corsiva"/>
              </a:rPr>
              <a:t>Frühstücksfahrt  auf  dem  Schi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vert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1596960"/>
            <a:ext cx="9144000" cy="36622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57387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Monotype Corsiva"/>
              </a:rPr>
              <a:t>Wahrzeichen  von  Rorschach  das  Kornha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vert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1596960"/>
            <a:ext cx="9144000" cy="3662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57387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Monotype Corsiva"/>
              </a:rPr>
              <a:t>Badhütte  von  Rorsch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vert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1596960"/>
            <a:ext cx="9144000" cy="3662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0" y="57387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Monotype Corsiva"/>
              </a:rPr>
              <a:t>Rundreise  mit  der  Bergbahn , Bus  und  dem  Schi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vert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1596960"/>
            <a:ext cx="9144000" cy="36622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57387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Monotype Corsiva"/>
              </a:rPr>
              <a:t>Insel  Main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vert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1596960"/>
            <a:ext cx="9144000" cy="36622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0" y="57387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Monotype Corsiva"/>
              </a:rPr>
              <a:t>Das  Schloss  von  der  Insel  Main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vert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596960"/>
            <a:ext cx="9144000" cy="3662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57387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Monotype Corsiva"/>
              </a:rPr>
              <a:t>MS  Thurg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1596960"/>
            <a:ext cx="9144000" cy="36622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0" y="57387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Monotype Corsiva"/>
              </a:rPr>
              <a:t>Ein  Besuch  im  Affenberg  Sa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vert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1596960"/>
            <a:ext cx="9144000" cy="36640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59547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Monotype Corsiva"/>
              </a:rPr>
              <a:t>Friedrichshaf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vert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1596960"/>
            <a:ext cx="9144000" cy="36622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0" y="56674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Monotype Corsiva"/>
              </a:rPr>
              <a:t>Zeppelinmuse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vert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1596960"/>
            <a:ext cx="9144000" cy="36622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0" y="58118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Monotype Corsiva"/>
              </a:rPr>
              <a:t>Langenar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vert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1596960"/>
            <a:ext cx="9144000" cy="36622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0" y="58118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800" spc="-1" strike="noStrike">
                <a:solidFill>
                  <a:srgbClr val="ffffff"/>
                </a:solidFill>
                <a:latin typeface="Monotype Corsiva"/>
              </a:rPr>
              <a:t>Langenargen  mit dem  Schloss  Montf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vert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1596960"/>
            <a:ext cx="9144000" cy="36622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0" y="58118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Monotype Corsiva"/>
              </a:rPr>
              <a:t>Meersbu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vert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1598760"/>
            <a:ext cx="9144000" cy="36604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0" y="57387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800" spc="-1" strike="noStrike">
                <a:solidFill>
                  <a:srgbClr val="ffffff"/>
                </a:solidFill>
                <a:latin typeface="Monotype Corsiva"/>
              </a:rPr>
              <a:t>Freizeitpark  Mini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vert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1596960"/>
            <a:ext cx="9144000" cy="36622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57387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800" spc="-1" strike="noStrike">
                <a:solidFill>
                  <a:srgbClr val="ffffff"/>
                </a:solidFill>
                <a:latin typeface="Monotype Corsiva"/>
              </a:rPr>
              <a:t>Pfahlbauer  Unteruld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vert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1596960"/>
            <a:ext cx="9144000" cy="36622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0" y="57387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800" spc="-1" strike="noStrike">
                <a:solidFill>
                  <a:srgbClr val="ffffff"/>
                </a:solidFill>
                <a:latin typeface="Monotype Corsiva"/>
              </a:rPr>
              <a:t>Sea  Life  Kreuzl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vert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96960"/>
            <a:ext cx="9144000" cy="36622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0" y="57387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Monotype Corsiva"/>
              </a:rPr>
              <a:t>Vor  vielen  Jahren  in  Romansho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vert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1596960"/>
            <a:ext cx="9144000" cy="3662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56674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800" spc="-1" strike="noStrike">
                <a:solidFill>
                  <a:srgbClr val="ffffff"/>
                </a:solidFill>
                <a:latin typeface="Monotype Corsiva"/>
              </a:rPr>
              <a:t>MS  St.Ga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1596960"/>
            <a:ext cx="9144000" cy="36622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0" y="57387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Monotype Corsiva"/>
              </a:rPr>
              <a:t>So  sah  mal  der  Hafen  von  Romanshorn  a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vert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1596960"/>
            <a:ext cx="9144000" cy="3662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57387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Monotype Corsiva"/>
              </a:rPr>
              <a:t>1. August  Nationalfeiertag  in der  Schwe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vert"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1596960"/>
            <a:ext cx="9144000" cy="36622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0" y="57387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Monotype Corsiva"/>
              </a:rPr>
              <a:t>Bregenzer  Festspie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vert"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1596960"/>
            <a:ext cx="9144000" cy="36622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57340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800" spc="-1" strike="noStrike">
                <a:solidFill>
                  <a:srgbClr val="ffffff"/>
                </a:solidFill>
                <a:latin typeface="Monotype Corsiva"/>
              </a:rPr>
              <a:t>Feuerwerk  an  den  Bregenzer Festspi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vert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1596960"/>
            <a:ext cx="9144000" cy="36622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0" y="57387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Monotype Corsiva"/>
              </a:rPr>
              <a:t>Auf  dem  Pfänder  mit  Blick  über  den  Bodens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vert"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1596960"/>
            <a:ext cx="9144000" cy="36622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0" y="57387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Monotype Corsiva"/>
              </a:rPr>
              <a:t>Seenachsfest  Kreuzlingen - Konstan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vert"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596960"/>
            <a:ext cx="9144000" cy="36622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0" y="57387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Monotype Corsiva"/>
              </a:rPr>
              <a:t>Der  Hafen  von  Lind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vert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1596960"/>
            <a:ext cx="9144000" cy="36622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0" y="57387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Monotype Corsiva"/>
              </a:rPr>
              <a:t>Lind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vert"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1596960"/>
            <a:ext cx="9144000" cy="36622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0" y="58118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800" spc="-1" strike="noStrike">
                <a:solidFill>
                  <a:srgbClr val="ffffff"/>
                </a:solidFill>
                <a:latin typeface="Monotype Corsiva"/>
              </a:rPr>
              <a:t>Lindau  by  N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vert"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1596960"/>
            <a:ext cx="9144000" cy="36622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0" y="57387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Monotype Corsiva"/>
              </a:rPr>
              <a:t>Ravensburger   Spie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vert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1596960"/>
            <a:ext cx="9144000" cy="3662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57387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Monotype Corsiva"/>
              </a:rPr>
              <a:t>Autofähre  verkehrt zwischen Deutschland und der Schwe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ver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36626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58118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Monotype Corsiva"/>
              </a:rPr>
              <a:t>Sonnenuntergang  am  Bodens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30320" y="6099120"/>
            <a:ext cx="194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Monotype Corsiva"/>
              </a:rPr>
              <a:t>15.03.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90920" y="6243480"/>
            <a:ext cx="308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800" spc="-1" strike="noStrike">
                <a:solidFill>
                  <a:srgbClr val="ffffff"/>
                </a:solidFill>
                <a:latin typeface="Monotype Corsiva"/>
              </a:rPr>
              <a:t>romy@kabeltv.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556000" y="333360"/>
            <a:ext cx="1433520" cy="10746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6443640" y="333360"/>
            <a:ext cx="104760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9999ff"/>
                    </a:gs>
                  </a:gsLst>
                  <a:lin ang="8100000"/>
                </a:gradFill>
                <a:latin typeface="Impact"/>
              </a:rPr>
              <a:t>Rom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9999ff"/>
                  </a:gs>
                </a:gsLst>
                <a:lin ang="8100000"/>
              </a:gradFill>
              <a:latin typeface="Impact"/>
              <a:ea typeface="Impact"/>
            </a:endParaRPr>
          </a:p>
        </p:txBody>
      </p:sp>
    </p:spTree>
  </p:cSld>
  <p:transition spd="med" advTm="10000">
    <p:randomBar dir="vert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1596960"/>
            <a:ext cx="9144000" cy="3662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55958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Monotype Corsiva"/>
              </a:rPr>
              <a:t>MS   Sän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1596960"/>
            <a:ext cx="9144000" cy="3662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57387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800" spc="-1" strike="noStrike">
                <a:solidFill>
                  <a:srgbClr val="ffffff"/>
                </a:solidFill>
                <a:latin typeface="Monotype Corsiva"/>
              </a:rPr>
              <a:t>MS   Rhyspit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1596960"/>
            <a:ext cx="9144000" cy="3662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56674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Monotype Corsiva"/>
              </a:rPr>
              <a:t>MS   Zür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596960"/>
            <a:ext cx="9144000" cy="36622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56674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800" spc="-1" strike="noStrike">
                <a:solidFill>
                  <a:srgbClr val="ffffff"/>
                </a:solidFill>
                <a:latin typeface="Monotype Corsiva"/>
              </a:rPr>
              <a:t>MS  Rhyneg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4T23:54:39Z</dcterms:created>
  <dc:creator>romy</dc:creator>
  <dc:description/>
  <dc:language>en-US</dc:language>
  <cp:lastModifiedBy>romy</cp:lastModifiedBy>
  <dcterms:modified xsi:type="dcterms:W3CDTF">2010-03-15T08:08:23Z</dcterms:modified>
  <cp:revision>4</cp:revision>
  <dc:subject/>
  <dc:title>Foli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a2b000000000001024120</vt:lpwstr>
  </property>
</Properties>
</file>