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Amanzing%20Grace.wav" ContentType="audio/x-wav"/>
  <Override PartName="/ppt/media/image45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.jpeg" ContentType="image/jpeg"/>
  <Override PartName="/ppt/media/image3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82D-992A-44EE-AC49-EFAE11AD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386-FAF9-45A2-A4C2-34F248D4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959-541A-4E4B-B695-8CD234E0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FC7-E565-4769-AFEC-0DF4BEB4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F68-09C6-40DF-805D-768A52F2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EAC-D9C9-4D76-B43E-E824F948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313-0154-401C-A5DB-9E6AEC0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498-69D9-4C1A-AEC1-45E51558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038-DC94-4FB1-A38C-2AFC5F05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AD1-3F62-4B11-81B6-9538926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949-1FE9-4111-BF74-17346829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14B-E803-4593-AD19-8AEAD36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3B8-2379-4D7B-999E-96CE7AB8A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nzing%20Gra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38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und um den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  <p:sndAc>
      <p:stSnd>
        <p:snd r:embed="rId2" name="Amanzing%20Gr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Autofähre   Eur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aisonbeginn  auf  dem Bodensee  ( Sternenfahrt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8200" y="5595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iedrichsha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lussfahrt  Altenrh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lussfahrt  auf  der   MS 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de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ochzeit  auf de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er  Hafen  von  Rorschach  mit  dem  Kor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Ohne  Schiffsmanschaft  geht  ni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387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  Alte R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Einer  von  vielen  Kapit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chlemmerbüffet an  B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Pizza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73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Bestellung  erhält  man auch solche  Speisen  auf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ühstücksfahrt  auf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Wahrzeichen  von  Rorschach  das  Kor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adhütte  von  Rorsch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undreise  mit  der  Bergbahn , Bus  und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Insel  Mai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as  Schloss  von  der  Insel  Mai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Thurg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Ein  Besuch  im  Affenberg  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954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iedrichsha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Zeppelin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Langena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Langenargen  mit dem  Schloss  Mont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e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6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reizeitpark  Mini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Pfahlbauer  Unterul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Sea  Life  Kreuz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Vor  vielen  Jahren  in  Romans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St.G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o  sah  mal  der  Hafen  von  Romanshorn 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1. August  Nationalfeiertag  in der  Schw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regenzer  Fest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euerwerk  an  den  Bregenzer Fest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dem  Pfänder  mit  Blick  über  den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eenachsfest  Kreuzlingen - Konst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er  Hafen  von  Lin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Lin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Lindau  by 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avensburger  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73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tofähre  verkehrt zwischen Deutschland und der Schw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6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onnenuntergang  a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" y="60991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15.03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90920" y="624348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romy@kabeltv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443640" y="333360"/>
            <a:ext cx="1047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9999ff"/>
                    </a:gs>
                  </a:gsLst>
                  <a:lin ang="8100000"/>
                </a:gradFill>
                <a:latin typeface="Impact"/>
              </a:rPr>
              <a:t>Ro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9999ff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</p:spTree>
  </p:cSld>
  <p:transition spd="med" advTm="10000">
    <p:randomBar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59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 Sän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 Rhysp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 Zü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23:54:39Z</dcterms:created>
  <dc:creator>romy</dc:creator>
  <dc:description/>
  <dc:language>en-US</dc:language>
  <cp:lastModifiedBy>romy</cp:lastModifiedBy>
  <dcterms:modified xsi:type="dcterms:W3CDTF">2010-03-15T08:08:23Z</dcterms:modified>
  <cp:revision>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b000000000001024120</vt:lpwstr>
  </property>
</Properties>
</file>